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4564063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308-99B8-4E86-A530-F4D6F1D6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845-6E65-475C-8AFB-8713E2ED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DDE-DF8D-4F1C-97FC-416DC9AF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5C1-7183-4A92-B8D9-A5A80178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ACC-1AD7-413F-BB37-46B81679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1D2-1B12-4596-8375-45DE0838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AD4-9820-4D49-B41B-984BEB2D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EA3-9376-4C8F-AA3A-95445CAD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094-584C-4515-9791-C649317C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154-5D94-44BA-9D59-F3018EA2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6E4-A921-4ADE-A6FC-C3061674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A23-28B5-4E2C-8B0F-01B9D56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F09B-9D95-44D5-966F-08212FC0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6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22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311560"/>
            <a:ext cx="8280360" cy="2307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2716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6160" y="4657680"/>
            <a:ext cx="878508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Расчёт деформируемых сист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методом перемещ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873760"/>
            <a:ext cx="719280" cy="719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72120" y="58323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82800" y="1781280"/>
            <a:ext cx="21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911160" y="1638360"/>
            <a:ext cx="7164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152880" y="1638360"/>
            <a:ext cx="7128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82800" y="1638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52880" y="1638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898720" y="16905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20880" y="172404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982800" y="19987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43160" y="19987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982800" y="2359080"/>
            <a:ext cx="21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950760" y="231732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108240" y="232524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62080" y="1413000"/>
            <a:ext cx="99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EA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630440" y="1425600"/>
            <a:ext cx="228600" cy="43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01840" y="1131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982800" y="1778040"/>
            <a:ext cx="2165040" cy="95040"/>
          </a:xfrm>
          <a:custGeom>
            <a:avLst/>
            <a:gdLst/>
            <a:ahLst/>
            <a:rect l="l" t="t" r="r" b="b"/>
            <a:pathLst>
              <a:path w="1364" h="60">
                <a:moveTo>
                  <a:pt x="0" y="0"/>
                </a:moveTo>
                <a:cubicBezTo>
                  <a:pt x="17" y="1"/>
                  <a:pt x="62" y="1"/>
                  <a:pt x="104" y="5"/>
                </a:cubicBezTo>
                <a:cubicBezTo>
                  <a:pt x="146" y="9"/>
                  <a:pt x="195" y="17"/>
                  <a:pt x="252" y="25"/>
                </a:cubicBezTo>
                <a:cubicBezTo>
                  <a:pt x="309" y="33"/>
                  <a:pt x="383" y="46"/>
                  <a:pt x="444" y="52"/>
                </a:cubicBezTo>
                <a:cubicBezTo>
                  <a:pt x="505" y="58"/>
                  <a:pt x="561" y="60"/>
                  <a:pt x="616" y="60"/>
                </a:cubicBezTo>
                <a:cubicBezTo>
                  <a:pt x="671" y="60"/>
                  <a:pt x="721" y="56"/>
                  <a:pt x="776" y="52"/>
                </a:cubicBezTo>
                <a:cubicBezTo>
                  <a:pt x="831" y="48"/>
                  <a:pt x="889" y="40"/>
                  <a:pt x="948" y="34"/>
                </a:cubicBezTo>
                <a:cubicBezTo>
                  <a:pt x="1007" y="28"/>
                  <a:pt x="1078" y="19"/>
                  <a:pt x="1132" y="14"/>
                </a:cubicBezTo>
                <a:cubicBezTo>
                  <a:pt x="1186" y="9"/>
                  <a:pt x="1233" y="5"/>
                  <a:pt x="1272" y="2"/>
                </a:cubicBezTo>
                <a:cubicBezTo>
                  <a:pt x="1311" y="0"/>
                  <a:pt x="1345" y="1"/>
                  <a:pt x="136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981000" y="2165400"/>
            <a:ext cx="2160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949320" y="2123640"/>
            <a:ext cx="712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106800" y="2131560"/>
            <a:ext cx="712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19160" y="2185920"/>
            <a:ext cx="312840" cy="361440"/>
          </a:xfrm>
          <a:prstGeom prst="rect">
            <a:avLst/>
          </a:prstGeom>
          <a:solidFill>
            <a:srgbClr val="f7f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859040" y="1876320"/>
            <a:ext cx="0" cy="35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822320" y="213336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187280" y="1987560"/>
            <a:ext cx="432000" cy="370800"/>
          </a:xfrm>
          <a:prstGeom prst="rect">
            <a:avLst/>
          </a:prstGeom>
          <a:solidFill>
            <a:srgbClr val="f7f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859040" y="1417680"/>
            <a:ext cx="12600" cy="4381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617840" y="1878120"/>
            <a:ext cx="252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630440" y="1419120"/>
            <a:ext cx="216000" cy="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617840" y="1413000"/>
            <a:ext cx="0" cy="43164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703520" y="112536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508040" y="182556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82800" y="2494080"/>
            <a:ext cx="2160360" cy="503280"/>
          </a:xfrm>
          <a:custGeom>
            <a:avLst/>
            <a:gdLst/>
            <a:ahLst/>
            <a:rect l="l" t="t" r="r" b="b"/>
            <a:pathLst>
              <a:path w="1361" h="317">
                <a:moveTo>
                  <a:pt x="0" y="181"/>
                </a:moveTo>
                <a:lnTo>
                  <a:pt x="1361" y="181"/>
                </a:lnTo>
                <a:lnTo>
                  <a:pt x="1361" y="90"/>
                </a:lnTo>
                <a:lnTo>
                  <a:pt x="544" y="317"/>
                </a:lnTo>
                <a:lnTo>
                  <a:pt x="0" y="0"/>
                </a:lnTo>
                <a:lnTo>
                  <a:pt x="0" y="18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46440" y="278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976320" y="3295800"/>
            <a:ext cx="2166840" cy="349200"/>
          </a:xfrm>
          <a:custGeom>
            <a:avLst/>
            <a:gdLst/>
            <a:ahLst/>
            <a:rect l="l" t="t" r="r" b="b"/>
            <a:pathLst>
              <a:path w="1365" h="220">
                <a:moveTo>
                  <a:pt x="4" y="129"/>
                </a:moveTo>
                <a:lnTo>
                  <a:pt x="1365" y="129"/>
                </a:lnTo>
                <a:lnTo>
                  <a:pt x="1365" y="220"/>
                </a:lnTo>
                <a:lnTo>
                  <a:pt x="548" y="220"/>
                </a:lnTo>
                <a:lnTo>
                  <a:pt x="544" y="0"/>
                </a:lnTo>
                <a:lnTo>
                  <a:pt x="0" y="0"/>
                </a:lnTo>
                <a:lnTo>
                  <a:pt x="4" y="12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982800" y="3897360"/>
            <a:ext cx="2160360" cy="323640"/>
          </a:xfrm>
          <a:custGeom>
            <a:avLst/>
            <a:gdLst/>
            <a:ahLst/>
            <a:rect l="l" t="t" r="r" b="b"/>
            <a:pathLst>
              <a:path w="1361" h="204">
                <a:moveTo>
                  <a:pt x="0" y="113"/>
                </a:moveTo>
                <a:lnTo>
                  <a:pt x="1361" y="113"/>
                </a:lnTo>
                <a:lnTo>
                  <a:pt x="1361" y="204"/>
                </a:lnTo>
                <a:lnTo>
                  <a:pt x="544" y="204"/>
                </a:lnTo>
                <a:lnTo>
                  <a:pt x="540" y="0"/>
                </a:lnTo>
                <a:lnTo>
                  <a:pt x="0" y="0"/>
                </a:lnTo>
                <a:lnTo>
                  <a:pt x="0" y="11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332000" y="3322800"/>
            <a:ext cx="142920" cy="14436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332000" y="3911760"/>
            <a:ext cx="142920" cy="14436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08400" y="3500280"/>
            <a:ext cx="142560" cy="14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411280" y="4076640"/>
            <a:ext cx="14292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430360" y="357336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430360" y="41497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6880" y="278136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03640" y="335772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203640" y="3933720"/>
            <a:ext cx="503280" cy="43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78080" y="278748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192480" y="336240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197160" y="394488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266920" y="1989000"/>
            <a:ext cx="504720" cy="370800"/>
          </a:xfrm>
          <a:prstGeom prst="rect">
            <a:avLst/>
          </a:prstGeom>
          <a:solidFill>
            <a:srgbClr val="f7f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9280" y="1881360"/>
            <a:ext cx="863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944720" y="2908440"/>
                <a:ext cx="7891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2ξ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7" name=""/>
          <p:cNvSpPr/>
          <p:nvPr/>
        </p:nvSpPr>
        <p:spPr>
          <a:xfrm>
            <a:off x="1847880" y="2997360"/>
            <a:ext cx="108000" cy="5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97000" y="2376360"/>
                <a:ext cx="695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119400" y="2394000"/>
                <a:ext cx="695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2340000" y="4176720"/>
                <a:ext cx="411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120680" y="3611520"/>
                <a:ext cx="411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824040" y="2987640"/>
                <a:ext cx="1058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04840" y="3625920"/>
                <a:ext cx="10749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4" name=""/>
          <p:cNvSpPr/>
          <p:nvPr/>
        </p:nvSpPr>
        <p:spPr>
          <a:xfrm>
            <a:off x="887400" y="4678200"/>
            <a:ext cx="2316240" cy="3621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71640" y="487692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900000" y="4734000"/>
            <a:ext cx="71640" cy="287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141720" y="4734000"/>
            <a:ext cx="71280" cy="287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71640" y="4734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41720" y="4734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881440" y="478620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909720" y="48196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71640" y="4848120"/>
            <a:ext cx="0" cy="43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141720" y="4848120"/>
            <a:ext cx="0" cy="43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71640" y="5208480"/>
            <a:ext cx="21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939960" y="5167440"/>
            <a:ext cx="71280" cy="72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3097080" y="517500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5035680"/>
            <a:ext cx="312840" cy="361440"/>
          </a:xfrm>
          <a:prstGeom prst="rect">
            <a:avLst/>
          </a:prstGeom>
          <a:solidFill>
            <a:srgbClr val="d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050920" y="4527720"/>
            <a:ext cx="99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EA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077840" y="4508640"/>
            <a:ext cx="1008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71640" y="5594400"/>
            <a:ext cx="2160360" cy="217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6026040"/>
            <a:ext cx="2160360" cy="179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979640" y="6040440"/>
            <a:ext cx="14292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998720" y="61135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68320" y="5818320"/>
            <a:ext cx="23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97160" y="5924520"/>
            <a:ext cx="503280" cy="43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191040" y="5935680"/>
            <a:ext cx="59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97160" y="548496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191040" y="5495760"/>
            <a:ext cx="59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11040" y="6035760"/>
                <a:ext cx="1060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31920" y="5170320"/>
                <a:ext cx="10969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4178160" y="394020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106880" y="3797280"/>
            <a:ext cx="71280" cy="287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624640" y="3797280"/>
            <a:ext cx="71280" cy="287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178160" y="37972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624640" y="37972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57880" y="357192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154400" y="359568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178160" y="3894120"/>
            <a:ext cx="0" cy="32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624640" y="3921120"/>
            <a:ext cx="0" cy="32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178160" y="416412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4146480" y="412236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589720" y="4130280"/>
            <a:ext cx="712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759200" y="3990960"/>
            <a:ext cx="312840" cy="36144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437000" y="3597120"/>
            <a:ext cx="99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EA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044720" y="83664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меры стандартных (табличных) данных метода перемещ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rot="1200000">
            <a:off x="4105080" y="3781080"/>
            <a:ext cx="71280" cy="287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127760" y="3802680"/>
            <a:ext cx="97920" cy="27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176720" y="3932280"/>
            <a:ext cx="1441440" cy="96840"/>
          </a:xfrm>
          <a:custGeom>
            <a:avLst/>
            <a:gdLst/>
            <a:ahLst/>
            <a:rect l="l" t="t" r="r" b="b"/>
            <a:pathLst>
              <a:path w="908" h="61">
                <a:moveTo>
                  <a:pt x="0" y="0"/>
                </a:moveTo>
                <a:cubicBezTo>
                  <a:pt x="10" y="3"/>
                  <a:pt x="31" y="12"/>
                  <a:pt x="60" y="20"/>
                </a:cubicBezTo>
                <a:cubicBezTo>
                  <a:pt x="89" y="28"/>
                  <a:pt x="133" y="41"/>
                  <a:pt x="172" y="48"/>
                </a:cubicBezTo>
                <a:cubicBezTo>
                  <a:pt x="211" y="55"/>
                  <a:pt x="249" y="59"/>
                  <a:pt x="296" y="60"/>
                </a:cubicBezTo>
                <a:cubicBezTo>
                  <a:pt x="343" y="61"/>
                  <a:pt x="385" y="59"/>
                  <a:pt x="452" y="52"/>
                </a:cubicBezTo>
                <a:cubicBezTo>
                  <a:pt x="519" y="45"/>
                  <a:pt x="632" y="25"/>
                  <a:pt x="698" y="17"/>
                </a:cubicBezTo>
                <a:cubicBezTo>
                  <a:pt x="764" y="9"/>
                  <a:pt x="813" y="6"/>
                  <a:pt x="848" y="4"/>
                </a:cubicBezTo>
                <a:cubicBezTo>
                  <a:pt x="883" y="2"/>
                  <a:pt x="896" y="4"/>
                  <a:pt x="908" y="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78160" y="3989520"/>
            <a:ext cx="0" cy="32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032000" y="3943440"/>
            <a:ext cx="144360" cy="34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037040" y="4259160"/>
            <a:ext cx="144360" cy="2880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0"/>
                </a:moveTo>
                <a:cubicBezTo>
                  <a:pt x="7" y="3"/>
                  <a:pt x="31" y="12"/>
                  <a:pt x="48" y="16"/>
                </a:cubicBezTo>
                <a:cubicBezTo>
                  <a:pt x="65" y="20"/>
                  <a:pt x="92" y="22"/>
                  <a:pt x="104" y="2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968640" y="423396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838840" y="3762360"/>
            <a:ext cx="1442880" cy="504720"/>
          </a:xfrm>
          <a:custGeom>
            <a:avLst/>
            <a:gdLst/>
            <a:ahLst/>
            <a:rect l="l" t="t" r="r" b="b"/>
            <a:pathLst>
              <a:path w="953" h="409">
                <a:moveTo>
                  <a:pt x="0" y="136"/>
                </a:moveTo>
                <a:lnTo>
                  <a:pt x="953" y="136"/>
                </a:lnTo>
                <a:lnTo>
                  <a:pt x="953" y="0"/>
                </a:lnTo>
                <a:lnTo>
                  <a:pt x="0" y="409"/>
                </a:lnTo>
                <a:lnTo>
                  <a:pt x="0" y="136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5654520" y="4241880"/>
                <a:ext cx="72072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/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7297560" y="3548160"/>
                <a:ext cx="72108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/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4178160" y="519732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106880" y="4903920"/>
            <a:ext cx="71280" cy="2872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624640" y="5054760"/>
            <a:ext cx="71280" cy="287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178160" y="49039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624640" y="50547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357880" y="484200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138560" y="469908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75280" y="5045040"/>
            <a:ext cx="1442880" cy="154080"/>
          </a:xfrm>
          <a:custGeom>
            <a:avLst/>
            <a:gdLst/>
            <a:ahLst/>
            <a:rect l="l" t="t" r="r" b="b"/>
            <a:pathLst>
              <a:path w="909" h="97">
                <a:moveTo>
                  <a:pt x="0" y="0"/>
                </a:moveTo>
                <a:cubicBezTo>
                  <a:pt x="9" y="1"/>
                  <a:pt x="25" y="1"/>
                  <a:pt x="56" y="4"/>
                </a:cubicBezTo>
                <a:cubicBezTo>
                  <a:pt x="87" y="7"/>
                  <a:pt x="139" y="11"/>
                  <a:pt x="188" y="16"/>
                </a:cubicBezTo>
                <a:cubicBezTo>
                  <a:pt x="237" y="21"/>
                  <a:pt x="295" y="29"/>
                  <a:pt x="348" y="36"/>
                </a:cubicBezTo>
                <a:cubicBezTo>
                  <a:pt x="401" y="43"/>
                  <a:pt x="449" y="52"/>
                  <a:pt x="508" y="60"/>
                </a:cubicBezTo>
                <a:cubicBezTo>
                  <a:pt x="567" y="68"/>
                  <a:pt x="643" y="78"/>
                  <a:pt x="700" y="84"/>
                </a:cubicBezTo>
                <a:cubicBezTo>
                  <a:pt x="757" y="90"/>
                  <a:pt x="814" y="93"/>
                  <a:pt x="849" y="95"/>
                </a:cubicBezTo>
                <a:cubicBezTo>
                  <a:pt x="884" y="97"/>
                  <a:pt x="897" y="95"/>
                  <a:pt x="909" y="9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341520" y="49546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838840" y="4930920"/>
            <a:ext cx="1442880" cy="539640"/>
          </a:xfrm>
          <a:custGeom>
            <a:avLst/>
            <a:gdLst/>
            <a:ahLst/>
            <a:rect l="l" t="t" r="r" b="b"/>
            <a:pathLst>
              <a:path w="909" h="340">
                <a:moveTo>
                  <a:pt x="0" y="170"/>
                </a:moveTo>
                <a:lnTo>
                  <a:pt x="909" y="170"/>
                </a:lnTo>
                <a:lnTo>
                  <a:pt x="908" y="340"/>
                </a:lnTo>
                <a:lnTo>
                  <a:pt x="0" y="0"/>
                </a:lnTo>
                <a:lnTo>
                  <a:pt x="0" y="17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6678720" y="5425920"/>
                <a:ext cx="71892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7" name=""/>
          <p:cNvSpPr/>
          <p:nvPr/>
        </p:nvSpPr>
        <p:spPr>
          <a:xfrm>
            <a:off x="3986280" y="504828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994200" y="51973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019400" y="504792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5678640" y="4660920"/>
                <a:ext cx="72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3963960" y="1200240"/>
                <a:ext cx="478476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3906720" y="2927520"/>
                <a:ext cx="4716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3" name=""/>
          <p:cNvSpPr/>
          <p:nvPr/>
        </p:nvSpPr>
        <p:spPr>
          <a:xfrm>
            <a:off x="6678720" y="2541600"/>
            <a:ext cx="936360" cy="370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,j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i,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970440" y="606744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98800" y="5923080"/>
            <a:ext cx="71640" cy="287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618160" y="5923080"/>
            <a:ext cx="71280" cy="287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70440" y="59230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624640" y="59245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362560" y="56973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911760" y="571176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186080" y="6197760"/>
            <a:ext cx="0" cy="142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970440" y="619272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970440" y="628344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78480" y="5703840"/>
            <a:ext cx="50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86080" y="59245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02040" y="62182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842080" y="5870520"/>
            <a:ext cx="1441440" cy="2160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78560" y="5889600"/>
            <a:ext cx="179280" cy="17928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837400" y="5556240"/>
                <a:ext cx="6318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7456320" y="3860640"/>
                <a:ext cx="12430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6900840" y="4094280"/>
                <a:ext cx="19270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7473960" y="4343400"/>
                <a:ext cx="1262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7458120" y="4594320"/>
                <a:ext cx="1260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913440" y="4830840"/>
                <a:ext cx="19256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7466040" y="5118120"/>
                <a:ext cx="11509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7488360" y="5607000"/>
                <a:ext cx="12776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6367320" y="6089760"/>
                <a:ext cx="2359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6908760" y="6310440"/>
                <a:ext cx="17445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684360" y="4756320"/>
            <a:ext cx="142560" cy="21744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7360" y="4870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5564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47563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9640" y="497196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93640" y="4756320"/>
            <a:ext cx="0" cy="217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57280" y="472428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50800" y="493380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9880" y="4633920"/>
            <a:ext cx="360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6200000">
            <a:off x="-492480" y="3439080"/>
            <a:ext cx="2050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Решение – мет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чальных парамет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или методом с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914640" y="3133800"/>
                <a:ext cx="4919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,</m:t>
                            </m:r>
                            <m:r>
                              <m:t xml:space="preserve"> </m:t>
                            </m:r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3" dur="indefinite" restart="never" nodeType="tmRoot">
          <p:childTnLst>
            <p:seq>
              <p:cTn id="2024" dur="indefinite" nodeType="mainSeq">
                <p:childTnLst>
                  <p:par>
                    <p:cTn id="2025" fill="hold">
                      <p:stCondLst>
                        <p:cond delay="0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4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9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9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4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8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5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9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6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692360" y="932040"/>
            <a:ext cx="561636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труктура матрицы жёсткости элемент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 растяжении (сжатии) и изгибе в одной плос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1806480" y="1498680"/>
                <a:ext cx="496908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6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1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2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3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4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5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6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1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3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4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5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,</m:t>
                                  </m:r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5" name=""/>
          <p:cNvSpPr/>
          <p:nvPr/>
        </p:nvSpPr>
        <p:spPr>
          <a:xfrm rot="16200000">
            <a:off x="2226240" y="3540960"/>
            <a:ext cx="106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 Narrow"/>
              </a:rPr>
              <a:t>От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r>
              <a:rPr b="1" i="1" lang="ru-RU" sz="18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rot="16200000">
            <a:off x="3901320" y="3540240"/>
            <a:ext cx="10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 Narrow"/>
              </a:rPr>
              <a:t>От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r>
              <a:rPr b="1" i="1" lang="ru-RU" sz="18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16200000">
            <a:off x="2799720" y="3543480"/>
            <a:ext cx="106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r>
              <a:rPr b="1" i="1" lang="ru-RU" sz="18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4478040" y="3530520"/>
            <a:ext cx="104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r>
              <a:rPr b="1" i="1" lang="ru-RU" sz="18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rot="16200000">
            <a:off x="5028120" y="3521880"/>
            <a:ext cx="1065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r>
              <a:rPr b="1" i="1" lang="ru-RU" sz="18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6200000">
            <a:off x="3353040" y="3528360"/>
            <a:ext cx="107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r>
              <a:rPr b="1" i="1" lang="ru-RU" sz="1800" spc="-1" strike="noStrike" baseline="-25000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32720" y="22068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457280" y="4421160"/>
                <a:ext cx="622620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l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l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l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4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I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/l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Sup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EA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H="1">
            <a:off x="5940360" y="170352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5940360" y="198612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5940360" y="227664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5940360" y="256212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940360" y="285120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5940360" y="314496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1" dur="indefinite" restart="never" nodeType="tmRoot">
          <p:childTnLst>
            <p:seq>
              <p:cTn id="2242" dur="indefinite" nodeType="mainSeq">
                <p:childTnLst>
                  <p:par>
                    <p:cTn id="2243" fill="hold">
                      <p:stCondLst>
                        <p:cond delay="0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7" dur="8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8" dur="8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9" dur="8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6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1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3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0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7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50920" y="932040"/>
            <a:ext cx="8642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кторы концевых усилий и перемещений и матрица жёсткости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рямолинейного пространственно деформируемого стержня постоянного с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198440" y="1413000"/>
            <a:ext cx="740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[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187280" y="1838160"/>
            <a:ext cx="705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[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89120" y="2401920"/>
            <a:ext cx="7416720" cy="3427560"/>
          </a:xfrm>
          <a:custGeom>
            <a:avLst/>
            <a:gdLst/>
            <a:ahLst/>
            <a:rect l="l" t="t" r="r" b="b"/>
            <a:pathLst>
              <a:path w="4672" h="2086">
                <a:moveTo>
                  <a:pt x="0" y="2086"/>
                </a:moveTo>
                <a:lnTo>
                  <a:pt x="0" y="0"/>
                </a:lnTo>
                <a:lnTo>
                  <a:pt x="4672" y="2086"/>
                </a:lnTo>
                <a:lnTo>
                  <a:pt x="0" y="208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74720" y="2392200"/>
            <a:ext cx="7397640" cy="3413160"/>
          </a:xfrm>
          <a:custGeom>
            <a:avLst/>
            <a:gdLst/>
            <a:ahLst/>
            <a:rect l="l" t="t" r="r" b="b"/>
            <a:pathLst>
              <a:path w="4672" h="2063">
                <a:moveTo>
                  <a:pt x="0" y="0"/>
                </a:moveTo>
                <a:lnTo>
                  <a:pt x="4672" y="0"/>
                </a:lnTo>
                <a:lnTo>
                  <a:pt x="4672" y="206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52360" y="2330280"/>
                <a:ext cx="8639280" cy="35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I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I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Al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Al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I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GI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Al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Al</m:t>
                                  </m:r>
                                </m:e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y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y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y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,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y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b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j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0" name=""/>
          <p:cNvSpPr/>
          <p:nvPr/>
        </p:nvSpPr>
        <p:spPr>
          <a:xfrm>
            <a:off x="961920" y="5856120"/>
            <a:ext cx="12240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E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,j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E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195640" y="5918040"/>
            <a:ext cx="72720" cy="576360"/>
          </a:xfrm>
          <a:custGeom>
            <a:avLst/>
            <a:gdLst>
              <a:gd name="textAreaLeft" fmla="*/ 0 w 72720"/>
              <a:gd name="textAreaRight" fmla="*/ 262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205000" y="6022800"/>
            <a:ext cx="63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огонные изгибные жёсткости стержня в главных плоскостях инер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fill="hold">
                      <p:stCondLst>
                        <p:cond delay="0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7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8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9" dur="8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6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1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1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6560" y="801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пределение внутренних усилий и перемещений в произвольном сечении эле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155600" y="1843200"/>
            <a:ext cx="234972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096920" y="2262240"/>
            <a:ext cx="2087640" cy="107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71960" y="3333600"/>
            <a:ext cx="93492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1108080" y="1372680"/>
            <a:ext cx="442800" cy="8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087560" y="224964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138480" y="330192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1101600" y="18572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171960" y="3341520"/>
            <a:ext cx="323640" cy="37800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117440" y="1909800"/>
            <a:ext cx="162000" cy="334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 flipV="1">
            <a:off x="971640" y="2195640"/>
            <a:ext cx="11880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977400" y="1843200"/>
            <a:ext cx="17964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62080" y="1836720"/>
            <a:ext cx="12528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171960" y="3328920"/>
            <a:ext cx="42048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3071520" y="333540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071880" y="3486240"/>
            <a:ext cx="420480" cy="22680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3506400" y="3557520"/>
            <a:ext cx="71640" cy="144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47800" y="163980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79760" y="34545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247840" y="2789280"/>
            <a:ext cx="287280" cy="28872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268360" y="27115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2324160" y="230652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268360" y="20113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608200" y="269388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755800" y="2732040"/>
            <a:ext cx="3672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913120" y="2797200"/>
            <a:ext cx="1728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063960" y="29131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3185640" y="307332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612880" y="2701800"/>
            <a:ext cx="598680" cy="37152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751120" y="2430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037040" y="36464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425600" y="10717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97040" y="21114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341360" y="16225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1285920" y="18493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1252080" y="18824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1168200" y="1868040"/>
            <a:ext cx="215640" cy="4510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368360" y="2050920"/>
            <a:ext cx="209520" cy="2224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55840" y="2008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500280" y="3244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838600" y="33480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703680" y="38671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506760" y="3714480"/>
            <a:ext cx="37296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3497040" y="370044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666960" y="3886200"/>
            <a:ext cx="17964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866880" y="1444320"/>
            <a:ext cx="287280" cy="398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1154160" y="1589040"/>
            <a:ext cx="288720" cy="241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3098880" y="3727440"/>
            <a:ext cx="411120" cy="236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497400" y="3720960"/>
            <a:ext cx="244440" cy="460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rot="12262200">
            <a:off x="3300840" y="3558960"/>
            <a:ext cx="360000" cy="37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0250"/>
                </a:moveTo>
                <a:arcTo wR="10800" hR="10800" stAng="-10624828" swAng="10861621"/>
                <a:lnTo>
                  <a:pt x="10800" y="10800"/>
                </a:lnTo>
                <a:close/>
              </a:path>
              <a:path fill="none" w="21600" h="21600">
                <a:moveTo>
                  <a:pt x="14" y="10250"/>
                </a:moveTo>
                <a:arcTo wR="10800" hR="10800" stAng="-10624828" swAng="10861621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19983600">
            <a:off x="893520" y="1567080"/>
            <a:ext cx="396360" cy="4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106640" y="1252440"/>
            <a:ext cx="56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79320" y="116064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68360" y="146844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819520" y="3807000"/>
            <a:ext cx="56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554280" y="410040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240000" y="387180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6814800">
            <a:off x="2824200" y="1641960"/>
            <a:ext cx="214560" cy="1133640"/>
          </a:xfrm>
          <a:custGeom>
            <a:avLst/>
            <a:gdLst>
              <a:gd name="textAreaLeft" fmla="*/ 137160 w 214560"/>
              <a:gd name="textAreaRight" fmla="*/ 214920 w 21456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1412400">
            <a:off x="2377800" y="1607760"/>
            <a:ext cx="14317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912960" y="2655720"/>
            <a:ext cx="1511280" cy="77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896760" y="2473200"/>
            <a:ext cx="10800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406600" y="2865600"/>
            <a:ext cx="300240" cy="607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879480" y="2642760"/>
            <a:ext cx="73080" cy="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2392200" y="3424320"/>
            <a:ext cx="7308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rot="1651800">
            <a:off x="1560600" y="27259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fill="hold">
                      <p:stCondLst>
                        <p:cond delay="0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8" dur="8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9" dur="8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0" dur="8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1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4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3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7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9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4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1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6560" y="801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пределение внутренних усилий и перемещений в произвольном сечении эле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155600" y="1843200"/>
            <a:ext cx="1549440" cy="1033200"/>
          </a:xfrm>
          <a:custGeom>
            <a:avLst/>
            <a:gdLst/>
            <a:ahLst/>
            <a:rect l="l" t="t" r="r" b="b"/>
            <a:pathLst>
              <a:path w="976" h="651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416" y="413"/>
                  <a:pt x="496" y="452"/>
                </a:cubicBezTo>
                <a:cubicBezTo>
                  <a:pt x="576" y="491"/>
                  <a:pt x="676" y="523"/>
                  <a:pt x="742" y="549"/>
                </a:cubicBezTo>
                <a:cubicBezTo>
                  <a:pt x="808" y="575"/>
                  <a:pt x="853" y="592"/>
                  <a:pt x="892" y="609"/>
                </a:cubicBezTo>
                <a:cubicBezTo>
                  <a:pt x="931" y="626"/>
                  <a:pt x="959" y="642"/>
                  <a:pt x="976" y="65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096920" y="2262240"/>
            <a:ext cx="2087640" cy="107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171960" y="3333600"/>
            <a:ext cx="93492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108080" y="1372680"/>
            <a:ext cx="442800" cy="8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087560" y="224964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138480" y="3301920"/>
            <a:ext cx="3636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01600" y="18572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71960" y="3341520"/>
            <a:ext cx="323640" cy="37800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V="1">
            <a:off x="1117440" y="1909800"/>
            <a:ext cx="162000" cy="334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971640" y="2195640"/>
            <a:ext cx="11880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977400" y="1843200"/>
            <a:ext cx="17964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162080" y="1836720"/>
            <a:ext cx="12528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171960" y="3328920"/>
            <a:ext cx="42048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071520" y="333540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071880" y="3486240"/>
            <a:ext cx="420480" cy="22680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3506400" y="3557520"/>
            <a:ext cx="71640" cy="144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847800" y="163980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479760" y="34545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247840" y="2789280"/>
            <a:ext cx="287280" cy="28872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268360" y="27115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324160" y="230652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268360" y="20113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608200" y="269388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755800" y="2732040"/>
            <a:ext cx="3672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913120" y="2797200"/>
            <a:ext cx="1728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063960" y="291312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3185640" y="307332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612880" y="2705040"/>
            <a:ext cx="7956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0"/>
                </a:moveTo>
                <a:cubicBezTo>
                  <a:pt x="8" y="1"/>
                  <a:pt x="42" y="5"/>
                  <a:pt x="50" y="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51120" y="2430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037040" y="36464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425600" y="10717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797040" y="21114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341360" y="16225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1285920" y="18493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 flipV="1">
            <a:off x="1252080" y="18824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1168200" y="1868040"/>
            <a:ext cx="215640" cy="4510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368360" y="2050920"/>
            <a:ext cx="209520" cy="2224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55840" y="2008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500280" y="3244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838600" y="33480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703680" y="38671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 flipV="1">
            <a:off x="3506760" y="3714480"/>
            <a:ext cx="37296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3497040" y="370044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666960" y="3886200"/>
            <a:ext cx="17964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 flipV="1">
            <a:off x="866880" y="1444320"/>
            <a:ext cx="287280" cy="398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154160" y="1589040"/>
            <a:ext cx="288720" cy="241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3098880" y="3727440"/>
            <a:ext cx="411120" cy="236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97400" y="3720960"/>
            <a:ext cx="244440" cy="460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rot="12262200">
            <a:off x="3300840" y="3558960"/>
            <a:ext cx="360000" cy="37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0250"/>
                </a:moveTo>
                <a:arcTo wR="10800" hR="10800" stAng="-10624828" swAng="10861621"/>
                <a:lnTo>
                  <a:pt x="10800" y="10800"/>
                </a:lnTo>
                <a:close/>
              </a:path>
              <a:path fill="none" w="21600" h="21600">
                <a:moveTo>
                  <a:pt x="14" y="10250"/>
                </a:moveTo>
                <a:arcTo wR="10800" hR="10800" stAng="-10624828" swAng="10861621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rot="19983600">
            <a:off x="893520" y="1567080"/>
            <a:ext cx="396360" cy="4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06640" y="1252440"/>
            <a:ext cx="56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79320" y="116064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68360" y="146844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819520" y="3807000"/>
            <a:ext cx="56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54280" y="410040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240000" y="387180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rot="6814800">
            <a:off x="2824200" y="1641960"/>
            <a:ext cx="214560" cy="1133640"/>
          </a:xfrm>
          <a:custGeom>
            <a:avLst/>
            <a:gdLst>
              <a:gd name="textAreaLeft" fmla="*/ 137160 w 214560"/>
              <a:gd name="textAreaRight" fmla="*/ 214920 w 21456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rot="1412400">
            <a:off x="2377800" y="1607760"/>
            <a:ext cx="14317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912960" y="2655720"/>
            <a:ext cx="1511280" cy="77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896760" y="2473200"/>
            <a:ext cx="10800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2406600" y="2865600"/>
            <a:ext cx="300240" cy="607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879480" y="2642760"/>
            <a:ext cx="73080" cy="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2392200" y="3424320"/>
            <a:ext cx="7308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rot="1651800">
            <a:off x="1560600" y="27259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705040" y="2876400"/>
            <a:ext cx="795240" cy="828720"/>
          </a:xfrm>
          <a:custGeom>
            <a:avLst/>
            <a:gdLst/>
            <a:ahLst/>
            <a:rect l="l" t="t" r="r" b="b"/>
            <a:pathLst>
              <a:path w="501" h="522">
                <a:moveTo>
                  <a:pt x="0" y="0"/>
                </a:moveTo>
                <a:cubicBezTo>
                  <a:pt x="21" y="12"/>
                  <a:pt x="84" y="44"/>
                  <a:pt x="126" y="72"/>
                </a:cubicBezTo>
                <a:cubicBezTo>
                  <a:pt x="168" y="100"/>
                  <a:pt x="216" y="139"/>
                  <a:pt x="252" y="171"/>
                </a:cubicBezTo>
                <a:cubicBezTo>
                  <a:pt x="288" y="203"/>
                  <a:pt x="313" y="230"/>
                  <a:pt x="342" y="267"/>
                </a:cubicBezTo>
                <a:cubicBezTo>
                  <a:pt x="371" y="304"/>
                  <a:pt x="403" y="351"/>
                  <a:pt x="429" y="393"/>
                </a:cubicBezTo>
                <a:cubicBezTo>
                  <a:pt x="455" y="435"/>
                  <a:pt x="486" y="495"/>
                  <a:pt x="501" y="52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687760" y="2717640"/>
            <a:ext cx="523800" cy="355680"/>
          </a:xfrm>
          <a:custGeom>
            <a:avLst/>
            <a:gdLst/>
            <a:ahLst/>
            <a:rect l="l" t="t" r="r" b="b"/>
            <a:pathLst>
              <a:path w="330" h="224">
                <a:moveTo>
                  <a:pt x="0" y="0"/>
                </a:moveTo>
                <a:cubicBezTo>
                  <a:pt x="8" y="2"/>
                  <a:pt x="26" y="4"/>
                  <a:pt x="50" y="12"/>
                </a:cubicBezTo>
                <a:cubicBezTo>
                  <a:pt x="74" y="20"/>
                  <a:pt x="111" y="31"/>
                  <a:pt x="142" y="48"/>
                </a:cubicBezTo>
                <a:cubicBezTo>
                  <a:pt x="173" y="65"/>
                  <a:pt x="203" y="87"/>
                  <a:pt x="234" y="116"/>
                </a:cubicBezTo>
                <a:cubicBezTo>
                  <a:pt x="265" y="145"/>
                  <a:pt x="310" y="202"/>
                  <a:pt x="330" y="2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7" dur="indefinite" restart="never" nodeType="tmRoot">
          <p:childTnLst>
            <p:seq>
              <p:cTn id="2598" dur="indefinite" nodeType="mainSeq">
                <p:childTnLst>
                  <p:par>
                    <p:cTn id="2599" fill="hold">
                      <p:stCondLst>
                        <p:cond delay="0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2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7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2" dur="1000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1000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7" dur="100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1000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2" dur="1000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7" dur="1000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1000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2" dur="10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000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4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7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2" dur="10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1000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4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7" dur="10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10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49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2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1000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4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7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2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4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7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9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2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4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7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9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2" dur="100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1000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4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7" dur="10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10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2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4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7" dur="10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2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7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0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2" dur="10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7" dur="10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1000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2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4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66560" y="801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пределение внутренних усилий и перемещений в произвольном сечении эле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155600" y="1843200"/>
            <a:ext cx="1549440" cy="1033200"/>
          </a:xfrm>
          <a:custGeom>
            <a:avLst/>
            <a:gdLst/>
            <a:ahLst/>
            <a:rect l="l" t="t" r="r" b="b"/>
            <a:pathLst>
              <a:path w="976" h="651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416" y="413"/>
                  <a:pt x="496" y="452"/>
                </a:cubicBezTo>
                <a:cubicBezTo>
                  <a:pt x="576" y="491"/>
                  <a:pt x="676" y="523"/>
                  <a:pt x="742" y="549"/>
                </a:cubicBezTo>
                <a:cubicBezTo>
                  <a:pt x="808" y="575"/>
                  <a:pt x="853" y="592"/>
                  <a:pt x="892" y="609"/>
                </a:cubicBezTo>
                <a:cubicBezTo>
                  <a:pt x="931" y="626"/>
                  <a:pt x="959" y="642"/>
                  <a:pt x="976" y="65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096920" y="2262240"/>
            <a:ext cx="1459080" cy="75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108080" y="1372680"/>
            <a:ext cx="442800" cy="8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087560" y="224964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101600" y="18572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1117440" y="1909800"/>
            <a:ext cx="162000" cy="334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971640" y="2195640"/>
            <a:ext cx="11880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977400" y="1843200"/>
            <a:ext cx="17964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162080" y="1836720"/>
            <a:ext cx="12528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47800" y="163980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47840" y="2789280"/>
            <a:ext cx="287280" cy="28872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268360" y="27115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324160" y="230652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68360" y="20113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08200" y="269388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689200" y="2717640"/>
            <a:ext cx="223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612880" y="2705040"/>
            <a:ext cx="7956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0"/>
                </a:moveTo>
                <a:cubicBezTo>
                  <a:pt x="8" y="1"/>
                  <a:pt x="42" y="5"/>
                  <a:pt x="50" y="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55600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25600" y="10717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97040" y="21114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341360" y="16225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1285920" y="18493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 flipV="1">
            <a:off x="1252080" y="18824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168200" y="1868040"/>
            <a:ext cx="215640" cy="4510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368360" y="2050920"/>
            <a:ext cx="209520" cy="2224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55840" y="2008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866880" y="1444320"/>
            <a:ext cx="287280" cy="398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1154160" y="1589040"/>
            <a:ext cx="288720" cy="241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rot="19983600">
            <a:off x="893520" y="1567080"/>
            <a:ext cx="396360" cy="4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106640" y="1252440"/>
            <a:ext cx="56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79320" y="116064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68360" y="146844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912960" y="2655720"/>
            <a:ext cx="1511280" cy="77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896760" y="2473200"/>
            <a:ext cx="10800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2406600" y="2865600"/>
            <a:ext cx="300240" cy="607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879480" y="2642760"/>
            <a:ext cx="73080" cy="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392200" y="3424320"/>
            <a:ext cx="7308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rot="1651800">
            <a:off x="1560600" y="27259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2532240" y="2881440"/>
            <a:ext cx="161640" cy="115920"/>
          </a:xfrm>
          <a:prstGeom prst="line">
            <a:avLst/>
          </a:prstGeom>
          <a:ln w="19080">
            <a:solidFill>
              <a:srgbClr val="009900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521160" y="3108240"/>
            <a:ext cx="699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2707920" y="2895480"/>
            <a:ext cx="865080" cy="432000"/>
          </a:xfrm>
          <a:prstGeom prst="line">
            <a:avLst/>
          </a:prstGeom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25840" y="3208320"/>
            <a:ext cx="54000" cy="98280"/>
          </a:xfrm>
          <a:custGeom>
            <a:avLst/>
            <a:gdLst/>
            <a:ahLst/>
            <a:rect l="l" t="t" r="r" b="b"/>
            <a:pathLst>
              <a:path w="44" h="62">
                <a:moveTo>
                  <a:pt x="44" y="0"/>
                </a:moveTo>
                <a:cubicBezTo>
                  <a:pt x="42" y="4"/>
                  <a:pt x="35" y="17"/>
                  <a:pt x="30" y="25"/>
                </a:cubicBezTo>
                <a:cubicBezTo>
                  <a:pt x="25" y="33"/>
                  <a:pt x="20" y="40"/>
                  <a:pt x="15" y="46"/>
                </a:cubicBezTo>
                <a:cubicBezTo>
                  <a:pt x="10" y="52"/>
                  <a:pt x="3" y="59"/>
                  <a:pt x="0" y="62"/>
                </a:cubicBezTo>
              </a:path>
            </a:pathLst>
          </a:custGeom>
          <a:noFill/>
          <a:ln w="6480">
            <a:solidFill>
              <a:srgbClr val="009900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700360" y="2871720"/>
            <a:ext cx="503280" cy="196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 rot="16994400">
            <a:off x="2569680" y="2690640"/>
            <a:ext cx="36000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0250"/>
                </a:moveTo>
                <a:arcTo wR="10800" hR="10800" stAng="-10624828" swAng="10861621"/>
                <a:lnTo>
                  <a:pt x="10800" y="10800"/>
                </a:lnTo>
                <a:close/>
              </a:path>
              <a:path fill="none" w="21600" h="21600">
                <a:moveTo>
                  <a:pt x="14" y="10250"/>
                </a:moveTo>
                <a:arcTo wR="10800" hR="10800" stAng="-10624828" swAng="10861621"/>
              </a:path>
            </a:pathLst>
          </a:custGeom>
          <a:noFill/>
          <a:ln w="3816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854440" y="251136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556000" y="3021120"/>
            <a:ext cx="15508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037040" y="36464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112920" y="278928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N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468520" y="314172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Q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3179520" y="3058920"/>
            <a:ext cx="431640" cy="161640"/>
          </a:xfrm>
          <a:prstGeom prst="line">
            <a:avLst/>
          </a:prstGeom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2593800" y="2876400"/>
            <a:ext cx="123840" cy="36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3059280" y="3103560"/>
            <a:ext cx="90360" cy="179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392200" y="3244680"/>
            <a:ext cx="108000" cy="5400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2363760" y="3001680"/>
            <a:ext cx="154080" cy="298440"/>
          </a:xfrm>
          <a:prstGeom prst="line">
            <a:avLst/>
          </a:prstGeom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rot="1579200">
            <a:off x="1919160" y="295524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u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rot="1579200">
            <a:off x="3014640" y="313992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Book Antiqua"/>
              </a:rPr>
              <a:t>v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22200" y="31640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силия в сеч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395280" y="3429000"/>
                <a:ext cx="1368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4" name=""/>
          <p:cNvSpPr/>
          <p:nvPr/>
        </p:nvSpPr>
        <p:spPr>
          <a:xfrm>
            <a:off x="1635120" y="3757680"/>
            <a:ext cx="237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из условий равнове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отсечённой части эле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24000" y="4230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еремещения с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399960" y="4495680"/>
                <a:ext cx="13287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7" name=""/>
          <p:cNvSpPr/>
          <p:nvPr/>
        </p:nvSpPr>
        <p:spPr>
          <a:xfrm>
            <a:off x="1665360" y="4824360"/>
            <a:ext cx="1898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методом нач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араметров или др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24000" y="5300640"/>
            <a:ext cx="36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Последовательность процеду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68360" y="5562720"/>
            <a:ext cx="647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039680" y="5661000"/>
            <a:ext cx="142920" cy="50472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249200" y="5805360"/>
            <a:ext cx="379440" cy="216000"/>
          </a:xfrm>
          <a:prstGeom prst="leftArrow">
            <a:avLst>
              <a:gd name="adj1" fmla="val 50000"/>
              <a:gd name="adj2" fmla="val 707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793880" y="5562720"/>
            <a:ext cx="401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04960" y="5670720"/>
            <a:ext cx="130320" cy="504720"/>
          </a:xfrm>
          <a:custGeom>
            <a:avLst/>
            <a:gdLst>
              <a:gd name="textAreaLeft" fmla="*/ 360 w 130320"/>
              <a:gd name="textAreaRight" fmla="*/ 47520 w 1303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287440" y="5622840"/>
            <a:ext cx="360360" cy="32400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814480" y="5622840"/>
            <a:ext cx="360360" cy="32400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328920" y="5616720"/>
            <a:ext cx="287280" cy="32364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035080" y="5554800"/>
            <a:ext cx="205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286000" y="6245280"/>
            <a:ext cx="360360" cy="32364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565360" y="6256440"/>
            <a:ext cx="14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33720" y="5651640"/>
            <a:ext cx="379440" cy="215640"/>
          </a:xfrm>
          <a:prstGeom prst="leftArrow">
            <a:avLst>
              <a:gd name="adj1" fmla="val 50000"/>
              <a:gd name="adj2" fmla="val 70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241880" y="54324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6" dur="indefinite" restart="never" nodeType="tmRoot">
          <p:childTnLst>
            <p:seq>
              <p:cTn id="2727" dur="indefinite" nodeType="mainSeq">
                <p:childTnLst>
                  <p:par>
                    <p:cTn id="2728" fill="hold">
                      <p:stCondLst>
                        <p:cond delay="0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7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1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6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6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4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6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8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3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0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8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0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0" dur="8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1" dur="8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2" dur="80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4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6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66560" y="801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пределение внутренних усилий и перемещений в произвольном сечении эле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155600" y="1843200"/>
            <a:ext cx="1549440" cy="1033200"/>
          </a:xfrm>
          <a:custGeom>
            <a:avLst/>
            <a:gdLst/>
            <a:ahLst/>
            <a:rect l="l" t="t" r="r" b="b"/>
            <a:pathLst>
              <a:path w="976" h="651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416" y="413"/>
                  <a:pt x="496" y="452"/>
                </a:cubicBezTo>
                <a:cubicBezTo>
                  <a:pt x="576" y="491"/>
                  <a:pt x="676" y="523"/>
                  <a:pt x="742" y="549"/>
                </a:cubicBezTo>
                <a:cubicBezTo>
                  <a:pt x="808" y="575"/>
                  <a:pt x="853" y="592"/>
                  <a:pt x="892" y="609"/>
                </a:cubicBezTo>
                <a:cubicBezTo>
                  <a:pt x="931" y="626"/>
                  <a:pt x="959" y="642"/>
                  <a:pt x="976" y="65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096920" y="2262240"/>
            <a:ext cx="1459080" cy="75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108080" y="1372680"/>
            <a:ext cx="442800" cy="8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087560" y="224964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101600" y="185724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117440" y="1909800"/>
            <a:ext cx="162000" cy="334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 flipV="1">
            <a:off x="971640" y="2195640"/>
            <a:ext cx="11880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977400" y="1843200"/>
            <a:ext cx="17964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162080" y="1836720"/>
            <a:ext cx="12528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847800" y="163980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247840" y="2789280"/>
            <a:ext cx="287280" cy="28872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268360" y="27115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2324160" y="230652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268360" y="20113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608200" y="269388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689200" y="2717640"/>
            <a:ext cx="223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612880" y="2705040"/>
            <a:ext cx="79560" cy="9720"/>
          </a:xfrm>
          <a:custGeom>
            <a:avLst/>
            <a:gdLst/>
            <a:ahLst/>
            <a:rect l="l" t="t" r="r" b="b"/>
            <a:pathLst>
              <a:path w="50" h="6">
                <a:moveTo>
                  <a:pt x="0" y="0"/>
                </a:moveTo>
                <a:cubicBezTo>
                  <a:pt x="8" y="1"/>
                  <a:pt x="42" y="5"/>
                  <a:pt x="50" y="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55600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425600" y="10717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97040" y="21114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341360" y="16225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1285920" y="184932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 flipV="1">
            <a:off x="1252080" y="188244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1168200" y="1868040"/>
            <a:ext cx="215640" cy="4510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368360" y="2050920"/>
            <a:ext cx="209520" cy="2224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455840" y="20080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866880" y="1444320"/>
            <a:ext cx="287280" cy="398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1154160" y="1589040"/>
            <a:ext cx="288720" cy="241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rot="19983600">
            <a:off x="893520" y="1567080"/>
            <a:ext cx="396360" cy="4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106640" y="1252440"/>
            <a:ext cx="56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79320" y="116064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68360" y="146844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912960" y="2655720"/>
            <a:ext cx="1511280" cy="77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896760" y="2473200"/>
            <a:ext cx="10800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406600" y="2865600"/>
            <a:ext cx="300240" cy="607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79480" y="2642760"/>
            <a:ext cx="73080" cy="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2392200" y="3424320"/>
            <a:ext cx="7308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1651800">
            <a:off x="1560600" y="27259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2532240" y="2881440"/>
            <a:ext cx="161640" cy="115920"/>
          </a:xfrm>
          <a:prstGeom prst="line">
            <a:avLst/>
          </a:prstGeom>
          <a:ln w="19080">
            <a:solidFill>
              <a:srgbClr val="009900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521160" y="3108240"/>
            <a:ext cx="699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H="1" flipV="1">
            <a:off x="2707920" y="2895480"/>
            <a:ext cx="865080" cy="432000"/>
          </a:xfrm>
          <a:prstGeom prst="line">
            <a:avLst/>
          </a:prstGeom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525840" y="3208320"/>
            <a:ext cx="54000" cy="98280"/>
          </a:xfrm>
          <a:custGeom>
            <a:avLst/>
            <a:gdLst/>
            <a:ahLst/>
            <a:rect l="l" t="t" r="r" b="b"/>
            <a:pathLst>
              <a:path w="44" h="62">
                <a:moveTo>
                  <a:pt x="44" y="0"/>
                </a:moveTo>
                <a:cubicBezTo>
                  <a:pt x="42" y="4"/>
                  <a:pt x="35" y="17"/>
                  <a:pt x="30" y="25"/>
                </a:cubicBezTo>
                <a:cubicBezTo>
                  <a:pt x="25" y="33"/>
                  <a:pt x="20" y="40"/>
                  <a:pt x="15" y="46"/>
                </a:cubicBezTo>
                <a:cubicBezTo>
                  <a:pt x="10" y="52"/>
                  <a:pt x="3" y="59"/>
                  <a:pt x="0" y="62"/>
                </a:cubicBezTo>
              </a:path>
            </a:pathLst>
          </a:custGeom>
          <a:noFill/>
          <a:ln w="6480">
            <a:solidFill>
              <a:srgbClr val="009900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700360" y="2871720"/>
            <a:ext cx="503280" cy="196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 rot="16994400">
            <a:off x="2569680" y="2690640"/>
            <a:ext cx="360000" cy="40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0250"/>
                </a:moveTo>
                <a:arcTo wR="10800" hR="10800" stAng="-10624828" swAng="10861621"/>
                <a:lnTo>
                  <a:pt x="10800" y="10800"/>
                </a:lnTo>
                <a:close/>
              </a:path>
              <a:path fill="none" w="21600" h="21600">
                <a:moveTo>
                  <a:pt x="14" y="10250"/>
                </a:moveTo>
                <a:arcTo wR="10800" hR="10800" stAng="-10624828" swAng="10861621"/>
              </a:path>
            </a:pathLst>
          </a:custGeom>
          <a:noFill/>
          <a:ln w="3816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854440" y="251136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M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556000" y="3021120"/>
            <a:ext cx="15508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037040" y="36464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112920" y="278928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N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468520" y="314172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Q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 flipV="1">
            <a:off x="3179520" y="3058920"/>
            <a:ext cx="431640" cy="161640"/>
          </a:xfrm>
          <a:prstGeom prst="line">
            <a:avLst/>
          </a:prstGeom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2593800" y="2876400"/>
            <a:ext cx="123840" cy="36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3059280" y="3103560"/>
            <a:ext cx="90360" cy="1792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392200" y="3244680"/>
            <a:ext cx="108000" cy="5400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2363760" y="3001680"/>
            <a:ext cx="154080" cy="298440"/>
          </a:xfrm>
          <a:prstGeom prst="line">
            <a:avLst/>
          </a:prstGeom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rot="1579200">
            <a:off x="1919160" y="2955240"/>
            <a:ext cx="648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u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rot="1579200">
            <a:off x="3014640" y="313992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6600"/>
                </a:solidFill>
                <a:latin typeface="Book Antiqua"/>
              </a:rPr>
              <a:t>v</a:t>
            </a:r>
            <a:r>
              <a:rPr b="1" lang="ru-RU" sz="16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3366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336600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3366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22200" y="31640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силия в сеч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5280" y="3429000"/>
                <a:ext cx="1368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5" name=""/>
          <p:cNvSpPr/>
          <p:nvPr/>
        </p:nvSpPr>
        <p:spPr>
          <a:xfrm>
            <a:off x="1635120" y="3757680"/>
            <a:ext cx="237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из условий равнове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отсечённой части эле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24000" y="4230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еремещения с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99960" y="4495680"/>
                <a:ext cx="13287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θ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8" name=""/>
          <p:cNvSpPr/>
          <p:nvPr/>
        </p:nvSpPr>
        <p:spPr>
          <a:xfrm>
            <a:off x="1665360" y="4824360"/>
            <a:ext cx="1898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методом нача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араметров или др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324000" y="5300640"/>
            <a:ext cx="36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Последовательность процеду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68360" y="5562720"/>
            <a:ext cx="647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1039680" y="5661000"/>
            <a:ext cx="142920" cy="504720"/>
          </a:xfrm>
          <a:custGeom>
            <a:avLst/>
            <a:gdLst>
              <a:gd name="textAreaLeft" fmla="*/ 0 w 142920"/>
              <a:gd name="textAreaRight" fmla="*/ 51480 w 1429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1249200" y="5805360"/>
            <a:ext cx="379440" cy="216000"/>
          </a:xfrm>
          <a:prstGeom prst="leftArrow">
            <a:avLst>
              <a:gd name="adj1" fmla="val 50000"/>
              <a:gd name="adj2" fmla="val 707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793880" y="5562720"/>
            <a:ext cx="401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1704960" y="5670720"/>
            <a:ext cx="130320" cy="504720"/>
          </a:xfrm>
          <a:custGeom>
            <a:avLst/>
            <a:gdLst>
              <a:gd name="textAreaLeft" fmla="*/ 360 w 130320"/>
              <a:gd name="textAreaRight" fmla="*/ 47520 w 13032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287440" y="5622840"/>
            <a:ext cx="360360" cy="32400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814480" y="5622840"/>
            <a:ext cx="360360" cy="32400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328920" y="5616720"/>
            <a:ext cx="287280" cy="32364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035080" y="5554800"/>
            <a:ext cx="205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286000" y="6245280"/>
            <a:ext cx="360360" cy="32364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565360" y="6256440"/>
            <a:ext cx="14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933720" y="5651640"/>
            <a:ext cx="379440" cy="215640"/>
          </a:xfrm>
          <a:prstGeom prst="leftArrow">
            <a:avLst>
              <a:gd name="adj1" fmla="val 50000"/>
              <a:gd name="adj2" fmla="val 70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241880" y="54324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22200" y="55245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54200" y="5734080"/>
            <a:ext cx="403200" cy="225360"/>
          </a:xfrm>
          <a:prstGeom prst="leftArrow">
            <a:avLst>
              <a:gd name="adj1" fmla="val 50000"/>
              <a:gd name="adj2" fmla="val 72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139760" y="56437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1503360" y="5734080"/>
            <a:ext cx="403200" cy="225360"/>
          </a:xfrm>
          <a:prstGeom prst="leftArrow">
            <a:avLst>
              <a:gd name="adj1" fmla="val 50000"/>
              <a:gd name="adj2" fmla="val 72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4024440" y="5740560"/>
            <a:ext cx="403200" cy="225360"/>
          </a:xfrm>
          <a:prstGeom prst="leftArrow">
            <a:avLst>
              <a:gd name="adj1" fmla="val 50000"/>
              <a:gd name="adj2" fmla="val 72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495680" y="5595840"/>
            <a:ext cx="130320" cy="505080"/>
          </a:xfrm>
          <a:custGeom>
            <a:avLst/>
            <a:gdLst>
              <a:gd name="textAreaLeft" fmla="*/ 360 w 130320"/>
              <a:gd name="textAreaRight" fmla="*/ 47520 w 13032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592520" y="5502240"/>
            <a:ext cx="647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325600" y="5705640"/>
            <a:ext cx="360360" cy="32364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830680" y="5716440"/>
            <a:ext cx="360360" cy="32400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348000" y="5718240"/>
            <a:ext cx="287280" cy="323640"/>
          </a:xfrm>
          <a:prstGeom prst="ellipse">
            <a:avLst/>
          </a:prstGeom>
          <a:solidFill>
            <a:srgbClr val="f6b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865160" y="5653080"/>
            <a:ext cx="220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84360" y="3111480"/>
            <a:ext cx="4725720" cy="3265560"/>
          </a:xfrm>
          <a:custGeom>
            <a:avLst/>
            <a:gdLst/>
            <a:ahLst/>
            <a:rect l="l" t="t" r="r" b="b"/>
            <a:pathLst>
              <a:path w="2977" h="2057">
                <a:moveTo>
                  <a:pt x="0" y="1833"/>
                </a:moveTo>
                <a:cubicBezTo>
                  <a:pt x="102" y="1867"/>
                  <a:pt x="204" y="1901"/>
                  <a:pt x="317" y="1924"/>
                </a:cubicBezTo>
                <a:cubicBezTo>
                  <a:pt x="430" y="1947"/>
                  <a:pt x="544" y="1969"/>
                  <a:pt x="680" y="1969"/>
                </a:cubicBezTo>
                <a:cubicBezTo>
                  <a:pt x="816" y="1969"/>
                  <a:pt x="975" y="1931"/>
                  <a:pt x="1134" y="1924"/>
                </a:cubicBezTo>
                <a:cubicBezTo>
                  <a:pt x="1293" y="1917"/>
                  <a:pt x="1457" y="1909"/>
                  <a:pt x="1633" y="1924"/>
                </a:cubicBezTo>
                <a:cubicBezTo>
                  <a:pt x="1809" y="1939"/>
                  <a:pt x="2045" y="1995"/>
                  <a:pt x="2193" y="2016"/>
                </a:cubicBezTo>
                <a:cubicBezTo>
                  <a:pt x="2341" y="2037"/>
                  <a:pt x="2421" y="2057"/>
                  <a:pt x="2521" y="2048"/>
                </a:cubicBezTo>
                <a:cubicBezTo>
                  <a:pt x="2621" y="2039"/>
                  <a:pt x="2734" y="2019"/>
                  <a:pt x="2793" y="1960"/>
                </a:cubicBezTo>
                <a:cubicBezTo>
                  <a:pt x="2852" y="1901"/>
                  <a:pt x="2868" y="1801"/>
                  <a:pt x="2873" y="1696"/>
                </a:cubicBezTo>
                <a:cubicBezTo>
                  <a:pt x="2878" y="1591"/>
                  <a:pt x="2849" y="1453"/>
                  <a:pt x="2825" y="1328"/>
                </a:cubicBezTo>
                <a:cubicBezTo>
                  <a:pt x="2801" y="1203"/>
                  <a:pt x="2750" y="1064"/>
                  <a:pt x="2729" y="944"/>
                </a:cubicBezTo>
                <a:cubicBezTo>
                  <a:pt x="2708" y="824"/>
                  <a:pt x="2689" y="725"/>
                  <a:pt x="2697" y="608"/>
                </a:cubicBezTo>
                <a:cubicBezTo>
                  <a:pt x="2705" y="491"/>
                  <a:pt x="2730" y="341"/>
                  <a:pt x="2777" y="240"/>
                </a:cubicBezTo>
                <a:cubicBezTo>
                  <a:pt x="2824" y="139"/>
                  <a:pt x="2935" y="50"/>
                  <a:pt x="2977" y="0"/>
                </a:cubicBezTo>
              </a:path>
            </a:pathLst>
          </a:custGeom>
          <a:noFill/>
          <a:ln w="19080">
            <a:solidFill>
              <a:srgbClr val="990033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971960" y="2306520"/>
            <a:ext cx="233676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978440" y="2022480"/>
            <a:ext cx="144360" cy="28908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202520" y="3351240"/>
            <a:ext cx="144360" cy="249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4859280" y="2529000"/>
            <a:ext cx="10800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7321680" y="2952720"/>
            <a:ext cx="5400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905360" y="1862280"/>
            <a:ext cx="61920" cy="12672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6357960" y="234000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653160" y="2711520"/>
            <a:ext cx="3672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6800760" y="2749680"/>
            <a:ext cx="3672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958080" y="281448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108920" y="293040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7221600" y="3090960"/>
            <a:ext cx="252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657840" y="2719440"/>
            <a:ext cx="598680" cy="37152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302520" y="2044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796080" y="2448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283440" y="2803680"/>
            <a:ext cx="287280" cy="288720"/>
          </a:xfrm>
          <a:prstGeom prst="ellipse">
            <a:avLst/>
          </a:prstGeom>
          <a:solidFill>
            <a:srgbClr val="e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083200" y="19144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072040" y="1933560"/>
            <a:ext cx="270000" cy="233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208480" y="1876320"/>
            <a:ext cx="5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5214960" y="1430280"/>
            <a:ext cx="6480" cy="43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651640" y="167796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070600" y="111924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064120" y="1700280"/>
            <a:ext cx="28836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63" y="20969"/>
                </a:moveTo>
                <a:arcTo wR="10800" hR="10800" stAng="6580890" swAng="14139589"/>
                <a:lnTo>
                  <a:pt x="10800" y="10800"/>
                </a:lnTo>
                <a:close/>
              </a:path>
              <a:path fill="none" w="21600" h="21600">
                <a:moveTo>
                  <a:pt x="7163" y="20969"/>
                </a:moveTo>
                <a:arcTo wR="10800" hR="10800" stAng="6580890" swAng="141395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29320" y="139860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577280" y="37544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7574040" y="3219480"/>
            <a:ext cx="1440" cy="539640"/>
          </a:xfrm>
          <a:custGeom>
            <a:avLst/>
            <a:gdLst/>
            <a:ahLst/>
            <a:rect l="l" t="t" r="r" b="b"/>
            <a:pathLst>
              <a:path w="5" h="276">
                <a:moveTo>
                  <a:pt x="0" y="276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908840" y="3538440"/>
            <a:ext cx="76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5002800">
            <a:off x="7409160" y="3533400"/>
            <a:ext cx="356040" cy="36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3" y="19217"/>
                </a:moveTo>
                <a:arcTo wR="10800" hR="10800" stAng="7727923" swAng="12992556"/>
                <a:lnTo>
                  <a:pt x="10800" y="10800"/>
                </a:lnTo>
                <a:close/>
              </a:path>
              <a:path fill="none" w="21600" h="21600">
                <a:moveTo>
                  <a:pt x="4033" y="19217"/>
                </a:moveTo>
                <a:arcTo wR="10800" hR="10800" stAng="7727923" swAng="1299255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496280" y="3807000"/>
            <a:ext cx="64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416720" y="2913120"/>
            <a:ext cx="76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105680" y="353700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224320" y="1884240"/>
            <a:ext cx="2349720" cy="187344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7569360" y="3622680"/>
            <a:ext cx="20304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7768800" y="3530520"/>
            <a:ext cx="142920" cy="96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316560" y="2738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7527600" y="3760920"/>
            <a:ext cx="428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7499520" y="4076640"/>
            <a:ext cx="25200" cy="165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978440" y="1876320"/>
            <a:ext cx="23328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5217840" y="1666800"/>
            <a:ext cx="42840" cy="21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4812840" y="199404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5263920" y="1508040"/>
            <a:ext cx="36360" cy="1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7112160" y="362412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857920" y="29876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865840" y="2941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645080" y="429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4643280" y="148392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513320" y="119700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8329680" y="410040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475160" y="42354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122800" y="2301840"/>
            <a:ext cx="0" cy="21600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219640" y="2197080"/>
            <a:ext cx="0" cy="32076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4387680" y="2314440"/>
            <a:ext cx="72072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4389480" y="1882800"/>
            <a:ext cx="83016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4459320" y="1876320"/>
            <a:ext cx="0" cy="43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114880" y="2467080"/>
            <a:ext cx="108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H="1" flipV="1">
            <a:off x="5208120" y="1878120"/>
            <a:ext cx="227160" cy="36360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410080" y="1898640"/>
            <a:ext cx="171720" cy="298440"/>
          </a:xfrm>
          <a:custGeom>
            <a:avLst/>
            <a:gdLst/>
            <a:ahLst/>
            <a:rect l="l" t="t" r="r" b="b"/>
            <a:pathLst>
              <a:path w="108" h="188">
                <a:moveTo>
                  <a:pt x="108" y="0"/>
                </a:moveTo>
                <a:cubicBezTo>
                  <a:pt x="106" y="11"/>
                  <a:pt x="104" y="45"/>
                  <a:pt x="96" y="68"/>
                </a:cubicBezTo>
                <a:cubicBezTo>
                  <a:pt x="88" y="91"/>
                  <a:pt x="76" y="120"/>
                  <a:pt x="60" y="140"/>
                </a:cubicBezTo>
                <a:cubicBezTo>
                  <a:pt x="44" y="160"/>
                  <a:pt x="12" y="178"/>
                  <a:pt x="0" y="1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116240" y="1857240"/>
            <a:ext cx="39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000760" y="2374920"/>
            <a:ext cx="390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495760" y="1892160"/>
            <a:ext cx="390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207200" y="2768760"/>
            <a:ext cx="0" cy="58392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577280" y="2771640"/>
            <a:ext cx="0" cy="21600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211880" y="283860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6995880" y="3357720"/>
            <a:ext cx="21564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6996240" y="3749760"/>
            <a:ext cx="1792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7043760" y="3357720"/>
            <a:ext cx="0" cy="3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7112160" y="2416320"/>
            <a:ext cx="60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t+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483240" y="3257640"/>
            <a:ext cx="6476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t+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(&l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18200" y="3218040"/>
            <a:ext cx="446040" cy="30636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7499160" y="2496960"/>
            <a:ext cx="53640" cy="12564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34440" y="2543040"/>
            <a:ext cx="785520" cy="695520"/>
          </a:xfrm>
          <a:custGeom>
            <a:avLst/>
            <a:gdLst/>
            <a:ahLst/>
            <a:rect l="l" t="t" r="r" b="b"/>
            <a:pathLst>
              <a:path w="495" h="438">
                <a:moveTo>
                  <a:pt x="0" y="0"/>
                </a:moveTo>
                <a:cubicBezTo>
                  <a:pt x="24" y="12"/>
                  <a:pt x="90" y="40"/>
                  <a:pt x="141" y="72"/>
                </a:cubicBezTo>
                <a:cubicBezTo>
                  <a:pt x="192" y="104"/>
                  <a:pt x="262" y="151"/>
                  <a:pt x="309" y="192"/>
                </a:cubicBezTo>
                <a:cubicBezTo>
                  <a:pt x="356" y="233"/>
                  <a:pt x="392" y="280"/>
                  <a:pt x="423" y="321"/>
                </a:cubicBezTo>
                <a:cubicBezTo>
                  <a:pt x="454" y="362"/>
                  <a:pt x="480" y="414"/>
                  <a:pt x="495" y="43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889760" y="2502000"/>
            <a:ext cx="60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t+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6453360" y="1428840"/>
                <a:ext cx="9349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7550280" y="1449360"/>
                <a:ext cx="12240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79" name=""/>
          <p:cNvSpPr/>
          <p:nvPr/>
        </p:nvSpPr>
        <p:spPr>
          <a:xfrm>
            <a:off x="6443640" y="1125360"/>
            <a:ext cx="2305080" cy="33732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еремещения уз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003640" y="4435560"/>
            <a:ext cx="36720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вязь между перемещениями узл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и концевых сечений элемен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219640" y="4869000"/>
            <a:ext cx="331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148440" y="5137200"/>
            <a:ext cx="24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 u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rot="5400000">
            <a:off x="5411880" y="5417280"/>
            <a:ext cx="540000" cy="90360"/>
          </a:xfrm>
          <a:prstGeom prst="rightArrow">
            <a:avLst>
              <a:gd name="adj1" fmla="val 39565"/>
              <a:gd name="adj2" fmla="val 1625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rot="7784400">
            <a:off x="5664600" y="5421960"/>
            <a:ext cx="684360" cy="85680"/>
          </a:xfrm>
          <a:prstGeom prst="rightArrow">
            <a:avLst>
              <a:gd name="adj1" fmla="val 41287"/>
              <a:gd name="adj2" fmla="val 1692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 rot="8431800">
            <a:off x="5936760" y="5568840"/>
            <a:ext cx="378000" cy="90720"/>
          </a:xfrm>
          <a:prstGeom prst="rightArrow">
            <a:avLst>
              <a:gd name="adj1" fmla="val 44343"/>
              <a:gd name="adj2" fmla="val 1377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359320" y="5742000"/>
            <a:ext cx="12240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326200" y="569736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j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699240" y="5450040"/>
                <a:ext cx="215100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 rot="5400000">
            <a:off x="7729920" y="5330160"/>
            <a:ext cx="125640" cy="2120760"/>
          </a:xfrm>
          <a:custGeom>
            <a:avLst/>
            <a:gdLst>
              <a:gd name="textAreaLeft" fmla="*/ 0 w 125640"/>
              <a:gd name="textAreaRight" fmla="*/ 45360 w 125640"/>
              <a:gd name="textAreaTop" fmla="*/ 55080 h 2120760"/>
              <a:gd name="textAreaBottom" fmla="*/ 2065680 h 21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804000" y="6362640"/>
            <a:ext cx="201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тандартная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матр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622840" y="28814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662440" y="2608200"/>
            <a:ext cx="71640" cy="270000"/>
          </a:xfrm>
          <a:custGeom>
            <a:avLst/>
            <a:gdLst/>
            <a:ahLst/>
            <a:rect l="l" t="t" r="r" b="b"/>
            <a:pathLst>
              <a:path w="57" h="185">
                <a:moveTo>
                  <a:pt x="3" y="185"/>
                </a:moveTo>
                <a:cubicBezTo>
                  <a:pt x="3" y="174"/>
                  <a:pt x="0" y="140"/>
                  <a:pt x="3" y="120"/>
                </a:cubicBezTo>
                <a:cubicBezTo>
                  <a:pt x="6" y="100"/>
                  <a:pt x="12" y="86"/>
                  <a:pt x="21" y="66"/>
                </a:cubicBezTo>
                <a:cubicBezTo>
                  <a:pt x="30" y="46"/>
                  <a:pt x="49" y="14"/>
                  <a:pt x="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380200" y="2502000"/>
            <a:ext cx="44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648320" y="6175440"/>
            <a:ext cx="1944720" cy="431640"/>
          </a:xfrm>
          <a:prstGeom prst="rect">
            <a:avLst/>
          </a:prstGeom>
          <a:solidFill>
            <a:srgbClr val="caffa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788000" y="6299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508720" y="60688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 Black"/>
              </a:rPr>
              <a:t>?</a:t>
            </a:r>
            <a:r>
              <a:rPr b="0" lang="en-US" sz="16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Arial Black"/>
              </a:rPr>
              <a:t>=</a:t>
            </a:r>
            <a:r>
              <a:rPr b="0" lang="en-US" sz="16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2" dur="indefinite" restart="never" nodeType="tmRoot">
          <p:childTnLst>
            <p:seq>
              <p:cTn id="2883" dur="indefinite" nodeType="mainSeq">
                <p:childTnLst>
                  <p:par>
                    <p:cTn id="2884" fill="hold">
                      <p:stCondLst>
                        <p:cond delay="0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0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5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0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5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5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3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5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0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3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5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0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2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0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5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8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1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0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3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2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8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1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7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5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1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7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2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8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1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0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3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8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4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5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1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fill="hold">
                      <p:stCondLst>
                        <p:cond delay="indefinite"/>
                      </p:stCondLst>
                      <p:childTnLst>
                        <p:par>
                          <p:cTn id="3133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6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9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2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5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1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4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7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3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6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fill="hold">
                      <p:stCondLst>
                        <p:cond delay="indefinite"/>
                      </p:stCondLst>
                      <p:childTnLst>
                        <p:par>
                          <p:cTn id="3168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1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4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7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3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6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9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2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1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4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9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4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9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6" dur="80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7" dur="80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8" dur="80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5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8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0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8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1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8" dur="1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3" dur="1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6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1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2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3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6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3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5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0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1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9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8" dur="9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4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5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6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9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10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6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49200" y="987480"/>
            <a:ext cx="8425080" cy="85536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основные неизвестные в методе перемещений при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зависимые компоненты линейных и угловых перемещ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счётных узлов системы.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195640" y="1989000"/>
            <a:ext cx="470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Расчётными узл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22200" y="2492280"/>
            <a:ext cx="51134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места соединения двух и более эле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точки перелома оси ломаного стерж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22200" y="3693960"/>
            <a:ext cx="5329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точки изменения жёсткости сечения стерж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24000" y="4718160"/>
            <a:ext cx="53290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опорные узлы с неизвестными компон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2200" y="5997600"/>
            <a:ext cx="4897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полни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любые точки систе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724360" y="26719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5940000" y="2671920"/>
            <a:ext cx="73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16720" y="285444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854760" y="2854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6842160" y="263844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524720" y="2624040"/>
            <a:ext cx="217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7524720" y="2840040"/>
            <a:ext cx="217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742160" y="28400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400960" y="2584440"/>
            <a:ext cx="203400" cy="484200"/>
          </a:xfrm>
          <a:custGeom>
            <a:avLst/>
            <a:gdLst/>
            <a:ahLst/>
            <a:rect l="l" t="t" r="r" b="b"/>
            <a:pathLst>
              <a:path w="128" h="305">
                <a:moveTo>
                  <a:pt x="0" y="0"/>
                </a:moveTo>
                <a:lnTo>
                  <a:pt x="128" y="124"/>
                </a:lnTo>
                <a:lnTo>
                  <a:pt x="128" y="30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546880" y="2668680"/>
            <a:ext cx="16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326280" y="266868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342120" y="285264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189920" y="2852640"/>
            <a:ext cx="16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854760" y="316548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8059680" y="284004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400880" y="2503440"/>
            <a:ext cx="114480" cy="114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8604360" y="309420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8280360" y="2465280"/>
            <a:ext cx="114480" cy="114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7078680" y="2508120"/>
            <a:ext cx="114480" cy="114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7405560" y="3058920"/>
            <a:ext cx="114480" cy="114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6870600" y="28274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691400" y="278748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5894280" y="2971440"/>
            <a:ext cx="41760" cy="156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842080" y="376236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275520" y="376236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651640" y="3762360"/>
            <a:ext cx="16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738840" y="376236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794200" y="37162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299280" y="3716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7151760" y="3967200"/>
            <a:ext cx="68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977160" y="396540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788240" y="3911760"/>
            <a:ext cx="755640" cy="107640"/>
          </a:xfrm>
          <a:custGeom>
            <a:avLst/>
            <a:gdLst/>
            <a:ahLst/>
            <a:rect l="l" t="t" r="r" b="b"/>
            <a:pathLst>
              <a:path w="363" h="91">
                <a:moveTo>
                  <a:pt x="0" y="46"/>
                </a:moveTo>
                <a:lnTo>
                  <a:pt x="363" y="0"/>
                </a:lnTo>
                <a:lnTo>
                  <a:pt x="363" y="91"/>
                </a:lnTo>
                <a:lnTo>
                  <a:pt x="0" y="4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586720" y="396540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7740720" y="3954600"/>
                <a:ext cx="10080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031160" y="3637080"/>
                <a:ext cx="9889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1" name=""/>
          <p:cNvSpPr/>
          <p:nvPr/>
        </p:nvSpPr>
        <p:spPr>
          <a:xfrm>
            <a:off x="5946840" y="502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264360" y="502776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796000" y="5372280"/>
            <a:ext cx="287280" cy="10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796000" y="5381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940360" y="506556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892840" y="498492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892840" y="532440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931000" y="4705200"/>
            <a:ext cx="0" cy="287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146640" y="4721400"/>
            <a:ext cx="0" cy="287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5930640" y="4781520"/>
            <a:ext cx="215640" cy="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5886360" y="44226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116840" y="50198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434360" y="501984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6966000" y="5364000"/>
            <a:ext cx="287280" cy="1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966000" y="5373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6803640" y="501984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062840" y="497664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rot="5400000">
            <a:off x="6606360" y="4966560"/>
            <a:ext cx="287280" cy="10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802560" y="48769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770520" y="497664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064280" y="5070600"/>
            <a:ext cx="71640" cy="233280"/>
          </a:xfrm>
          <a:custGeom>
            <a:avLst/>
            <a:gdLst/>
            <a:ahLst/>
            <a:rect l="l" t="t" r="r" b="b"/>
            <a:pathLst>
              <a:path w="91" h="318">
                <a:moveTo>
                  <a:pt x="45" y="0"/>
                </a:moveTo>
                <a:lnTo>
                  <a:pt x="0" y="46"/>
                </a:lnTo>
                <a:lnTo>
                  <a:pt x="91" y="91"/>
                </a:lnTo>
                <a:lnTo>
                  <a:pt x="0" y="136"/>
                </a:lnTo>
                <a:lnTo>
                  <a:pt x="91" y="182"/>
                </a:lnTo>
                <a:lnTo>
                  <a:pt x="0" y="227"/>
                </a:lnTo>
                <a:lnTo>
                  <a:pt x="91" y="272"/>
                </a:lnTo>
                <a:lnTo>
                  <a:pt x="45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058160" y="53085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102440" y="4757760"/>
            <a:ext cx="0" cy="21600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7093080" y="4616280"/>
            <a:ext cx="358560" cy="144720"/>
          </a:xfrm>
          <a:prstGeom prst="line">
            <a:avLst/>
          </a:prstGeom>
          <a:ln w="1260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083360" y="4641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8244000" y="4957920"/>
            <a:ext cx="0" cy="36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8244000" y="476100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7815240" y="5373720"/>
            <a:ext cx="585720" cy="10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818480" y="53658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8202600" y="53182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8094600" y="5108400"/>
            <a:ext cx="133560" cy="20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88200" y="5214960"/>
            <a:ext cx="39960" cy="71280"/>
          </a:xfrm>
          <a:custGeom>
            <a:avLst/>
            <a:gdLst/>
            <a:ahLst/>
            <a:rect l="l" t="t" r="r" b="b"/>
            <a:pathLst>
              <a:path w="25" h="45">
                <a:moveTo>
                  <a:pt x="25" y="45"/>
                </a:moveTo>
                <a:lnTo>
                  <a:pt x="25" y="0"/>
                </a:lnTo>
                <a:lnTo>
                  <a:pt x="0" y="12"/>
                </a:lnTo>
                <a:lnTo>
                  <a:pt x="25" y="4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7866000" y="5059440"/>
            <a:ext cx="179280" cy="263520"/>
          </a:xfrm>
          <a:custGeom>
            <a:avLst/>
            <a:gdLst/>
            <a:ahLst/>
            <a:rect l="l" t="t" r="r" b="b"/>
            <a:pathLst>
              <a:path w="113" h="166">
                <a:moveTo>
                  <a:pt x="113" y="7"/>
                </a:moveTo>
                <a:lnTo>
                  <a:pt x="80" y="0"/>
                </a:lnTo>
                <a:lnTo>
                  <a:pt x="78" y="42"/>
                </a:lnTo>
                <a:lnTo>
                  <a:pt x="36" y="38"/>
                </a:lnTo>
                <a:lnTo>
                  <a:pt x="50" y="80"/>
                </a:lnTo>
                <a:lnTo>
                  <a:pt x="8" y="84"/>
                </a:lnTo>
                <a:lnTo>
                  <a:pt x="36" y="120"/>
                </a:lnTo>
                <a:lnTo>
                  <a:pt x="0" y="136"/>
                </a:lnTo>
                <a:lnTo>
                  <a:pt x="26" y="16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8040600" y="50371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7866000" y="532908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8268840" y="4822920"/>
            <a:ext cx="289080" cy="504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8255160" y="4789440"/>
            <a:ext cx="263520" cy="82440"/>
          </a:xfrm>
          <a:custGeom>
            <a:avLst/>
            <a:gdLst/>
            <a:ahLst/>
            <a:rect l="l" t="t" r="r" b="b"/>
            <a:pathLst>
              <a:path w="166" h="52">
                <a:moveTo>
                  <a:pt x="0" y="0"/>
                </a:moveTo>
                <a:cubicBezTo>
                  <a:pt x="8" y="1"/>
                  <a:pt x="28" y="0"/>
                  <a:pt x="48" y="4"/>
                </a:cubicBezTo>
                <a:cubicBezTo>
                  <a:pt x="68" y="8"/>
                  <a:pt x="98" y="16"/>
                  <a:pt x="118" y="24"/>
                </a:cubicBezTo>
                <a:cubicBezTo>
                  <a:pt x="138" y="32"/>
                  <a:pt x="156" y="46"/>
                  <a:pt x="166" y="5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8244000" y="44607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724360" y="5950080"/>
            <a:ext cx="2448000" cy="358560"/>
          </a:xfrm>
          <a:custGeom>
            <a:avLst/>
            <a:gdLst/>
            <a:ahLst/>
            <a:rect l="l" t="t" r="r" b="b"/>
            <a:pathLst>
              <a:path w="1542" h="226">
                <a:moveTo>
                  <a:pt x="0" y="226"/>
                </a:moveTo>
                <a:lnTo>
                  <a:pt x="0" y="0"/>
                </a:lnTo>
                <a:lnTo>
                  <a:pt x="1542" y="0"/>
                </a:lnTo>
                <a:lnTo>
                  <a:pt x="1542" y="1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24360" y="633888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8172360" y="6261120"/>
            <a:ext cx="0" cy="16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908760" y="590724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6300720" y="591192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7513560" y="59054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rot="568200">
            <a:off x="6246360" y="6026040"/>
            <a:ext cx="108000" cy="289080"/>
          </a:xfrm>
          <a:prstGeom prst="upArrow">
            <a:avLst>
              <a:gd name="adj1" fmla="val 46796"/>
              <a:gd name="adj2" fmla="val 891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rot="568200">
            <a:off x="6859080" y="6021360"/>
            <a:ext cx="108000" cy="289080"/>
          </a:xfrm>
          <a:prstGeom prst="upArrow">
            <a:avLst>
              <a:gd name="adj1" fmla="val 46796"/>
              <a:gd name="adj2" fmla="val 891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rot="568200">
            <a:off x="7459200" y="6021360"/>
            <a:ext cx="108000" cy="289080"/>
          </a:xfrm>
          <a:prstGeom prst="upArrow">
            <a:avLst>
              <a:gd name="adj1" fmla="val 46796"/>
              <a:gd name="adj2" fmla="val 891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rot="5400000">
            <a:off x="3474360" y="5290200"/>
            <a:ext cx="287280" cy="10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670200" y="52005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38520" y="53006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720960" y="5346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173480" y="534348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708360" y="5359320"/>
            <a:ext cx="576360" cy="289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 rot="5262000">
            <a:off x="4106520" y="5438520"/>
            <a:ext cx="263520" cy="82800"/>
          </a:xfrm>
          <a:custGeom>
            <a:avLst/>
            <a:gdLst/>
            <a:ahLst/>
            <a:rect l="l" t="t" r="r" b="b"/>
            <a:pathLst>
              <a:path w="166" h="52">
                <a:moveTo>
                  <a:pt x="0" y="0"/>
                </a:moveTo>
                <a:cubicBezTo>
                  <a:pt x="8" y="1"/>
                  <a:pt x="28" y="0"/>
                  <a:pt x="48" y="4"/>
                </a:cubicBezTo>
                <a:cubicBezTo>
                  <a:pt x="68" y="8"/>
                  <a:pt x="98" y="16"/>
                  <a:pt x="118" y="24"/>
                </a:cubicBezTo>
                <a:cubicBezTo>
                  <a:pt x="138" y="32"/>
                  <a:pt x="156" y="46"/>
                  <a:pt x="166" y="52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235400" y="52689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3564000" y="5155920"/>
            <a:ext cx="863640" cy="57636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708360" y="5156280"/>
            <a:ext cx="576360" cy="64908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7" dur="indefinite" restart="never" nodeType="tmRoot">
          <p:childTnLst>
            <p:seq>
              <p:cTn id="3318" dur="indefinite" nodeType="mainSeq">
                <p:childTnLst>
                  <p:par>
                    <p:cTn id="3319" fill="hold">
                      <p:stCondLst>
                        <p:cond delay="0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3" dur="80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4" dur="80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5" dur="80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fill="hold">
                      <p:stCondLst>
                        <p:cond delay="indefinite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2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9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0" fill="hold">
                      <p:stCondLst>
                        <p:cond delay="indefinite"/>
                      </p:stCondLst>
                      <p:childTnLst>
                        <p:par>
                          <p:cTn id="3341" fill="hold">
                            <p:stCondLst>
                              <p:cond delay="0"/>
                            </p:stCondLst>
                            <p:childTnLst>
                              <p:par>
                                <p:cTn id="3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7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3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6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1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6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2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3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9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2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5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3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7" fill="hold">
                      <p:stCondLst>
                        <p:cond delay="indefinite"/>
                      </p:stCondLst>
                      <p:childTnLst>
                        <p:par>
                          <p:cTn id="3418" fill="hold">
                            <p:stCondLst>
                              <p:cond delay="0"/>
                            </p:stCondLst>
                            <p:childTnLst>
                              <p:par>
                                <p:cTn id="3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1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3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8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1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7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0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8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1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4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3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8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0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8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1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4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0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4" fill="hold">
                      <p:stCondLst>
                        <p:cond delay="indefinite"/>
                      </p:stCondLst>
                      <p:childTnLst>
                        <p:par>
                          <p:cTn id="3495" fill="hold">
                            <p:stCondLst>
                              <p:cond delay="0"/>
                            </p:stCondLst>
                            <p:childTnLst>
                              <p:par>
                                <p:cTn id="3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8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1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2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5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8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1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4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0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3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6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9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2" dur="5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7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0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3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fill="hold">
                      <p:stCondLst>
                        <p:cond delay="indefinite"/>
                      </p:stCondLst>
                      <p:childTnLst>
                        <p:par>
                          <p:cTn id="3555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8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1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4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0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3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6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9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5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3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6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7" fill="hold">
                      <p:stCondLst>
                        <p:cond delay="indefinite"/>
                      </p:stCondLst>
                      <p:childTnLst>
                        <p:par>
                          <p:cTn id="3598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1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3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8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1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4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9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0" dur="10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1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4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5" dur="10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6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3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4" fill="hold">
                      <p:stCondLst>
                        <p:cond delay="indefinite"/>
                      </p:stCondLst>
                      <p:childTnLst>
                        <p:par>
                          <p:cTn id="3645" fill="hold">
                            <p:stCondLst>
                              <p:cond delay="0"/>
                            </p:stCondLst>
                            <p:childTnLst>
                              <p:par>
                                <p:cTn id="3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8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1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9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0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1" dur="9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5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6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7" dur="9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1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2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9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7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8" dur="10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9" dur="9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3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4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9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9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0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1" dur="9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33440" y="654120"/>
            <a:ext cx="8280360" cy="96084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еформируемая система, у расчётных узлов которой есть неизвестные угловые и/или линейные перемещения, не находящиеся из условий совместности деформаций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 и кинематических гран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словий, называ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кинематически неопределимой системой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433440" y="3281400"/>
            <a:ext cx="8280360" cy="94644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истема, у которо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се угловые и линейные перемещения расчётных узлов известны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даны либо равны нулю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 или могут быть найдены из условий совместности деформаций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 и кинематических граничных условий, называ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кинематически определимой системой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619280" y="2062080"/>
            <a:ext cx="1584360" cy="863640"/>
          </a:xfrm>
          <a:custGeom>
            <a:avLst/>
            <a:gdLst/>
            <a:ahLst/>
            <a:rect l="l" t="t" r="r" b="b"/>
            <a:pathLst>
              <a:path w="998" h="544">
                <a:moveTo>
                  <a:pt x="0" y="544"/>
                </a:moveTo>
                <a:lnTo>
                  <a:pt x="0" y="0"/>
                </a:lnTo>
                <a:lnTo>
                  <a:pt x="998" y="0"/>
                </a:lnTo>
                <a:lnTo>
                  <a:pt x="998" y="4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059280" y="2903400"/>
            <a:ext cx="287280" cy="10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059280" y="29131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156120" y="28558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476360" y="2903400"/>
            <a:ext cx="287280" cy="1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476360" y="29131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619280" y="2052720"/>
            <a:ext cx="1584360" cy="863640"/>
          </a:xfrm>
          <a:custGeom>
            <a:avLst/>
            <a:gdLst/>
            <a:ahLst/>
            <a:rect l="l" t="t" r="r" b="b"/>
            <a:pathLst>
              <a:path w="998" h="544">
                <a:moveTo>
                  <a:pt x="0" y="544"/>
                </a:moveTo>
                <a:lnTo>
                  <a:pt x="0" y="0"/>
                </a:lnTo>
                <a:lnTo>
                  <a:pt x="998" y="0"/>
                </a:lnTo>
                <a:lnTo>
                  <a:pt x="998" y="499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059280" y="2894040"/>
            <a:ext cx="287280" cy="10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059280" y="29034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156120" y="284652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76360" y="2894040"/>
            <a:ext cx="287280" cy="10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476360" y="29034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835280" y="21081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619280" y="2190600"/>
            <a:ext cx="235080" cy="727200"/>
          </a:xfrm>
          <a:custGeom>
            <a:avLst/>
            <a:gdLst/>
            <a:ahLst/>
            <a:rect l="l" t="t" r="r" b="b"/>
            <a:pathLst>
              <a:path w="148" h="458">
                <a:moveTo>
                  <a:pt x="0" y="458"/>
                </a:moveTo>
                <a:cubicBezTo>
                  <a:pt x="1" y="443"/>
                  <a:pt x="1" y="399"/>
                  <a:pt x="4" y="368"/>
                </a:cubicBezTo>
                <a:cubicBezTo>
                  <a:pt x="7" y="337"/>
                  <a:pt x="7" y="307"/>
                  <a:pt x="16" y="272"/>
                </a:cubicBezTo>
                <a:cubicBezTo>
                  <a:pt x="25" y="237"/>
                  <a:pt x="42" y="193"/>
                  <a:pt x="56" y="160"/>
                </a:cubicBezTo>
                <a:cubicBezTo>
                  <a:pt x="70" y="127"/>
                  <a:pt x="85" y="99"/>
                  <a:pt x="100" y="72"/>
                </a:cubicBezTo>
                <a:cubicBezTo>
                  <a:pt x="115" y="45"/>
                  <a:pt x="138" y="15"/>
                  <a:pt x="14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924200" y="2108160"/>
            <a:ext cx="1555560" cy="755640"/>
          </a:xfrm>
          <a:custGeom>
            <a:avLst/>
            <a:gdLst/>
            <a:ahLst/>
            <a:rect l="l" t="t" r="r" b="b"/>
            <a:pathLst>
              <a:path w="980" h="476">
                <a:moveTo>
                  <a:pt x="0" y="40"/>
                </a:moveTo>
                <a:cubicBezTo>
                  <a:pt x="45" y="49"/>
                  <a:pt x="179" y="87"/>
                  <a:pt x="268" y="96"/>
                </a:cubicBezTo>
                <a:cubicBezTo>
                  <a:pt x="357" y="105"/>
                  <a:pt x="449" y="102"/>
                  <a:pt x="532" y="96"/>
                </a:cubicBezTo>
                <a:cubicBezTo>
                  <a:pt x="615" y="90"/>
                  <a:pt x="695" y="76"/>
                  <a:pt x="764" y="60"/>
                </a:cubicBezTo>
                <a:cubicBezTo>
                  <a:pt x="833" y="44"/>
                  <a:pt x="884" y="16"/>
                  <a:pt x="944" y="0"/>
                </a:cubicBezTo>
                <a:cubicBezTo>
                  <a:pt x="972" y="64"/>
                  <a:pt x="979" y="126"/>
                  <a:pt x="980" y="180"/>
                </a:cubicBezTo>
                <a:cubicBezTo>
                  <a:pt x="980" y="234"/>
                  <a:pt x="961" y="284"/>
                  <a:pt x="944" y="324"/>
                </a:cubicBezTo>
                <a:cubicBezTo>
                  <a:pt x="927" y="364"/>
                  <a:pt x="896" y="395"/>
                  <a:pt x="876" y="420"/>
                </a:cubicBezTo>
                <a:cubicBezTo>
                  <a:pt x="856" y="445"/>
                  <a:pt x="835" y="464"/>
                  <a:pt x="824" y="47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384200" y="2349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338560" y="21016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617920" y="211464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751120" y="210816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482920" y="211464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881440" y="209232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90640" y="2236680"/>
            <a:ext cx="21600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381480" y="1884240"/>
            <a:ext cx="21564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776240" y="2205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3365640" y="18511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619280" y="1838160"/>
            <a:ext cx="0" cy="144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882800" y="1838160"/>
            <a:ext cx="0" cy="2368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203640" y="1817640"/>
            <a:ext cx="0" cy="236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425760" y="1819440"/>
            <a:ext cx="0" cy="144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306440" y="2054160"/>
            <a:ext cx="2412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06440" y="2152800"/>
            <a:ext cx="5288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3432240" y="2101680"/>
            <a:ext cx="36036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648240" y="2054160"/>
            <a:ext cx="14436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2935440" y="2101680"/>
            <a:ext cx="4680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2974680" y="2120760"/>
            <a:ext cx="431640" cy="216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619280" y="1882800"/>
            <a:ext cx="2620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05080" y="1863720"/>
            <a:ext cx="22392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351080" y="2050920"/>
            <a:ext cx="0" cy="1000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740040" y="2054160"/>
            <a:ext cx="0" cy="54000"/>
          </a:xfrm>
          <a:prstGeom prst="line">
            <a:avLst/>
          </a:prstGeom>
          <a:ln w="9360">
            <a:solidFill>
              <a:srgbClr val="0099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971800" y="2108160"/>
            <a:ext cx="69840" cy="196920"/>
          </a:xfrm>
          <a:custGeom>
            <a:avLst/>
            <a:gdLst/>
            <a:ahLst/>
            <a:rect l="l" t="t" r="r" b="b"/>
            <a:pathLst>
              <a:path w="44" h="124">
                <a:moveTo>
                  <a:pt x="0" y="0"/>
                </a:moveTo>
                <a:cubicBezTo>
                  <a:pt x="2" y="11"/>
                  <a:pt x="5" y="47"/>
                  <a:pt x="12" y="68"/>
                </a:cubicBezTo>
                <a:cubicBezTo>
                  <a:pt x="19" y="89"/>
                  <a:pt x="37" y="112"/>
                  <a:pt x="44" y="124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560600" y="15908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110040" y="15526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036800" y="19209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722760" y="19098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771640" y="21985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7512120" y="2903400"/>
            <a:ext cx="287280" cy="10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7512120" y="29131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608960" y="28558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929200" y="2903400"/>
            <a:ext cx="287280" cy="10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929200" y="29131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072120" y="2054160"/>
            <a:ext cx="1584360" cy="863640"/>
          </a:xfrm>
          <a:custGeom>
            <a:avLst/>
            <a:gdLst/>
            <a:ahLst/>
            <a:rect l="l" t="t" r="r" b="b"/>
            <a:pathLst>
              <a:path w="998" h="544">
                <a:moveTo>
                  <a:pt x="0" y="544"/>
                </a:moveTo>
                <a:lnTo>
                  <a:pt x="0" y="0"/>
                </a:lnTo>
                <a:lnTo>
                  <a:pt x="998" y="0"/>
                </a:lnTo>
                <a:lnTo>
                  <a:pt x="998" y="499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512120" y="2894040"/>
            <a:ext cx="287280" cy="10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512120" y="29034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7608960" y="284652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929200" y="2894040"/>
            <a:ext cx="287280" cy="10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929200" y="29034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066000" y="2085840"/>
            <a:ext cx="241200" cy="816120"/>
          </a:xfrm>
          <a:custGeom>
            <a:avLst/>
            <a:gdLst/>
            <a:ahLst/>
            <a:rect l="l" t="t" r="r" b="b"/>
            <a:pathLst>
              <a:path w="152" h="514">
                <a:moveTo>
                  <a:pt x="3" y="514"/>
                </a:moveTo>
                <a:cubicBezTo>
                  <a:pt x="3" y="497"/>
                  <a:pt x="0" y="451"/>
                  <a:pt x="3" y="410"/>
                </a:cubicBezTo>
                <a:cubicBezTo>
                  <a:pt x="6" y="369"/>
                  <a:pt x="13" y="312"/>
                  <a:pt x="23" y="270"/>
                </a:cubicBezTo>
                <a:cubicBezTo>
                  <a:pt x="33" y="228"/>
                  <a:pt x="47" y="193"/>
                  <a:pt x="60" y="160"/>
                </a:cubicBezTo>
                <a:cubicBezTo>
                  <a:pt x="73" y="127"/>
                  <a:pt x="89" y="99"/>
                  <a:pt x="104" y="72"/>
                </a:cubicBezTo>
                <a:cubicBezTo>
                  <a:pt x="119" y="45"/>
                  <a:pt x="142" y="15"/>
                  <a:pt x="15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75240" y="2050920"/>
            <a:ext cx="1562400" cy="800280"/>
          </a:xfrm>
          <a:custGeom>
            <a:avLst/>
            <a:gdLst/>
            <a:ahLst/>
            <a:rect l="l" t="t" r="r" b="b"/>
            <a:pathLst>
              <a:path w="984" h="504">
                <a:moveTo>
                  <a:pt x="0" y="8"/>
                </a:moveTo>
                <a:cubicBezTo>
                  <a:pt x="45" y="19"/>
                  <a:pt x="179" y="65"/>
                  <a:pt x="268" y="80"/>
                </a:cubicBezTo>
                <a:cubicBezTo>
                  <a:pt x="357" y="95"/>
                  <a:pt x="449" y="99"/>
                  <a:pt x="532" y="96"/>
                </a:cubicBezTo>
                <a:cubicBezTo>
                  <a:pt x="615" y="93"/>
                  <a:pt x="696" y="76"/>
                  <a:pt x="765" y="60"/>
                </a:cubicBezTo>
                <a:cubicBezTo>
                  <a:pt x="834" y="44"/>
                  <a:pt x="885" y="16"/>
                  <a:pt x="945" y="0"/>
                </a:cubicBezTo>
                <a:cubicBezTo>
                  <a:pt x="973" y="64"/>
                  <a:pt x="980" y="126"/>
                  <a:pt x="981" y="180"/>
                </a:cubicBezTo>
                <a:cubicBezTo>
                  <a:pt x="984" y="231"/>
                  <a:pt x="973" y="269"/>
                  <a:pt x="960" y="308"/>
                </a:cubicBezTo>
                <a:cubicBezTo>
                  <a:pt x="947" y="347"/>
                  <a:pt x="923" y="379"/>
                  <a:pt x="900" y="412"/>
                </a:cubicBezTo>
                <a:cubicBezTo>
                  <a:pt x="877" y="445"/>
                  <a:pt x="837" y="485"/>
                  <a:pt x="820" y="50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796000" y="234936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791400" y="204480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070760" y="205740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7203960" y="205092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935760" y="205740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334280" y="20350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238800" y="213516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886880" y="1827360"/>
            <a:ext cx="21564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224760" y="21034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870680" y="17938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72120" y="1838160"/>
            <a:ext cx="0" cy="144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335640" y="1838160"/>
            <a:ext cx="0" cy="2368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656480" y="1817640"/>
            <a:ext cx="0" cy="2365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7872480" y="1819440"/>
            <a:ext cx="0" cy="144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7432560" y="2063880"/>
            <a:ext cx="439920" cy="2188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072120" y="1882800"/>
            <a:ext cx="26208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651800" y="1863720"/>
            <a:ext cx="22680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rot="5400000">
            <a:off x="7350480" y="2123280"/>
            <a:ext cx="210960" cy="60120"/>
          </a:xfrm>
          <a:custGeom>
            <a:avLst/>
            <a:gdLst/>
            <a:ahLst/>
            <a:rect l="l" t="t" r="r" b="b"/>
            <a:pathLst>
              <a:path w="133" h="38">
                <a:moveTo>
                  <a:pt x="0" y="38"/>
                </a:moveTo>
                <a:cubicBezTo>
                  <a:pt x="12" y="37"/>
                  <a:pt x="48" y="38"/>
                  <a:pt x="70" y="32"/>
                </a:cubicBezTo>
                <a:cubicBezTo>
                  <a:pt x="92" y="26"/>
                  <a:pt x="120" y="7"/>
                  <a:pt x="133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008760" y="15717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591320" y="1547640"/>
            <a:ext cx="690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23040" y="213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288120" y="200340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103640" y="2436840"/>
            <a:ext cx="9367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248000" y="2724120"/>
            <a:ext cx="936720" cy="144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105440" y="2436840"/>
            <a:ext cx="142560" cy="287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040360" y="2436840"/>
            <a:ext cx="144360" cy="43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248000" y="2706840"/>
            <a:ext cx="936720" cy="193680"/>
          </a:xfrm>
          <a:custGeom>
            <a:avLst/>
            <a:gdLst/>
            <a:ahLst/>
            <a:rect l="l" t="t" r="r" b="b"/>
            <a:pathLst>
              <a:path w="590" h="122">
                <a:moveTo>
                  <a:pt x="0" y="11"/>
                </a:moveTo>
                <a:cubicBezTo>
                  <a:pt x="15" y="10"/>
                  <a:pt x="54" y="0"/>
                  <a:pt x="91" y="2"/>
                </a:cubicBezTo>
                <a:cubicBezTo>
                  <a:pt x="128" y="4"/>
                  <a:pt x="176" y="9"/>
                  <a:pt x="223" y="26"/>
                </a:cubicBezTo>
                <a:cubicBezTo>
                  <a:pt x="270" y="43"/>
                  <a:pt x="326" y="86"/>
                  <a:pt x="371" y="102"/>
                </a:cubicBezTo>
                <a:cubicBezTo>
                  <a:pt x="416" y="118"/>
                  <a:pt x="455" y="122"/>
                  <a:pt x="491" y="122"/>
                </a:cubicBezTo>
                <a:cubicBezTo>
                  <a:pt x="527" y="122"/>
                  <a:pt x="570" y="106"/>
                  <a:pt x="590" y="10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105440" y="2220840"/>
            <a:ext cx="144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040360" y="2220840"/>
            <a:ext cx="144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105440" y="2292480"/>
            <a:ext cx="9349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221000" y="2867040"/>
            <a:ext cx="93672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208400" y="2724120"/>
            <a:ext cx="34920" cy="195120"/>
          </a:xfrm>
          <a:custGeom>
            <a:avLst/>
            <a:gdLst/>
            <a:ahLst/>
            <a:rect l="l" t="t" r="r" b="b"/>
            <a:pathLst>
              <a:path w="22" h="123">
                <a:moveTo>
                  <a:pt x="22" y="0"/>
                </a:moveTo>
                <a:lnTo>
                  <a:pt x="0" y="12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49800" y="2863800"/>
            <a:ext cx="34920" cy="195480"/>
          </a:xfrm>
          <a:custGeom>
            <a:avLst/>
            <a:gdLst/>
            <a:ahLst/>
            <a:rect l="l" t="t" r="r" b="b"/>
            <a:pathLst>
              <a:path w="22" h="123">
                <a:moveTo>
                  <a:pt x="22" y="0"/>
                </a:moveTo>
                <a:lnTo>
                  <a:pt x="0" y="12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4067280" y="225900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5006880" y="225900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4183200" y="2828520"/>
            <a:ext cx="7272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5119560" y="297828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430880" y="1944720"/>
            <a:ext cx="36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4478400" y="1666800"/>
                <a:ext cx="557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4559400" y="2933640"/>
                <a:ext cx="2016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00" name=""/>
          <p:cNvSpPr/>
          <p:nvPr/>
        </p:nvSpPr>
        <p:spPr>
          <a:xfrm>
            <a:off x="4067280" y="1655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257800" y="1785960"/>
            <a:ext cx="144360" cy="1295280"/>
          </a:xfrm>
          <a:custGeom>
            <a:avLst/>
            <a:gdLst>
              <a:gd name="textAreaLeft" fmla="*/ 0 w 144360"/>
              <a:gd name="textAreaRight" fmla="*/ 52200 w 1443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442120" y="2349360"/>
            <a:ext cx="288720" cy="162000"/>
          </a:xfrm>
          <a:prstGeom prst="rightArrow">
            <a:avLst>
              <a:gd name="adj1" fmla="val 60815"/>
              <a:gd name="adj2" fmla="val 698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352680" y="4511520"/>
            <a:ext cx="194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3205080" y="4835520"/>
            <a:ext cx="287280" cy="108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205080" y="48448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140440" y="5850000"/>
            <a:ext cx="287280" cy="10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060720" y="45115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349800" y="453060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rot="1558800">
            <a:off x="5416200" y="6082920"/>
            <a:ext cx="287280" cy="10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454720" y="6037200"/>
            <a:ext cx="252360" cy="12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rot="5400000">
            <a:off x="2826720" y="4458600"/>
            <a:ext cx="287280" cy="108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032280" y="43671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989440" y="446400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301920" y="478800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140440" y="58644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300480" y="447660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283360" y="4511520"/>
            <a:ext cx="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5283360" y="5880240"/>
            <a:ext cx="0" cy="43164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572080" y="6083280"/>
            <a:ext cx="0" cy="21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5408640" y="5864400"/>
            <a:ext cx="433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584680" y="6083280"/>
            <a:ext cx="484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5710320" y="6159600"/>
            <a:ext cx="293760" cy="153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6269040"/>
            <a:ext cx="2887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5788080" y="587052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H="1" rot="16200000">
            <a:off x="5885280" y="6158520"/>
            <a:ext cx="217800" cy="69840"/>
          </a:xfrm>
          <a:custGeom>
            <a:avLst/>
            <a:gdLst/>
            <a:ahLst/>
            <a:rect l="l" t="t" r="r" b="b"/>
            <a:pathLst>
              <a:path w="133" h="38">
                <a:moveTo>
                  <a:pt x="0" y="38"/>
                </a:moveTo>
                <a:cubicBezTo>
                  <a:pt x="12" y="37"/>
                  <a:pt x="48" y="38"/>
                  <a:pt x="70" y="32"/>
                </a:cubicBezTo>
                <a:cubicBezTo>
                  <a:pt x="92" y="26"/>
                  <a:pt x="120" y="7"/>
                  <a:pt x="133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3411360" y="4513320"/>
            <a:ext cx="1872000" cy="1368360"/>
          </a:xfrm>
          <a:custGeom>
            <a:avLst/>
            <a:gdLst/>
            <a:ahLst/>
            <a:rect l="l" t="t" r="r" b="b"/>
            <a:pathLst>
              <a:path w="1179" h="272">
                <a:moveTo>
                  <a:pt x="0" y="0"/>
                </a:moveTo>
                <a:lnTo>
                  <a:pt x="1179" y="0"/>
                </a:lnTo>
                <a:lnTo>
                  <a:pt x="1179" y="27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386160" y="4524480"/>
            <a:ext cx="1903320" cy="225360"/>
          </a:xfrm>
          <a:custGeom>
            <a:avLst/>
            <a:gdLst/>
            <a:ahLst/>
            <a:rect l="l" t="t" r="r" b="b"/>
            <a:pathLst>
              <a:path w="1199" h="142">
                <a:moveTo>
                  <a:pt x="0" y="0"/>
                </a:moveTo>
                <a:lnTo>
                  <a:pt x="1199" y="142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5249880" y="4724280"/>
            <a:ext cx="395280" cy="1368720"/>
          </a:xfrm>
          <a:custGeom>
            <a:avLst/>
            <a:gdLst/>
            <a:ahLst/>
            <a:rect l="l" t="t" r="r" b="b"/>
            <a:pathLst>
              <a:path w="249" h="862">
                <a:moveTo>
                  <a:pt x="21" y="0"/>
                </a:moveTo>
                <a:cubicBezTo>
                  <a:pt x="19" y="13"/>
                  <a:pt x="11" y="45"/>
                  <a:pt x="9" y="80"/>
                </a:cubicBezTo>
                <a:cubicBezTo>
                  <a:pt x="7" y="115"/>
                  <a:pt x="0" y="158"/>
                  <a:pt x="9" y="208"/>
                </a:cubicBezTo>
                <a:cubicBezTo>
                  <a:pt x="18" y="258"/>
                  <a:pt x="28" y="319"/>
                  <a:pt x="61" y="380"/>
                </a:cubicBezTo>
                <a:cubicBezTo>
                  <a:pt x="94" y="441"/>
                  <a:pt x="174" y="521"/>
                  <a:pt x="205" y="576"/>
                </a:cubicBezTo>
                <a:cubicBezTo>
                  <a:pt x="236" y="631"/>
                  <a:pt x="241" y="669"/>
                  <a:pt x="245" y="708"/>
                </a:cubicBezTo>
                <a:cubicBezTo>
                  <a:pt x="249" y="747"/>
                  <a:pt x="236" y="782"/>
                  <a:pt x="229" y="808"/>
                </a:cubicBezTo>
                <a:cubicBezTo>
                  <a:pt x="222" y="834"/>
                  <a:pt x="208" y="851"/>
                  <a:pt x="203" y="86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132440" y="42609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348080" y="42530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564080" y="42609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780080" y="42544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5140440" y="58626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132440" y="4352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348080" y="43848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564080" y="44118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780080" y="4437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3449520" y="4576680"/>
                <a:ext cx="7207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9" name=""/>
          <p:cNvSpPr/>
          <p:nvPr/>
        </p:nvSpPr>
        <p:spPr>
          <a:xfrm>
            <a:off x="5722920" y="5749920"/>
            <a:ext cx="50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938920" y="6026040"/>
            <a:ext cx="50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5243400" y="620064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326280" y="5845320"/>
            <a:ext cx="144360" cy="647640"/>
          </a:xfrm>
          <a:custGeom>
            <a:avLst/>
            <a:gdLst>
              <a:gd name="textAreaLeft" fmla="*/ 0 w 144360"/>
              <a:gd name="textAreaRight" fmla="*/ 5220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6389640" y="600876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зад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5000760" y="4791240"/>
            <a:ext cx="21564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4986360" y="47592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5283360" y="4508640"/>
            <a:ext cx="28872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flipH="1">
            <a:off x="5289120" y="4743360"/>
            <a:ext cx="2890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5498640" y="4743360"/>
            <a:ext cx="50508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 flipV="1">
            <a:off x="5283360" y="4759200"/>
            <a:ext cx="720720" cy="90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5533920" y="4518000"/>
            <a:ext cx="0" cy="216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5527440" y="4451400"/>
            <a:ext cx="153720" cy="144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600880" y="4221000"/>
            <a:ext cx="92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5938920" y="4587840"/>
            <a:ext cx="7920" cy="152280"/>
          </a:xfrm>
          <a:custGeom>
            <a:avLst/>
            <a:gdLst/>
            <a:ahLst/>
            <a:rect l="l" t="t" r="r" b="b"/>
            <a:pathLst>
              <a:path w="5" h="96">
                <a:moveTo>
                  <a:pt x="0" y="0"/>
                </a:moveTo>
                <a:cubicBezTo>
                  <a:pt x="1" y="8"/>
                  <a:pt x="3" y="32"/>
                  <a:pt x="4" y="48"/>
                </a:cubicBezTo>
                <a:cubicBezTo>
                  <a:pt x="5" y="64"/>
                  <a:pt x="4" y="86"/>
                  <a:pt x="4" y="96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913360" y="4834080"/>
            <a:ext cx="25560" cy="171360"/>
          </a:xfrm>
          <a:custGeom>
            <a:avLst/>
            <a:gdLst/>
            <a:ahLst/>
            <a:rect l="l" t="t" r="r" b="b"/>
            <a:pathLst>
              <a:path w="16" h="108">
                <a:moveTo>
                  <a:pt x="0" y="108"/>
                </a:moveTo>
                <a:cubicBezTo>
                  <a:pt x="1" y="101"/>
                  <a:pt x="9" y="82"/>
                  <a:pt x="12" y="64"/>
                </a:cubicBezTo>
                <a:cubicBezTo>
                  <a:pt x="15" y="46"/>
                  <a:pt x="15" y="13"/>
                  <a:pt x="16" y="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340080" y="4941720"/>
            <a:ext cx="0" cy="122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>
            <a:off x="3340080" y="6093000"/>
            <a:ext cx="194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249880" y="6059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3308400" y="60548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4084560" y="58183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5919840" y="4630680"/>
            <a:ext cx="1123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058160" y="4340160"/>
            <a:ext cx="169560" cy="2184480"/>
          </a:xfrm>
          <a:custGeom>
            <a:avLst/>
            <a:gdLst>
              <a:gd name="textAreaLeft" fmla="*/ 0 w 169560"/>
              <a:gd name="textAreaRight" fmla="*/ 61200 w 169560"/>
              <a:gd name="textAreaTop" fmla="*/ 56880 h 2184480"/>
              <a:gd name="textAreaBottom" fmla="*/ 2127600 h 218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7240680" y="5038560"/>
            <a:ext cx="15793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се перем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злов извест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ходя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из условий совместности перемещений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573200" y="201132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3" dur="indefinite" restart="never" nodeType="tmRoot">
          <p:childTnLst>
            <p:seq>
              <p:cTn id="3694" dur="indefinite" nodeType="mainSeq">
                <p:childTnLst>
                  <p:par>
                    <p:cTn id="3695" fill="hold">
                      <p:stCondLst>
                        <p:cond delay="0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9" dur="80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0" dur="80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1" dur="80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6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9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8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1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4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1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4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37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0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3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9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5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8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1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7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0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3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9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2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3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6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1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4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7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0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6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2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fill="hold">
                      <p:stCondLst>
                        <p:cond delay="indefinite"/>
                      </p:stCondLst>
                      <p:childTnLst>
                        <p:par>
                          <p:cTn id="3834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7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0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3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6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9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2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5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8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0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2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5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6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0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1" dur="1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6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0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1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7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1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2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5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0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1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6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0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2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5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6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5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6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0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1" dur="1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2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5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6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7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0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1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5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6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7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fill="hold">
                      <p:stCondLst>
                        <p:cond delay="indefinite"/>
                      </p:stCondLst>
                      <p:childTnLst>
                        <p:par>
                          <p:cTn id="3969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2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3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4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7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8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9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0" fill="hold">
                      <p:stCondLst>
                        <p:cond delay="indefinite"/>
                      </p:stCondLst>
                      <p:childTnLst>
                        <p:par>
                          <p:cTn id="3981" fill="hold">
                            <p:stCondLst>
                              <p:cond delay="0"/>
                            </p:stCondLst>
                            <p:childTnLst>
                              <p:par>
                                <p:cTn id="39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4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7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0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9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7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0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3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9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2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5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8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1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7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3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4" fill="hold">
                      <p:stCondLst>
                        <p:cond delay="indefinite"/>
                      </p:stCondLst>
                      <p:childTnLst>
                        <p:par>
                          <p:cTn id="4055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4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7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0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3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6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9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2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5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8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3" dur="80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4" dur="80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5" dur="80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6" fill="hold">
                      <p:stCondLst>
                        <p:cond delay="indefinite"/>
                      </p:stCondLst>
                      <p:childTnLst>
                        <p:par>
                          <p:cTn id="4097" fill="hold">
                            <p:stCondLst>
                              <p:cond delay="0"/>
                            </p:stCondLst>
                            <p:childTnLst>
                              <p:par>
                                <p:cTn id="40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0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3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9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2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5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8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1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4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7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0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3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4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2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1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4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fill="hold">
                      <p:stCondLst>
                        <p:cond delay="indefinite"/>
                      </p:stCondLst>
                      <p:childTnLst>
                        <p:par>
                          <p:cTn id="4166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8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1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7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86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fill="hold">
                      <p:stCondLst>
                        <p:cond delay="indefinite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5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8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1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7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0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5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8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1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4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7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0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6" dur="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9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2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5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0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1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2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6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7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2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6" fill="hold">
                      <p:stCondLst>
                        <p:cond delay="indefinite"/>
                      </p:stCondLst>
                      <p:childTnLst>
                        <p:par>
                          <p:cTn id="4267" fill="hold">
                            <p:stCondLst>
                              <p:cond delay="0"/>
                            </p:stCondLst>
                            <p:childTnLst>
                              <p:par>
                                <p:cTn id="4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3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6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9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7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3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6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9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1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4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5" fill="hold">
                      <p:stCondLst>
                        <p:cond delay="indefinite"/>
                      </p:stCondLst>
                      <p:childTnLst>
                        <p:par>
                          <p:cTn id="4316" fill="hold">
                            <p:stCondLst>
                              <p:cond delay="0"/>
                            </p:stCondLst>
                            <p:childTnLst>
                              <p:par>
                                <p:cTn id="43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1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4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6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468360" y="692280"/>
            <a:ext cx="8207280" cy="63252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кинематической неопределимости (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)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уммар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зависимых углов поворота и линейных перемещений расчётных узлов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132000" y="1222200"/>
            <a:ext cx="1957680" cy="579600"/>
          </a:xfrm>
          <a:prstGeom prst="rect">
            <a:avLst/>
          </a:prstGeom>
          <a:solidFill>
            <a:srgbClr val="d6ecee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4741920" y="1687680"/>
            <a:ext cx="252360" cy="21564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lnTo>
                  <a:pt x="0" y="91"/>
                </a:lnTo>
                <a:lnTo>
                  <a:pt x="227" y="91"/>
                </a:lnTo>
              </a:path>
            </a:pathLst>
          </a:custGeom>
          <a:noFill/>
          <a:ln w="5724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4008600" y="1700280"/>
            <a:ext cx="1008000" cy="43164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lnTo>
                  <a:pt x="0" y="91"/>
                </a:lnTo>
                <a:lnTo>
                  <a:pt x="227" y="91"/>
                </a:lnTo>
              </a:path>
            </a:pathLst>
          </a:custGeom>
          <a:noFill/>
          <a:ln w="5724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4932360" y="172548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тепень линейной подви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4950000" y="1940040"/>
            <a:ext cx="27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тепень угловой подви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718400" y="1822320"/>
            <a:ext cx="1224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асчё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з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765920" y="1844640"/>
            <a:ext cx="71640" cy="360360"/>
          </a:xfrm>
          <a:custGeom>
            <a:avLst/>
            <a:gdLst>
              <a:gd name="textAreaLeft" fmla="*/ 0 w 71640"/>
              <a:gd name="textAreaRight" fmla="*/ 25920 w 71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042920" y="2278080"/>
            <a:ext cx="1368360" cy="1582560"/>
          </a:xfrm>
          <a:custGeom>
            <a:avLst/>
            <a:gdLst/>
            <a:ahLst/>
            <a:rect l="l" t="t" r="r" b="b"/>
            <a:pathLst>
              <a:path w="862" h="997">
                <a:moveTo>
                  <a:pt x="0" y="997"/>
                </a:moveTo>
                <a:lnTo>
                  <a:pt x="0" y="0"/>
                </a:lnTo>
                <a:lnTo>
                  <a:pt x="862" y="0"/>
                </a:lnTo>
                <a:lnTo>
                  <a:pt x="862" y="997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411280" y="2925720"/>
            <a:ext cx="1008360" cy="934920"/>
          </a:xfrm>
          <a:custGeom>
            <a:avLst/>
            <a:gdLst/>
            <a:ahLst/>
            <a:rect l="l" t="t" r="r" b="b"/>
            <a:pathLst>
              <a:path w="635" h="589">
                <a:moveTo>
                  <a:pt x="0" y="0"/>
                </a:moveTo>
                <a:lnTo>
                  <a:pt x="635" y="0"/>
                </a:lnTo>
                <a:lnTo>
                  <a:pt x="635" y="589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3276720" y="3859200"/>
            <a:ext cx="287280" cy="10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276720" y="38685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900000" y="3879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900000" y="3860640"/>
            <a:ext cx="287280" cy="1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900000" y="3870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268360" y="3860640"/>
            <a:ext cx="287640" cy="10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268360" y="3860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1046160" y="2317680"/>
            <a:ext cx="1727280" cy="1542960"/>
          </a:xfrm>
          <a:custGeom>
            <a:avLst/>
            <a:gdLst/>
            <a:ahLst/>
            <a:rect l="l" t="t" r="r" b="b"/>
            <a:pathLst>
              <a:path w="1088" h="972">
                <a:moveTo>
                  <a:pt x="1" y="972"/>
                </a:moveTo>
                <a:cubicBezTo>
                  <a:pt x="2" y="959"/>
                  <a:pt x="0" y="932"/>
                  <a:pt x="5" y="892"/>
                </a:cubicBezTo>
                <a:cubicBezTo>
                  <a:pt x="10" y="852"/>
                  <a:pt x="18" y="789"/>
                  <a:pt x="33" y="732"/>
                </a:cubicBezTo>
                <a:cubicBezTo>
                  <a:pt x="48" y="675"/>
                  <a:pt x="70" y="615"/>
                  <a:pt x="93" y="548"/>
                </a:cubicBezTo>
                <a:cubicBezTo>
                  <a:pt x="116" y="481"/>
                  <a:pt x="148" y="401"/>
                  <a:pt x="169" y="332"/>
                </a:cubicBezTo>
                <a:cubicBezTo>
                  <a:pt x="190" y="263"/>
                  <a:pt x="205" y="189"/>
                  <a:pt x="217" y="136"/>
                </a:cubicBezTo>
                <a:cubicBezTo>
                  <a:pt x="229" y="83"/>
                  <a:pt x="233" y="76"/>
                  <a:pt x="241" y="16"/>
                </a:cubicBezTo>
                <a:cubicBezTo>
                  <a:pt x="333" y="32"/>
                  <a:pt x="383" y="51"/>
                  <a:pt x="437" y="60"/>
                </a:cubicBezTo>
                <a:cubicBezTo>
                  <a:pt x="502" y="69"/>
                  <a:pt x="574" y="71"/>
                  <a:pt x="629" y="72"/>
                </a:cubicBezTo>
                <a:cubicBezTo>
                  <a:pt x="684" y="73"/>
                  <a:pt x="731" y="68"/>
                  <a:pt x="769" y="64"/>
                </a:cubicBezTo>
                <a:cubicBezTo>
                  <a:pt x="807" y="60"/>
                  <a:pt x="826" y="54"/>
                  <a:pt x="857" y="48"/>
                </a:cubicBezTo>
                <a:cubicBezTo>
                  <a:pt x="888" y="42"/>
                  <a:pt x="921" y="36"/>
                  <a:pt x="953" y="28"/>
                </a:cubicBezTo>
                <a:cubicBezTo>
                  <a:pt x="985" y="20"/>
                  <a:pt x="989" y="16"/>
                  <a:pt x="1049" y="0"/>
                </a:cubicBezTo>
                <a:cubicBezTo>
                  <a:pt x="1065" y="56"/>
                  <a:pt x="1067" y="63"/>
                  <a:pt x="1073" y="104"/>
                </a:cubicBezTo>
                <a:cubicBezTo>
                  <a:pt x="1079" y="145"/>
                  <a:pt x="1088" y="199"/>
                  <a:pt x="1087" y="246"/>
                </a:cubicBezTo>
                <a:cubicBezTo>
                  <a:pt x="1086" y="293"/>
                  <a:pt x="1075" y="342"/>
                  <a:pt x="1065" y="388"/>
                </a:cubicBezTo>
                <a:cubicBezTo>
                  <a:pt x="1055" y="434"/>
                  <a:pt x="1044" y="475"/>
                  <a:pt x="1025" y="524"/>
                </a:cubicBezTo>
                <a:cubicBezTo>
                  <a:pt x="1006" y="573"/>
                  <a:pt x="975" y="635"/>
                  <a:pt x="953" y="680"/>
                </a:cubicBezTo>
                <a:cubicBezTo>
                  <a:pt x="931" y="725"/>
                  <a:pt x="908" y="755"/>
                  <a:pt x="893" y="792"/>
                </a:cubicBezTo>
                <a:cubicBezTo>
                  <a:pt x="878" y="829"/>
                  <a:pt x="866" y="874"/>
                  <a:pt x="861" y="904"/>
                </a:cubicBezTo>
                <a:cubicBezTo>
                  <a:pt x="856" y="934"/>
                  <a:pt x="860" y="958"/>
                  <a:pt x="860" y="9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711520" y="2984400"/>
            <a:ext cx="1015920" cy="844560"/>
          </a:xfrm>
          <a:custGeom>
            <a:avLst/>
            <a:gdLst/>
            <a:ahLst/>
            <a:rect l="l" t="t" r="r" b="b"/>
            <a:pathLst>
              <a:path w="640" h="532">
                <a:moveTo>
                  <a:pt x="0" y="4"/>
                </a:moveTo>
                <a:cubicBezTo>
                  <a:pt x="11" y="7"/>
                  <a:pt x="37" y="17"/>
                  <a:pt x="68" y="24"/>
                </a:cubicBezTo>
                <a:cubicBezTo>
                  <a:pt x="99" y="31"/>
                  <a:pt x="137" y="39"/>
                  <a:pt x="188" y="44"/>
                </a:cubicBezTo>
                <a:cubicBezTo>
                  <a:pt x="239" y="49"/>
                  <a:pt x="316" y="58"/>
                  <a:pt x="372" y="56"/>
                </a:cubicBezTo>
                <a:cubicBezTo>
                  <a:pt x="428" y="54"/>
                  <a:pt x="484" y="41"/>
                  <a:pt x="524" y="32"/>
                </a:cubicBezTo>
                <a:cubicBezTo>
                  <a:pt x="564" y="23"/>
                  <a:pt x="564" y="20"/>
                  <a:pt x="612" y="0"/>
                </a:cubicBezTo>
                <a:cubicBezTo>
                  <a:pt x="636" y="64"/>
                  <a:pt x="640" y="94"/>
                  <a:pt x="640" y="144"/>
                </a:cubicBezTo>
                <a:cubicBezTo>
                  <a:pt x="640" y="194"/>
                  <a:pt x="629" y="251"/>
                  <a:pt x="612" y="300"/>
                </a:cubicBezTo>
                <a:cubicBezTo>
                  <a:pt x="595" y="349"/>
                  <a:pt x="565" y="397"/>
                  <a:pt x="540" y="436"/>
                </a:cubicBezTo>
                <a:cubicBezTo>
                  <a:pt x="515" y="475"/>
                  <a:pt x="480" y="512"/>
                  <a:pt x="464" y="5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065240" y="256536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476360" y="2120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908000" y="2198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124000" y="2198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340000" y="2178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556000" y="212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1692360" y="2173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1042920" y="2278080"/>
            <a:ext cx="1368360" cy="1582560"/>
          </a:xfrm>
          <a:custGeom>
            <a:avLst/>
            <a:gdLst/>
            <a:ahLst/>
            <a:rect l="l" t="t" r="r" b="b"/>
            <a:pathLst>
              <a:path w="862" h="997">
                <a:moveTo>
                  <a:pt x="0" y="997"/>
                </a:moveTo>
                <a:lnTo>
                  <a:pt x="0" y="0"/>
                </a:lnTo>
                <a:lnTo>
                  <a:pt x="862" y="0"/>
                </a:lnTo>
                <a:lnTo>
                  <a:pt x="862" y="99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411280" y="2925720"/>
            <a:ext cx="1008360" cy="934920"/>
          </a:xfrm>
          <a:custGeom>
            <a:avLst/>
            <a:gdLst/>
            <a:ahLst/>
            <a:rect l="l" t="t" r="r" b="b"/>
            <a:pathLst>
              <a:path w="635" h="589">
                <a:moveTo>
                  <a:pt x="0" y="0"/>
                </a:moveTo>
                <a:lnTo>
                  <a:pt x="635" y="0"/>
                </a:lnTo>
                <a:lnTo>
                  <a:pt x="635" y="5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373560" y="38116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1442880" y="240048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1428840" y="23684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516040" y="2387520"/>
            <a:ext cx="21600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502000" y="23558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681280" y="3054240"/>
            <a:ext cx="21600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660760" y="30225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708360" y="275436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681360" y="2722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419640" y="2746440"/>
            <a:ext cx="0" cy="21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666960" y="2984400"/>
            <a:ext cx="433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411280" y="1989000"/>
            <a:ext cx="289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052880" y="291780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217600" y="2333520"/>
            <a:ext cx="39960" cy="141480"/>
          </a:xfrm>
          <a:custGeom>
            <a:avLst/>
            <a:gdLst/>
            <a:ahLst/>
            <a:rect l="l" t="t" r="r" b="b"/>
            <a:pathLst>
              <a:path w="25" h="89">
                <a:moveTo>
                  <a:pt x="0" y="0"/>
                </a:moveTo>
                <a:cubicBezTo>
                  <a:pt x="1" y="7"/>
                  <a:pt x="2" y="27"/>
                  <a:pt x="6" y="42"/>
                </a:cubicBezTo>
                <a:cubicBezTo>
                  <a:pt x="10" y="57"/>
                  <a:pt x="21" y="79"/>
                  <a:pt x="25" y="89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871720" y="226368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900000" y="227952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419640" y="2800440"/>
            <a:ext cx="252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1036800" y="1989000"/>
            <a:ext cx="395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673440" y="2749680"/>
            <a:ext cx="0" cy="57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2411280" y="1941480"/>
            <a:ext cx="0" cy="324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1036800" y="1941480"/>
            <a:ext cx="0" cy="324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422360" y="1947960"/>
            <a:ext cx="0" cy="395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706840" y="1941480"/>
            <a:ext cx="0" cy="395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2411280" y="2270160"/>
            <a:ext cx="505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846000" y="2346480"/>
            <a:ext cx="576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195640" y="2327400"/>
            <a:ext cx="7207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839880" y="2278080"/>
            <a:ext cx="215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3949560" y="2917800"/>
            <a:ext cx="1429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430360" y="2793960"/>
            <a:ext cx="289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719440" y="2755800"/>
            <a:ext cx="0" cy="21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228760" y="2997360"/>
            <a:ext cx="1008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2281320" y="293040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241720" y="2924280"/>
            <a:ext cx="1425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1428840" y="2349360"/>
            <a:ext cx="0" cy="71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1325520" y="2344680"/>
            <a:ext cx="108000" cy="711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706840" y="3003480"/>
            <a:ext cx="496800" cy="162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3686040" y="2978280"/>
            <a:ext cx="162000" cy="3124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332000" y="2992320"/>
            <a:ext cx="92160" cy="14400"/>
          </a:xfrm>
          <a:custGeom>
            <a:avLst/>
            <a:gdLst/>
            <a:ahLst/>
            <a:rect l="l" t="t" r="r" b="b"/>
            <a:pathLst>
              <a:path w="58" h="9">
                <a:moveTo>
                  <a:pt x="58" y="8"/>
                </a:moveTo>
                <a:cubicBezTo>
                  <a:pt x="54" y="8"/>
                  <a:pt x="41" y="9"/>
                  <a:pt x="31" y="8"/>
                </a:cubicBezTo>
                <a:cubicBezTo>
                  <a:pt x="21" y="7"/>
                  <a:pt x="6" y="2"/>
                  <a:pt x="0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174840" y="3005280"/>
            <a:ext cx="34920" cy="153720"/>
          </a:xfrm>
          <a:custGeom>
            <a:avLst/>
            <a:gdLst/>
            <a:ahLst/>
            <a:rect l="l" t="t" r="r" b="b"/>
            <a:pathLst>
              <a:path w="22" h="97">
                <a:moveTo>
                  <a:pt x="22" y="0"/>
                </a:moveTo>
                <a:cubicBezTo>
                  <a:pt x="21" y="7"/>
                  <a:pt x="22" y="32"/>
                  <a:pt x="18" y="48"/>
                </a:cubicBezTo>
                <a:cubicBezTo>
                  <a:pt x="14" y="64"/>
                  <a:pt x="4" y="87"/>
                  <a:pt x="0" y="97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676680" y="3270240"/>
            <a:ext cx="158760" cy="31680"/>
          </a:xfrm>
          <a:custGeom>
            <a:avLst/>
            <a:gdLst/>
            <a:ahLst/>
            <a:rect l="l" t="t" r="r" b="b"/>
            <a:pathLst>
              <a:path w="100" h="20">
                <a:moveTo>
                  <a:pt x="0" y="20"/>
                </a:moveTo>
                <a:cubicBezTo>
                  <a:pt x="9" y="19"/>
                  <a:pt x="35" y="19"/>
                  <a:pt x="52" y="16"/>
                </a:cubicBezTo>
                <a:cubicBezTo>
                  <a:pt x="69" y="13"/>
                  <a:pt x="90" y="3"/>
                  <a:pt x="100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 flipV="1">
            <a:off x="2211480" y="2329920"/>
            <a:ext cx="504720" cy="1587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1068480" y="1684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77800" y="21398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994040" y="23781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1235160" y="29685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137040" y="30193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373480" y="1684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857680" y="21351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392200" y="25002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960560" y="27939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029120" y="27828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362400" y="24955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659040" y="32446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35600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356000" y="252720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219640" y="240840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364000" y="2395440"/>
            <a:ext cx="936720" cy="440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406760" y="303696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менение гипотезы               д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529320" y="2976480"/>
                <a:ext cx="7016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4427640" y="334980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440240" y="362592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804000" y="33368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804000" y="361332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7667640" y="3468600"/>
            <a:ext cx="73080" cy="43200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7812000" y="3456000"/>
            <a:ext cx="936720" cy="440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 rot="5400000">
            <a:off x="6405480" y="3603600"/>
            <a:ext cx="479160" cy="180720"/>
          </a:xfrm>
          <a:prstGeom prst="triangle">
            <a:avLst>
              <a:gd name="adj" fmla="val 50000"/>
            </a:avLst>
          </a:prstGeom>
          <a:solidFill>
            <a:srgbClr val="d6ece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24000" y="4094280"/>
            <a:ext cx="1511280" cy="792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433440" y="4076640"/>
                <a:ext cx="1584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ж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у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ж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у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2" name=""/>
          <p:cNvSpPr/>
          <p:nvPr/>
        </p:nvSpPr>
        <p:spPr>
          <a:xfrm>
            <a:off x="1720800" y="4149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ля плоск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717560" y="4460760"/>
            <a:ext cx="30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ля пространствен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542880" y="5037120"/>
            <a:ext cx="360360" cy="479520"/>
          </a:xfrm>
          <a:custGeom>
            <a:avLst/>
            <a:gdLst/>
            <a:ahLst/>
            <a:rect l="l" t="t" r="r" b="b"/>
            <a:pathLst>
              <a:path w="227" h="302">
                <a:moveTo>
                  <a:pt x="0" y="75"/>
                </a:moveTo>
                <a:lnTo>
                  <a:pt x="227" y="302"/>
                </a:lnTo>
                <a:lnTo>
                  <a:pt x="22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rot="5400000">
            <a:off x="1035720" y="5121720"/>
            <a:ext cx="360360" cy="479520"/>
          </a:xfrm>
          <a:custGeom>
            <a:avLst/>
            <a:gdLst/>
            <a:ahLst/>
            <a:rect l="l" t="t" r="r" b="b"/>
            <a:pathLst>
              <a:path w="227" h="302">
                <a:moveTo>
                  <a:pt x="0" y="75"/>
                </a:moveTo>
                <a:lnTo>
                  <a:pt x="227" y="302"/>
                </a:lnTo>
                <a:lnTo>
                  <a:pt x="22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rot="16200000">
            <a:off x="454680" y="5527800"/>
            <a:ext cx="360360" cy="479520"/>
          </a:xfrm>
          <a:custGeom>
            <a:avLst/>
            <a:gdLst/>
            <a:ahLst/>
            <a:rect l="l" t="t" r="r" b="b"/>
            <a:pathLst>
              <a:path w="227" h="302">
                <a:moveTo>
                  <a:pt x="0" y="75"/>
                </a:moveTo>
                <a:lnTo>
                  <a:pt x="227" y="302"/>
                </a:lnTo>
                <a:lnTo>
                  <a:pt x="22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880920" y="55245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822240" y="54165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0" y="18"/>
                </a:moveTo>
                <a:lnTo>
                  <a:pt x="49" y="0"/>
                </a:lnTo>
                <a:lnTo>
                  <a:pt x="45" y="48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995400" y="5473800"/>
            <a:ext cx="73080" cy="63360"/>
          </a:xfrm>
          <a:custGeom>
            <a:avLst/>
            <a:gdLst/>
            <a:ahLst/>
            <a:rect l="l" t="t" r="r" b="b"/>
            <a:pathLst>
              <a:path w="46" h="40">
                <a:moveTo>
                  <a:pt x="0" y="38"/>
                </a:moveTo>
                <a:lnTo>
                  <a:pt x="28" y="0"/>
                </a:lnTo>
                <a:lnTo>
                  <a:pt x="46" y="4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7640" bIns="176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776160" y="5591160"/>
            <a:ext cx="88920" cy="66600"/>
          </a:xfrm>
          <a:custGeom>
            <a:avLst/>
            <a:gdLst/>
            <a:ahLst/>
            <a:rect l="l" t="t" r="r" b="b"/>
            <a:pathLst>
              <a:path w="56" h="42">
                <a:moveTo>
                  <a:pt x="0" y="2"/>
                </a:moveTo>
                <a:lnTo>
                  <a:pt x="56" y="0"/>
                </a:lnTo>
                <a:lnTo>
                  <a:pt x="20" y="4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395280" y="605628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ж.у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 rot="10800000">
            <a:off x="955440" y="5613480"/>
            <a:ext cx="360360" cy="479520"/>
          </a:xfrm>
          <a:custGeom>
            <a:avLst/>
            <a:gdLst/>
            <a:ahLst/>
            <a:rect l="l" t="t" r="r" b="b"/>
            <a:pathLst>
              <a:path w="227" h="302">
                <a:moveTo>
                  <a:pt x="0" y="75"/>
                </a:moveTo>
                <a:lnTo>
                  <a:pt x="227" y="302"/>
                </a:lnTo>
                <a:lnTo>
                  <a:pt x="22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954000" y="5641920"/>
            <a:ext cx="69840" cy="63720"/>
          </a:xfrm>
          <a:custGeom>
            <a:avLst/>
            <a:gdLst/>
            <a:ahLst/>
            <a:rect l="l" t="t" r="r" b="b"/>
            <a:pathLst>
              <a:path w="44" h="40">
                <a:moveTo>
                  <a:pt x="4" y="0"/>
                </a:moveTo>
                <a:lnTo>
                  <a:pt x="44" y="24"/>
                </a:lnTo>
                <a:lnTo>
                  <a:pt x="0" y="4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8000" bIns="180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716360" y="4430880"/>
            <a:ext cx="4176720" cy="4057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пределения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арнирна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063880" y="5229360"/>
            <a:ext cx="636480" cy="666720"/>
          </a:xfrm>
          <a:custGeom>
            <a:avLst/>
            <a:gdLst/>
            <a:ahLst/>
            <a:rect l="l" t="t" r="r" b="b"/>
            <a:pathLst>
              <a:path w="401" h="420">
                <a:moveTo>
                  <a:pt x="221" y="0"/>
                </a:moveTo>
                <a:lnTo>
                  <a:pt x="0" y="333"/>
                </a:lnTo>
                <a:lnTo>
                  <a:pt x="401" y="4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022480" y="57150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243160" y="5510160"/>
            <a:ext cx="138240" cy="3049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0" y="0"/>
                </a:moveTo>
                <a:lnTo>
                  <a:pt x="6" y="27"/>
                </a:lnTo>
                <a:lnTo>
                  <a:pt x="45" y="24"/>
                </a:lnTo>
                <a:lnTo>
                  <a:pt x="39" y="60"/>
                </a:lnTo>
                <a:lnTo>
                  <a:pt x="78" y="69"/>
                </a:lnTo>
                <a:lnTo>
                  <a:pt x="57" y="102"/>
                </a:lnTo>
                <a:lnTo>
                  <a:pt x="87" y="120"/>
                </a:lnTo>
                <a:lnTo>
                  <a:pt x="54" y="147"/>
                </a:lnTo>
                <a:lnTo>
                  <a:pt x="87" y="168"/>
                </a:lnTo>
                <a:lnTo>
                  <a:pt x="66" y="1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763640" y="6054840"/>
            <a:ext cx="10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ж.у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798720" y="6089760"/>
            <a:ext cx="1043280" cy="35856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3745080" y="5996160"/>
            <a:ext cx="50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д.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= W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ш.с.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 Narrow"/>
              </a:rPr>
              <a:t>если Ш.С. – без лишних связей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984480" y="3990960"/>
            <a:ext cx="50022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300" spc="-1" strike="noStrike" baseline="-25000">
                <a:solidFill>
                  <a:srgbClr val="000000"/>
                </a:solidFill>
                <a:latin typeface="Times New Roman"/>
              </a:rPr>
              <a:t>ж.у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учитываются неопорные узлы с припайками, а такж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узлы 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 т.ч. опорные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) с упругоподатливыми угловым связям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814920" y="4272120"/>
            <a:ext cx="257040" cy="252360"/>
          </a:xfrm>
          <a:custGeom>
            <a:avLst/>
            <a:gdLst/>
            <a:ahLst/>
            <a:rect l="l" t="t" r="r" b="b"/>
            <a:pathLst>
              <a:path w="162" h="159">
                <a:moveTo>
                  <a:pt x="0" y="54"/>
                </a:moveTo>
                <a:lnTo>
                  <a:pt x="87" y="39"/>
                </a:lnTo>
                <a:lnTo>
                  <a:pt x="51" y="0"/>
                </a:lnTo>
                <a:lnTo>
                  <a:pt x="162" y="9"/>
                </a:lnTo>
                <a:lnTo>
                  <a:pt x="135" y="120"/>
                </a:lnTo>
                <a:lnTo>
                  <a:pt x="114" y="62"/>
                </a:lnTo>
                <a:lnTo>
                  <a:pt x="69" y="159"/>
                </a:lnTo>
                <a:lnTo>
                  <a:pt x="57" y="87"/>
                </a:lnTo>
                <a:lnTo>
                  <a:pt x="0" y="54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198960" y="4811760"/>
            <a:ext cx="57150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арнирная систем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получается из задан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утём введения цилиндрических шарниров 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 пространственной системе – шаровых шарниров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 во все жёсткие узлы, включ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орные защемления, и продольных поступательных шарниров в стержни, для которых требуется учитывать удли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корочения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 при их растяжении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жатии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,  а также удалением всех упругих связей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линейных и угловых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123920" y="4809960"/>
            <a:ext cx="197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.у. – жёсткие узлы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402080" y="6357960"/>
            <a:ext cx="26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.с. – дополнительные связ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7" dur="indefinite" restart="never" nodeType="tmRoot">
          <p:childTnLst>
            <p:seq>
              <p:cTn id="4328" dur="indefinite" nodeType="mainSeq">
                <p:childTnLst>
                  <p:par>
                    <p:cTn id="4329" fill="hold">
                      <p:stCondLst>
                        <p:cond delay="0"/>
                      </p:stCondLst>
                      <p:childTnLst>
                        <p:par>
                          <p:cTn id="4330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3" dur="80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4" dur="80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5" dur="80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6" fill="hold">
                      <p:stCondLst>
                        <p:cond delay="indefinite"/>
                      </p:stCondLst>
                      <p:childTnLst>
                        <p:par>
                          <p:cTn id="4337" fill="hold">
                            <p:stCondLst>
                              <p:cond delay="0"/>
                            </p:stCondLst>
                            <p:childTnLst>
                              <p:par>
                                <p:cTn id="4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0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1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2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7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8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9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2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3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4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5" fill="hold">
                      <p:stCondLst>
                        <p:cond delay="indefinite"/>
                      </p:stCondLst>
                      <p:childTnLst>
                        <p:par>
                          <p:cTn id="4356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2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3" fill="hold">
                      <p:stCondLst>
                        <p:cond delay="indefinite"/>
                      </p:stCondLst>
                      <p:childTnLst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7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8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9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2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3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4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9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2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5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8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1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3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2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3" fill="hold">
                      <p:stCondLst>
                        <p:cond delay="indefinite"/>
                      </p:stCondLst>
                      <p:childTnLst>
                        <p:par>
                          <p:cTn id="4414" fill="hold">
                            <p:stCondLst>
                              <p:cond delay="0"/>
                            </p:stCondLst>
                            <p:childTnLst>
                              <p:par>
                                <p:cTn id="4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6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1" fill="hold">
                      <p:stCondLst>
                        <p:cond delay="indefinite"/>
                      </p:stCondLst>
                      <p:childTnLst>
                        <p:par>
                          <p:cTn id="4422" fill="hold">
                            <p:stCondLst>
                              <p:cond delay="0"/>
                            </p:stCondLst>
                            <p:childTnLst>
                              <p:par>
                                <p:cTn id="4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5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8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1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4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7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9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0" fill="hold">
                      <p:stCondLst>
                        <p:cond delay="indefinite"/>
                      </p:stCondLst>
                      <p:childTnLst>
                        <p:par>
                          <p:cTn id="4451" fill="hold">
                            <p:stCondLst>
                              <p:cond delay="0"/>
                            </p:stCondLst>
                            <p:childTnLst>
                              <p:par>
                                <p:cTn id="4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4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0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3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6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2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5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6" fill="hold">
                      <p:stCondLst>
                        <p:cond delay="indefinite"/>
                      </p:stCondLst>
                      <p:childTnLst>
                        <p:par>
                          <p:cTn id="4477" fill="hold">
                            <p:stCondLst>
                              <p:cond delay="0"/>
                            </p:stCondLst>
                            <p:childTnLst>
                              <p:par>
                                <p:cTn id="4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3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6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9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2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5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1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4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7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0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3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4" fill="hold">
                      <p:stCondLst>
                        <p:cond delay="indefinite"/>
                      </p:stCondLst>
                      <p:childTnLst>
                        <p:par>
                          <p:cTn id="4515" fill="hold">
                            <p:stCondLst>
                              <p:cond delay="0"/>
                            </p:stCondLst>
                            <p:childTnLst>
                              <p:par>
                                <p:cTn id="4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8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1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4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7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0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6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9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2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9" fill="hold">
                      <p:stCondLst>
                        <p:cond delay="indefinite"/>
                      </p:stCondLst>
                      <p:childTnLst>
                        <p:par>
                          <p:cTn id="4550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3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9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2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8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1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4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7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0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1" fill="hold">
                      <p:stCondLst>
                        <p:cond delay="indefinite"/>
                      </p:stCondLst>
                      <p:childTnLst>
                        <p:par>
                          <p:cTn id="4582" fill="hold">
                            <p:stCondLst>
                              <p:cond delay="0"/>
                            </p:stCondLst>
                            <p:childTnLst>
                              <p:par>
                                <p:cTn id="4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5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8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1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4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0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6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9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2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fill="hold">
                      <p:stCondLst>
                        <p:cond delay="indefinite"/>
                      </p:stCondLst>
                      <p:childTnLst>
                        <p:par>
                          <p:cTn id="4617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0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2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3" fill="hold">
                      <p:stCondLst>
                        <p:cond delay="indefinite"/>
                      </p:stCondLst>
                      <p:childTnLst>
                        <p:par>
                          <p:cTn id="4624" fill="hold">
                            <p:stCondLst>
                              <p:cond delay="0"/>
                            </p:stCondLst>
                            <p:childTnLst>
                              <p:par>
                                <p:cTn id="4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8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9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0" fill="hold">
                      <p:stCondLst>
                        <p:cond delay="indefinite"/>
                      </p:stCondLst>
                      <p:childTnLst>
                        <p:par>
                          <p:cTn id="4631" fill="hold">
                            <p:stCondLst>
                              <p:cond delay="0"/>
                            </p:stCondLst>
                            <p:childTnLst>
                              <p:par>
                                <p:cTn id="4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4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7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8" fill="hold">
                      <p:stCondLst>
                        <p:cond delay="indefinite"/>
                      </p:stCondLst>
                      <p:childTnLst>
                        <p:par>
                          <p:cTn id="4639" fill="hold">
                            <p:stCondLst>
                              <p:cond delay="0"/>
                            </p:stCondLst>
                            <p:childTnLst>
                              <p:par>
                                <p:cTn id="46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2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3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4" dur="1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7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8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9" dur="1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0" fill="hold">
                      <p:stCondLst>
                        <p:cond delay="indefinite"/>
                      </p:stCondLst>
                      <p:childTnLst>
                        <p:par>
                          <p:cTn id="4651" fill="hold">
                            <p:stCondLst>
                              <p:cond delay="0"/>
                            </p:stCondLst>
                            <p:childTnLst>
                              <p:par>
                                <p:cTn id="4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5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6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1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2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3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4" fill="hold">
                      <p:stCondLst>
                        <p:cond delay="indefinite"/>
                      </p:stCondLst>
                      <p:childTnLst>
                        <p:par>
                          <p:cTn id="4665" fill="hold">
                            <p:stCondLst>
                              <p:cond delay="0"/>
                            </p:stCondLst>
                            <p:childTnLst>
                              <p:par>
                                <p:cTn id="4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8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9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0" dur="1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3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4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5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6" fill="hold">
                      <p:stCondLst>
                        <p:cond delay="indefinite"/>
                      </p:stCondLst>
                      <p:childTnLst>
                        <p:par>
                          <p:cTn id="4677" fill="hold">
                            <p:stCondLst>
                              <p:cond delay="0"/>
                            </p:stCondLst>
                            <p:childTnLst>
                              <p:par>
                                <p:cTn id="4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0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1" fill="hold">
                      <p:stCondLst>
                        <p:cond delay="indefinite"/>
                      </p:stCondLst>
                      <p:childTnLst>
                        <p:par>
                          <p:cTn id="4682" fill="hold">
                            <p:stCondLst>
                              <p:cond delay="0"/>
                            </p:stCondLst>
                            <p:childTnLst>
                              <p:par>
                                <p:cTn id="4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8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9" fill="hold">
                      <p:stCondLst>
                        <p:cond delay="indefinite"/>
                      </p:stCondLst>
                      <p:childTnLst>
                        <p:par>
                          <p:cTn id="4690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3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4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5" dur="1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8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0" dur="1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5" dur="80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6" dur="80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7" dur="80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8" fill="hold">
                      <p:stCondLst>
                        <p:cond delay="indefinite"/>
                      </p:stCondLst>
                      <p:childTnLst>
                        <p:par>
                          <p:cTn id="4709" fill="hold">
                            <p:stCondLst>
                              <p:cond delay="0"/>
                            </p:stCondLst>
                            <p:childTnLst>
                              <p:par>
                                <p:cTn id="4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2" dur="80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3" dur="80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4" dur="80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5" fill="hold">
                            <p:stCondLst>
                              <p:cond delay="1120"/>
                            </p:stCondLst>
                            <p:childTnLst>
                              <p:par>
                                <p:cTn id="4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8" dur="80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9" dur="80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0" dur="80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1" fill="hold">
                            <p:stCondLst>
                              <p:cond delay="1880"/>
                            </p:stCondLst>
                            <p:childTnLst>
                              <p:par>
                                <p:cTn id="47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24" dur="1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5" fill="hold">
                            <p:stCondLst>
                              <p:cond delay="2880"/>
                            </p:stCondLst>
                            <p:childTnLst>
                              <p:par>
                                <p:cTn id="47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8" dur="80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9" dur="80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0" dur="80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5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8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1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4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7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0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3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6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9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0" fill="hold">
                      <p:stCondLst>
                        <p:cond delay="indefinite"/>
                      </p:stCondLst>
                      <p:childTnLst>
                        <p:par>
                          <p:cTn id="4761" fill="hold">
                            <p:stCondLst>
                              <p:cond delay="0"/>
                            </p:stCondLst>
                            <p:childTnLst>
                              <p:par>
                                <p:cTn id="47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4" dur="80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5" dur="80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6" dur="80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7" fill="hold">
                      <p:stCondLst>
                        <p:cond delay="indefinite"/>
                      </p:stCondLst>
                      <p:childTnLst>
                        <p:par>
                          <p:cTn id="4768" fill="hold">
                            <p:stCondLst>
                              <p:cond delay="0"/>
                            </p:stCondLst>
                            <p:childTnLst>
                              <p:par>
                                <p:cTn id="47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1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4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7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8" fill="hold">
                      <p:stCondLst>
                        <p:cond delay="indefinite"/>
                      </p:stCondLst>
                      <p:childTnLst>
                        <p:par>
                          <p:cTn id="4779" fill="hold">
                            <p:stCondLst>
                              <p:cond delay="0"/>
                            </p:stCondLst>
                            <p:childTnLst>
                              <p:par>
                                <p:cTn id="4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2" dur="80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3" dur="80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4" dur="80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5" fill="hold">
                      <p:stCondLst>
                        <p:cond delay="indefinite"/>
                      </p:stCondLst>
                      <p:childTnLst>
                        <p:par>
                          <p:cTn id="4786" fill="hold">
                            <p:stCondLst>
                              <p:cond delay="0"/>
                            </p:stCondLst>
                            <p:childTnLst>
                              <p:par>
                                <p:cTn id="4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9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0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1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5" dur="8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6" dur="8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7" dur="8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8" fill="hold">
                      <p:stCondLst>
                        <p:cond delay="indefinite"/>
                      </p:stCondLst>
                      <p:childTnLst>
                        <p:par>
                          <p:cTn id="4799" fill="hold">
                            <p:stCondLst>
                              <p:cond delay="0"/>
                            </p:stCondLst>
                            <p:childTnLst>
                              <p:par>
                                <p:cTn id="48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6" fill="hold">
                            <p:stCondLst>
                              <p:cond delay="500"/>
                            </p:stCondLst>
                            <p:childTnLst>
                              <p:par>
                                <p:cTn id="48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9" dur="80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0" dur="80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1" dur="80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749600"/>
            <a:ext cx="8569080" cy="34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Метод перемещ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 расчёта деформируемых сист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отором за основные неизвестные приним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характерные перемещ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определения которых все переме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иловые фа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ссчитываемой системе могут быть найд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дартными процедурами (поэлементн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68360" y="692280"/>
            <a:ext cx="8207280" cy="63252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кинематической неопределимости (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)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уммар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зависимых углов поворота и линейных перемещений расчётных узлов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132000" y="1222200"/>
            <a:ext cx="1957680" cy="579600"/>
          </a:xfrm>
          <a:prstGeom prst="rect">
            <a:avLst/>
          </a:prstGeom>
          <a:solidFill>
            <a:srgbClr val="d6ecee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741920" y="1687680"/>
            <a:ext cx="252360" cy="21564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lnTo>
                  <a:pt x="0" y="91"/>
                </a:lnTo>
                <a:lnTo>
                  <a:pt x="227" y="91"/>
                </a:lnTo>
              </a:path>
            </a:pathLst>
          </a:custGeom>
          <a:noFill/>
          <a:ln w="5724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008600" y="1700280"/>
            <a:ext cx="1008000" cy="43164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lnTo>
                  <a:pt x="0" y="91"/>
                </a:lnTo>
                <a:lnTo>
                  <a:pt x="227" y="91"/>
                </a:lnTo>
              </a:path>
            </a:pathLst>
          </a:custGeom>
          <a:noFill/>
          <a:ln w="5724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932360" y="172548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тепень линейной подви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4950000" y="1940040"/>
            <a:ext cx="27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тепень угловой подви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718400" y="1822320"/>
            <a:ext cx="1224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асчё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з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765920" y="1844640"/>
            <a:ext cx="71640" cy="360360"/>
          </a:xfrm>
          <a:custGeom>
            <a:avLst/>
            <a:gdLst>
              <a:gd name="textAreaLeft" fmla="*/ 0 w 71640"/>
              <a:gd name="textAreaRight" fmla="*/ 25920 w 71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042920" y="2278080"/>
            <a:ext cx="1368360" cy="1582560"/>
          </a:xfrm>
          <a:custGeom>
            <a:avLst/>
            <a:gdLst/>
            <a:ahLst/>
            <a:rect l="l" t="t" r="r" b="b"/>
            <a:pathLst>
              <a:path w="862" h="997">
                <a:moveTo>
                  <a:pt x="0" y="997"/>
                </a:moveTo>
                <a:lnTo>
                  <a:pt x="0" y="0"/>
                </a:lnTo>
                <a:lnTo>
                  <a:pt x="862" y="0"/>
                </a:lnTo>
                <a:lnTo>
                  <a:pt x="862" y="997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411280" y="2925720"/>
            <a:ext cx="1008360" cy="934920"/>
          </a:xfrm>
          <a:custGeom>
            <a:avLst/>
            <a:gdLst/>
            <a:ahLst/>
            <a:rect l="l" t="t" r="r" b="b"/>
            <a:pathLst>
              <a:path w="635" h="589">
                <a:moveTo>
                  <a:pt x="0" y="0"/>
                </a:moveTo>
                <a:lnTo>
                  <a:pt x="635" y="0"/>
                </a:lnTo>
                <a:lnTo>
                  <a:pt x="635" y="589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276720" y="3859200"/>
            <a:ext cx="287280" cy="10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276720" y="38685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900000" y="3879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900000" y="3860640"/>
            <a:ext cx="287280" cy="1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900000" y="3870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2268360" y="3860640"/>
            <a:ext cx="287640" cy="10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2268360" y="3860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1046160" y="2317680"/>
            <a:ext cx="1727280" cy="1542960"/>
          </a:xfrm>
          <a:custGeom>
            <a:avLst/>
            <a:gdLst/>
            <a:ahLst/>
            <a:rect l="l" t="t" r="r" b="b"/>
            <a:pathLst>
              <a:path w="1088" h="972">
                <a:moveTo>
                  <a:pt x="1" y="972"/>
                </a:moveTo>
                <a:cubicBezTo>
                  <a:pt x="2" y="959"/>
                  <a:pt x="0" y="932"/>
                  <a:pt x="5" y="892"/>
                </a:cubicBezTo>
                <a:cubicBezTo>
                  <a:pt x="10" y="852"/>
                  <a:pt x="18" y="789"/>
                  <a:pt x="33" y="732"/>
                </a:cubicBezTo>
                <a:cubicBezTo>
                  <a:pt x="48" y="675"/>
                  <a:pt x="70" y="615"/>
                  <a:pt x="93" y="548"/>
                </a:cubicBezTo>
                <a:cubicBezTo>
                  <a:pt x="116" y="481"/>
                  <a:pt x="148" y="401"/>
                  <a:pt x="169" y="332"/>
                </a:cubicBezTo>
                <a:cubicBezTo>
                  <a:pt x="190" y="263"/>
                  <a:pt x="205" y="189"/>
                  <a:pt x="217" y="136"/>
                </a:cubicBezTo>
                <a:cubicBezTo>
                  <a:pt x="229" y="83"/>
                  <a:pt x="233" y="76"/>
                  <a:pt x="241" y="16"/>
                </a:cubicBezTo>
                <a:cubicBezTo>
                  <a:pt x="333" y="32"/>
                  <a:pt x="383" y="51"/>
                  <a:pt x="437" y="60"/>
                </a:cubicBezTo>
                <a:cubicBezTo>
                  <a:pt x="502" y="69"/>
                  <a:pt x="574" y="71"/>
                  <a:pt x="629" y="72"/>
                </a:cubicBezTo>
                <a:cubicBezTo>
                  <a:pt x="684" y="73"/>
                  <a:pt x="731" y="68"/>
                  <a:pt x="769" y="64"/>
                </a:cubicBezTo>
                <a:cubicBezTo>
                  <a:pt x="807" y="60"/>
                  <a:pt x="826" y="54"/>
                  <a:pt x="857" y="48"/>
                </a:cubicBezTo>
                <a:cubicBezTo>
                  <a:pt x="888" y="42"/>
                  <a:pt x="921" y="36"/>
                  <a:pt x="953" y="28"/>
                </a:cubicBezTo>
                <a:cubicBezTo>
                  <a:pt x="985" y="20"/>
                  <a:pt x="989" y="16"/>
                  <a:pt x="1049" y="0"/>
                </a:cubicBezTo>
                <a:cubicBezTo>
                  <a:pt x="1065" y="56"/>
                  <a:pt x="1067" y="63"/>
                  <a:pt x="1073" y="104"/>
                </a:cubicBezTo>
                <a:cubicBezTo>
                  <a:pt x="1079" y="145"/>
                  <a:pt x="1088" y="199"/>
                  <a:pt x="1087" y="246"/>
                </a:cubicBezTo>
                <a:cubicBezTo>
                  <a:pt x="1086" y="293"/>
                  <a:pt x="1075" y="342"/>
                  <a:pt x="1065" y="388"/>
                </a:cubicBezTo>
                <a:cubicBezTo>
                  <a:pt x="1055" y="434"/>
                  <a:pt x="1044" y="475"/>
                  <a:pt x="1025" y="524"/>
                </a:cubicBezTo>
                <a:cubicBezTo>
                  <a:pt x="1006" y="573"/>
                  <a:pt x="975" y="635"/>
                  <a:pt x="953" y="680"/>
                </a:cubicBezTo>
                <a:cubicBezTo>
                  <a:pt x="931" y="725"/>
                  <a:pt x="908" y="755"/>
                  <a:pt x="893" y="792"/>
                </a:cubicBezTo>
                <a:cubicBezTo>
                  <a:pt x="878" y="829"/>
                  <a:pt x="866" y="874"/>
                  <a:pt x="861" y="904"/>
                </a:cubicBezTo>
                <a:cubicBezTo>
                  <a:pt x="856" y="934"/>
                  <a:pt x="860" y="958"/>
                  <a:pt x="860" y="9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2711520" y="2984400"/>
            <a:ext cx="1015920" cy="844560"/>
          </a:xfrm>
          <a:custGeom>
            <a:avLst/>
            <a:gdLst/>
            <a:ahLst/>
            <a:rect l="l" t="t" r="r" b="b"/>
            <a:pathLst>
              <a:path w="640" h="532">
                <a:moveTo>
                  <a:pt x="0" y="4"/>
                </a:moveTo>
                <a:cubicBezTo>
                  <a:pt x="11" y="7"/>
                  <a:pt x="37" y="17"/>
                  <a:pt x="68" y="24"/>
                </a:cubicBezTo>
                <a:cubicBezTo>
                  <a:pt x="99" y="31"/>
                  <a:pt x="137" y="39"/>
                  <a:pt x="188" y="44"/>
                </a:cubicBezTo>
                <a:cubicBezTo>
                  <a:pt x="239" y="49"/>
                  <a:pt x="316" y="58"/>
                  <a:pt x="372" y="56"/>
                </a:cubicBezTo>
                <a:cubicBezTo>
                  <a:pt x="428" y="54"/>
                  <a:pt x="484" y="41"/>
                  <a:pt x="524" y="32"/>
                </a:cubicBezTo>
                <a:cubicBezTo>
                  <a:pt x="564" y="23"/>
                  <a:pt x="564" y="20"/>
                  <a:pt x="612" y="0"/>
                </a:cubicBezTo>
                <a:cubicBezTo>
                  <a:pt x="636" y="64"/>
                  <a:pt x="640" y="94"/>
                  <a:pt x="640" y="144"/>
                </a:cubicBezTo>
                <a:cubicBezTo>
                  <a:pt x="640" y="194"/>
                  <a:pt x="629" y="251"/>
                  <a:pt x="612" y="300"/>
                </a:cubicBezTo>
                <a:cubicBezTo>
                  <a:pt x="595" y="349"/>
                  <a:pt x="565" y="397"/>
                  <a:pt x="540" y="436"/>
                </a:cubicBezTo>
                <a:cubicBezTo>
                  <a:pt x="515" y="475"/>
                  <a:pt x="480" y="512"/>
                  <a:pt x="464" y="5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065240" y="256536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476360" y="2120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1908000" y="2198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124000" y="2198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340000" y="2178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2556000" y="212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692360" y="2173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3373560" y="38116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442880" y="240048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428840" y="23684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2516040" y="2387520"/>
            <a:ext cx="21600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502000" y="23558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681280" y="3054240"/>
            <a:ext cx="21600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2660760" y="30225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708360" y="275436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681360" y="2722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419640" y="2746440"/>
            <a:ext cx="0" cy="21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3666960" y="2984400"/>
            <a:ext cx="433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2411280" y="1989000"/>
            <a:ext cx="289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4052880" y="291780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2217600" y="2333520"/>
            <a:ext cx="39960" cy="141480"/>
          </a:xfrm>
          <a:custGeom>
            <a:avLst/>
            <a:gdLst/>
            <a:ahLst/>
            <a:rect l="l" t="t" r="r" b="b"/>
            <a:pathLst>
              <a:path w="25" h="89">
                <a:moveTo>
                  <a:pt x="0" y="0"/>
                </a:moveTo>
                <a:cubicBezTo>
                  <a:pt x="1" y="7"/>
                  <a:pt x="2" y="27"/>
                  <a:pt x="6" y="42"/>
                </a:cubicBezTo>
                <a:cubicBezTo>
                  <a:pt x="10" y="57"/>
                  <a:pt x="21" y="79"/>
                  <a:pt x="25" y="89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871720" y="226368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900000" y="227952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419640" y="2800440"/>
            <a:ext cx="252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1036800" y="1989000"/>
            <a:ext cx="395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673440" y="2749680"/>
            <a:ext cx="0" cy="57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2411280" y="1941480"/>
            <a:ext cx="0" cy="324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036800" y="1941480"/>
            <a:ext cx="0" cy="324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1422360" y="1947960"/>
            <a:ext cx="0" cy="395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706840" y="1941480"/>
            <a:ext cx="0" cy="395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411280" y="2270160"/>
            <a:ext cx="505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46000" y="2346480"/>
            <a:ext cx="576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195640" y="2327400"/>
            <a:ext cx="7207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839880" y="2278080"/>
            <a:ext cx="215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949560" y="2917800"/>
            <a:ext cx="1429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30360" y="2793960"/>
            <a:ext cx="289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719440" y="2755800"/>
            <a:ext cx="0" cy="21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228760" y="2997360"/>
            <a:ext cx="1008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281320" y="293040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241720" y="2924280"/>
            <a:ext cx="1425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428840" y="2349360"/>
            <a:ext cx="0" cy="71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 flipH="1">
            <a:off x="1325520" y="2344680"/>
            <a:ext cx="108000" cy="711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706840" y="3003480"/>
            <a:ext cx="496800" cy="162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3686040" y="2978280"/>
            <a:ext cx="162000" cy="3124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332000" y="2992320"/>
            <a:ext cx="92160" cy="14400"/>
          </a:xfrm>
          <a:custGeom>
            <a:avLst/>
            <a:gdLst/>
            <a:ahLst/>
            <a:rect l="l" t="t" r="r" b="b"/>
            <a:pathLst>
              <a:path w="58" h="9">
                <a:moveTo>
                  <a:pt x="58" y="8"/>
                </a:moveTo>
                <a:cubicBezTo>
                  <a:pt x="54" y="8"/>
                  <a:pt x="41" y="9"/>
                  <a:pt x="31" y="8"/>
                </a:cubicBezTo>
                <a:cubicBezTo>
                  <a:pt x="21" y="7"/>
                  <a:pt x="6" y="2"/>
                  <a:pt x="0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174840" y="3005280"/>
            <a:ext cx="34920" cy="153720"/>
          </a:xfrm>
          <a:custGeom>
            <a:avLst/>
            <a:gdLst/>
            <a:ahLst/>
            <a:rect l="l" t="t" r="r" b="b"/>
            <a:pathLst>
              <a:path w="22" h="97">
                <a:moveTo>
                  <a:pt x="22" y="0"/>
                </a:moveTo>
                <a:cubicBezTo>
                  <a:pt x="21" y="7"/>
                  <a:pt x="22" y="32"/>
                  <a:pt x="18" y="48"/>
                </a:cubicBezTo>
                <a:cubicBezTo>
                  <a:pt x="14" y="64"/>
                  <a:pt x="4" y="87"/>
                  <a:pt x="0" y="97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676680" y="3270240"/>
            <a:ext cx="158760" cy="31680"/>
          </a:xfrm>
          <a:custGeom>
            <a:avLst/>
            <a:gdLst/>
            <a:ahLst/>
            <a:rect l="l" t="t" r="r" b="b"/>
            <a:pathLst>
              <a:path w="100" h="20">
                <a:moveTo>
                  <a:pt x="0" y="20"/>
                </a:moveTo>
                <a:cubicBezTo>
                  <a:pt x="9" y="19"/>
                  <a:pt x="35" y="19"/>
                  <a:pt x="52" y="16"/>
                </a:cubicBezTo>
                <a:cubicBezTo>
                  <a:pt x="69" y="13"/>
                  <a:pt x="90" y="3"/>
                  <a:pt x="100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211480" y="2329920"/>
            <a:ext cx="504720" cy="1587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068480" y="1684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77800" y="21398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994040" y="23781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235160" y="29685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137040" y="30193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373480" y="1684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857680" y="21351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392200" y="25002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1960560" y="27939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4029120" y="27828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362400" y="24955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59040" y="32446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35600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356000" y="252720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219640" y="240840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364000" y="2395440"/>
            <a:ext cx="936720" cy="440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406760" y="303696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менение гипотезы               д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2" name=""/>
              <p:cNvSpPr txBox="1"/>
              <p:nvPr/>
            </p:nvSpPr>
            <p:spPr>
              <a:xfrm>
                <a:off x="6504120" y="2989440"/>
                <a:ext cx="701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3" name=""/>
          <p:cNvSpPr/>
          <p:nvPr/>
        </p:nvSpPr>
        <p:spPr>
          <a:xfrm>
            <a:off x="4427640" y="334980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440240" y="362592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804000" y="33368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804000" y="361332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7667640" y="3468600"/>
            <a:ext cx="73080" cy="43200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7812000" y="3456000"/>
            <a:ext cx="936720" cy="440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 rot="5400000">
            <a:off x="6405480" y="3603600"/>
            <a:ext cx="479160" cy="180720"/>
          </a:xfrm>
          <a:prstGeom prst="triangle">
            <a:avLst>
              <a:gd name="adj" fmla="val 50000"/>
            </a:avLst>
          </a:prstGeom>
          <a:solidFill>
            <a:srgbClr val="d6ece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324000" y="4094280"/>
            <a:ext cx="1511280" cy="792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433440" y="4076640"/>
                <a:ext cx="1584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ж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у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ж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у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2" name=""/>
          <p:cNvSpPr/>
          <p:nvPr/>
        </p:nvSpPr>
        <p:spPr>
          <a:xfrm>
            <a:off x="1720800" y="41497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ля плоск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717560" y="4460760"/>
            <a:ext cx="307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ля пространствен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716360" y="4430880"/>
            <a:ext cx="4176720" cy="4057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пределения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арнирна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484360" y="6319800"/>
            <a:ext cx="287280" cy="10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484360" y="63072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39640" y="6308640"/>
            <a:ext cx="287280" cy="10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5013360"/>
            <a:ext cx="1150920" cy="1295280"/>
          </a:xfrm>
          <a:custGeom>
            <a:avLst/>
            <a:gdLst/>
            <a:ahLst/>
            <a:rect l="l" t="t" r="r" b="b"/>
            <a:pathLst>
              <a:path w="725" h="816">
                <a:moveTo>
                  <a:pt x="0" y="816"/>
                </a:moveTo>
                <a:lnTo>
                  <a:pt x="0" y="0"/>
                </a:lnTo>
                <a:lnTo>
                  <a:pt x="725" y="0"/>
                </a:lnTo>
                <a:lnTo>
                  <a:pt x="725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39640" y="6308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692360" y="6308640"/>
            <a:ext cx="287280" cy="10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692360" y="6308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36480" y="626256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789200" y="62564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835280" y="5564160"/>
            <a:ext cx="792000" cy="719280"/>
          </a:xfrm>
          <a:custGeom>
            <a:avLst/>
            <a:gdLst/>
            <a:ahLst/>
            <a:rect l="l" t="t" r="r" b="b"/>
            <a:pathLst>
              <a:path w="590" h="544">
                <a:moveTo>
                  <a:pt x="0" y="0"/>
                </a:moveTo>
                <a:lnTo>
                  <a:pt x="590" y="0"/>
                </a:lnTo>
                <a:lnTo>
                  <a:pt x="590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639720" y="49672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789200" y="49672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790640" y="55180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2577960" y="551664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583000" y="62564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1141560" y="5548320"/>
                <a:ext cx="5569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1" name=""/>
          <p:cNvSpPr/>
          <p:nvPr/>
        </p:nvSpPr>
        <p:spPr>
          <a:xfrm>
            <a:off x="730080" y="553716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676600" y="556560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1878120" y="501336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5400000">
            <a:off x="2048760" y="4958640"/>
            <a:ext cx="287280" cy="10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5400000">
            <a:off x="2842200" y="5507640"/>
            <a:ext cx="287640" cy="10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2935440" y="5421240"/>
            <a:ext cx="0" cy="28908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143080" y="4869000"/>
            <a:ext cx="0" cy="288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2095560" y="497052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887560" y="55180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2797200" y="6248520"/>
            <a:ext cx="873000" cy="35388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2259000" y="5018040"/>
            <a:ext cx="1008000" cy="37116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990033"/>
                </a:solidFill>
                <a:latin typeface="Times New Roman"/>
              </a:rPr>
              <a:t>д.с.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798720" y="6093000"/>
            <a:ext cx="1043280" cy="35856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198960" y="4811760"/>
            <a:ext cx="57150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арнирная систем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получается из задан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утём введения цилиндрических шарниров 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 пространственной системе – шаровых шарниров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 во все жёсткие узлы, включ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орные защемления, и продольных поступательных шарниров в стержни, для которых требуется учитывать удли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корочения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 при их растяжении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жатии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,  а также удалением всех упругих связей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линейных и угловых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984480" y="3990960"/>
            <a:ext cx="50022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300" spc="-1" strike="noStrike" baseline="-25000">
                <a:solidFill>
                  <a:srgbClr val="000000"/>
                </a:solidFill>
                <a:latin typeface="Times New Roman"/>
              </a:rPr>
              <a:t>ж.у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учитываются неопорные узлы с припайками, а такж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узлы 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в т.ч. опорные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) с упругоподатливыми угловым связям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814920" y="4272120"/>
            <a:ext cx="257040" cy="252360"/>
          </a:xfrm>
          <a:custGeom>
            <a:avLst/>
            <a:gdLst/>
            <a:ahLst/>
            <a:rect l="l" t="t" r="r" b="b"/>
            <a:pathLst>
              <a:path w="162" h="159">
                <a:moveTo>
                  <a:pt x="0" y="54"/>
                </a:moveTo>
                <a:lnTo>
                  <a:pt x="87" y="39"/>
                </a:lnTo>
                <a:lnTo>
                  <a:pt x="51" y="0"/>
                </a:lnTo>
                <a:lnTo>
                  <a:pt x="162" y="9"/>
                </a:lnTo>
                <a:lnTo>
                  <a:pt x="135" y="120"/>
                </a:lnTo>
                <a:lnTo>
                  <a:pt x="114" y="62"/>
                </a:lnTo>
                <a:lnTo>
                  <a:pt x="69" y="159"/>
                </a:lnTo>
                <a:lnTo>
                  <a:pt x="57" y="87"/>
                </a:lnTo>
                <a:lnTo>
                  <a:pt x="0" y="54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745080" y="5996160"/>
            <a:ext cx="50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д.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= W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ш.с.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 Narrow"/>
              </a:rPr>
              <a:t>если Ш.С. – без лишних связей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 rot="20695800">
            <a:off x="3151080" y="5450040"/>
            <a:ext cx="144720" cy="720720"/>
          </a:xfrm>
          <a:prstGeom prst="downArrow">
            <a:avLst>
              <a:gd name="adj1" fmla="val 50000"/>
              <a:gd name="adj2" fmla="val 124502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402080" y="6357960"/>
            <a:ext cx="26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.с. – дополнительные связ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2" dur="indefinite" restart="never" nodeType="tmRoot">
          <p:childTnLst>
            <p:seq>
              <p:cTn id="4813" dur="indefinite" nodeType="mainSeq">
                <p:childTnLst>
                  <p:par>
                    <p:cTn id="4814" fill="hold">
                      <p:stCondLst>
                        <p:cond delay="0"/>
                      </p:stCondLst>
                      <p:childTnLst>
                        <p:par>
                          <p:cTn id="4815" fill="hold">
                            <p:stCondLst>
                              <p:cond delay="0"/>
                            </p:stCondLst>
                            <p:childTnLst>
                              <p:par>
                                <p:cTn id="4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8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1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4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7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0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6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9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5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1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4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7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0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1" fill="hold">
                      <p:stCondLst>
                        <p:cond delay="indefinite"/>
                      </p:stCondLst>
                      <p:childTnLst>
                        <p:par>
                          <p:cTn id="4862" fill="hold">
                            <p:stCondLst>
                              <p:cond delay="0"/>
                            </p:stCondLst>
                            <p:childTnLst>
                              <p:par>
                                <p:cTn id="4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5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8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9" fill="hold">
                      <p:stCondLst>
                        <p:cond delay="indefinite"/>
                      </p:stCondLst>
                      <p:childTnLst>
                        <p:par>
                          <p:cTn id="4870" fill="hold">
                            <p:stCondLst>
                              <p:cond delay="0"/>
                            </p:stCondLst>
                            <p:childTnLst>
                              <p:par>
                                <p:cTn id="4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3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6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9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2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3" fill="hold">
                      <p:stCondLst>
                        <p:cond delay="indefinite"/>
                      </p:stCondLst>
                      <p:childTnLst>
                        <p:par>
                          <p:cTn id="4884" fill="hold">
                            <p:stCondLst>
                              <p:cond delay="0"/>
                            </p:stCondLst>
                            <p:childTnLst>
                              <p:par>
                                <p:cTn id="4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7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0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3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7" fill="hold">
                      <p:stCondLst>
                        <p:cond delay="indefinite"/>
                      </p:stCondLst>
                      <p:childTnLst>
                        <p:par>
                          <p:cTn id="4898" fill="hold">
                            <p:stCondLst>
                              <p:cond delay="0"/>
                            </p:stCondLst>
                            <p:childTnLst>
                              <p:par>
                                <p:cTn id="4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2" fill="hold">
                      <p:stCondLst>
                        <p:cond delay="indefinite"/>
                      </p:stCondLst>
                      <p:childTnLst>
                        <p:par>
                          <p:cTn id="4903" fill="hold">
                            <p:stCondLst>
                              <p:cond delay="0"/>
                            </p:stCondLst>
                            <p:childTnLst>
                              <p:par>
                                <p:cTn id="4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6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7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8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2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68360" y="692280"/>
            <a:ext cx="8207280" cy="63252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кинематической неопределимости (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)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уммар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зависимых углов поворота и линейных перемещений расчётных узлов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132000" y="1222200"/>
            <a:ext cx="1957680" cy="579600"/>
          </a:xfrm>
          <a:prstGeom prst="rect">
            <a:avLst/>
          </a:prstGeom>
          <a:solidFill>
            <a:srgbClr val="d6ecee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741920" y="1687680"/>
            <a:ext cx="252360" cy="21564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lnTo>
                  <a:pt x="0" y="91"/>
                </a:lnTo>
                <a:lnTo>
                  <a:pt x="227" y="91"/>
                </a:lnTo>
              </a:path>
            </a:pathLst>
          </a:custGeom>
          <a:noFill/>
          <a:ln w="5724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008600" y="1700280"/>
            <a:ext cx="1008000" cy="431640"/>
          </a:xfrm>
          <a:custGeom>
            <a:avLst/>
            <a:gdLst/>
            <a:ahLst/>
            <a:rect l="l" t="t" r="r" b="b"/>
            <a:pathLst>
              <a:path w="227" h="91">
                <a:moveTo>
                  <a:pt x="0" y="0"/>
                </a:moveTo>
                <a:lnTo>
                  <a:pt x="0" y="91"/>
                </a:lnTo>
                <a:lnTo>
                  <a:pt x="227" y="91"/>
                </a:lnTo>
              </a:path>
            </a:pathLst>
          </a:custGeom>
          <a:noFill/>
          <a:ln w="57240">
            <a:solidFill>
              <a:srgbClr val="0099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932360" y="172548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тепень линейной подви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950000" y="1940040"/>
            <a:ext cx="27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тепень угловой подвиж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7718400" y="1822320"/>
            <a:ext cx="1224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асчёт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з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7765920" y="1844640"/>
            <a:ext cx="71640" cy="360360"/>
          </a:xfrm>
          <a:custGeom>
            <a:avLst/>
            <a:gdLst>
              <a:gd name="textAreaLeft" fmla="*/ 0 w 71640"/>
              <a:gd name="textAreaRight" fmla="*/ 25920 w 71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42920" y="2278080"/>
            <a:ext cx="1368360" cy="1582560"/>
          </a:xfrm>
          <a:custGeom>
            <a:avLst/>
            <a:gdLst/>
            <a:ahLst/>
            <a:rect l="l" t="t" r="r" b="b"/>
            <a:pathLst>
              <a:path w="862" h="997">
                <a:moveTo>
                  <a:pt x="0" y="997"/>
                </a:moveTo>
                <a:lnTo>
                  <a:pt x="0" y="0"/>
                </a:lnTo>
                <a:lnTo>
                  <a:pt x="862" y="0"/>
                </a:lnTo>
                <a:lnTo>
                  <a:pt x="862" y="997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411280" y="2925720"/>
            <a:ext cx="1008360" cy="934920"/>
          </a:xfrm>
          <a:custGeom>
            <a:avLst/>
            <a:gdLst/>
            <a:ahLst/>
            <a:rect l="l" t="t" r="r" b="b"/>
            <a:pathLst>
              <a:path w="635" h="589">
                <a:moveTo>
                  <a:pt x="0" y="0"/>
                </a:moveTo>
                <a:lnTo>
                  <a:pt x="635" y="0"/>
                </a:lnTo>
                <a:lnTo>
                  <a:pt x="635" y="589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276720" y="3859200"/>
            <a:ext cx="287280" cy="10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3276720" y="38685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900000" y="3879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900000" y="3860640"/>
            <a:ext cx="287280" cy="1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900000" y="3870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2268360" y="3860640"/>
            <a:ext cx="287640" cy="10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268360" y="3860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46160" y="2317680"/>
            <a:ext cx="1727280" cy="1542960"/>
          </a:xfrm>
          <a:custGeom>
            <a:avLst/>
            <a:gdLst/>
            <a:ahLst/>
            <a:rect l="l" t="t" r="r" b="b"/>
            <a:pathLst>
              <a:path w="1088" h="972">
                <a:moveTo>
                  <a:pt x="1" y="972"/>
                </a:moveTo>
                <a:cubicBezTo>
                  <a:pt x="2" y="959"/>
                  <a:pt x="0" y="932"/>
                  <a:pt x="5" y="892"/>
                </a:cubicBezTo>
                <a:cubicBezTo>
                  <a:pt x="10" y="852"/>
                  <a:pt x="18" y="789"/>
                  <a:pt x="33" y="732"/>
                </a:cubicBezTo>
                <a:cubicBezTo>
                  <a:pt x="48" y="675"/>
                  <a:pt x="70" y="615"/>
                  <a:pt x="93" y="548"/>
                </a:cubicBezTo>
                <a:cubicBezTo>
                  <a:pt x="116" y="481"/>
                  <a:pt x="148" y="401"/>
                  <a:pt x="169" y="332"/>
                </a:cubicBezTo>
                <a:cubicBezTo>
                  <a:pt x="190" y="263"/>
                  <a:pt x="205" y="189"/>
                  <a:pt x="217" y="136"/>
                </a:cubicBezTo>
                <a:cubicBezTo>
                  <a:pt x="229" y="83"/>
                  <a:pt x="233" y="76"/>
                  <a:pt x="241" y="16"/>
                </a:cubicBezTo>
                <a:cubicBezTo>
                  <a:pt x="333" y="32"/>
                  <a:pt x="383" y="51"/>
                  <a:pt x="437" y="60"/>
                </a:cubicBezTo>
                <a:cubicBezTo>
                  <a:pt x="502" y="69"/>
                  <a:pt x="574" y="71"/>
                  <a:pt x="629" y="72"/>
                </a:cubicBezTo>
                <a:cubicBezTo>
                  <a:pt x="684" y="73"/>
                  <a:pt x="731" y="68"/>
                  <a:pt x="769" y="64"/>
                </a:cubicBezTo>
                <a:cubicBezTo>
                  <a:pt x="807" y="60"/>
                  <a:pt x="826" y="54"/>
                  <a:pt x="857" y="48"/>
                </a:cubicBezTo>
                <a:cubicBezTo>
                  <a:pt x="888" y="42"/>
                  <a:pt x="921" y="36"/>
                  <a:pt x="953" y="28"/>
                </a:cubicBezTo>
                <a:cubicBezTo>
                  <a:pt x="985" y="20"/>
                  <a:pt x="989" y="16"/>
                  <a:pt x="1049" y="0"/>
                </a:cubicBezTo>
                <a:cubicBezTo>
                  <a:pt x="1065" y="56"/>
                  <a:pt x="1067" y="63"/>
                  <a:pt x="1073" y="104"/>
                </a:cubicBezTo>
                <a:cubicBezTo>
                  <a:pt x="1079" y="145"/>
                  <a:pt x="1088" y="199"/>
                  <a:pt x="1087" y="246"/>
                </a:cubicBezTo>
                <a:cubicBezTo>
                  <a:pt x="1086" y="293"/>
                  <a:pt x="1075" y="342"/>
                  <a:pt x="1065" y="388"/>
                </a:cubicBezTo>
                <a:cubicBezTo>
                  <a:pt x="1055" y="434"/>
                  <a:pt x="1044" y="475"/>
                  <a:pt x="1025" y="524"/>
                </a:cubicBezTo>
                <a:cubicBezTo>
                  <a:pt x="1006" y="573"/>
                  <a:pt x="975" y="635"/>
                  <a:pt x="953" y="680"/>
                </a:cubicBezTo>
                <a:cubicBezTo>
                  <a:pt x="931" y="725"/>
                  <a:pt x="908" y="755"/>
                  <a:pt x="893" y="792"/>
                </a:cubicBezTo>
                <a:cubicBezTo>
                  <a:pt x="878" y="829"/>
                  <a:pt x="866" y="874"/>
                  <a:pt x="861" y="904"/>
                </a:cubicBezTo>
                <a:cubicBezTo>
                  <a:pt x="856" y="934"/>
                  <a:pt x="860" y="958"/>
                  <a:pt x="860" y="9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711520" y="2984400"/>
            <a:ext cx="1015920" cy="844560"/>
          </a:xfrm>
          <a:custGeom>
            <a:avLst/>
            <a:gdLst/>
            <a:ahLst/>
            <a:rect l="l" t="t" r="r" b="b"/>
            <a:pathLst>
              <a:path w="640" h="532">
                <a:moveTo>
                  <a:pt x="0" y="4"/>
                </a:moveTo>
                <a:cubicBezTo>
                  <a:pt x="11" y="7"/>
                  <a:pt x="37" y="17"/>
                  <a:pt x="68" y="24"/>
                </a:cubicBezTo>
                <a:cubicBezTo>
                  <a:pt x="99" y="31"/>
                  <a:pt x="137" y="39"/>
                  <a:pt x="188" y="44"/>
                </a:cubicBezTo>
                <a:cubicBezTo>
                  <a:pt x="239" y="49"/>
                  <a:pt x="316" y="58"/>
                  <a:pt x="372" y="56"/>
                </a:cubicBezTo>
                <a:cubicBezTo>
                  <a:pt x="428" y="54"/>
                  <a:pt x="484" y="41"/>
                  <a:pt x="524" y="32"/>
                </a:cubicBezTo>
                <a:cubicBezTo>
                  <a:pt x="564" y="23"/>
                  <a:pt x="564" y="20"/>
                  <a:pt x="612" y="0"/>
                </a:cubicBezTo>
                <a:cubicBezTo>
                  <a:pt x="636" y="64"/>
                  <a:pt x="640" y="94"/>
                  <a:pt x="640" y="144"/>
                </a:cubicBezTo>
                <a:cubicBezTo>
                  <a:pt x="640" y="194"/>
                  <a:pt x="629" y="251"/>
                  <a:pt x="612" y="300"/>
                </a:cubicBezTo>
                <a:cubicBezTo>
                  <a:pt x="595" y="349"/>
                  <a:pt x="565" y="397"/>
                  <a:pt x="540" y="436"/>
                </a:cubicBezTo>
                <a:cubicBezTo>
                  <a:pt x="515" y="475"/>
                  <a:pt x="480" y="512"/>
                  <a:pt x="464" y="5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065240" y="256536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476360" y="2120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908000" y="2198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124000" y="2198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2340000" y="2178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2556000" y="212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692360" y="2173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373560" y="38116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442880" y="240048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428840" y="23684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2516040" y="2387520"/>
            <a:ext cx="21600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02000" y="23558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2681280" y="3054240"/>
            <a:ext cx="216000" cy="1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660760" y="30225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708360" y="2754360"/>
            <a:ext cx="216000" cy="179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3681360" y="2722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419640" y="2746440"/>
            <a:ext cx="0" cy="21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3666960" y="2984400"/>
            <a:ext cx="4334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411280" y="1989000"/>
            <a:ext cx="289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052880" y="291780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217600" y="2333520"/>
            <a:ext cx="39960" cy="141480"/>
          </a:xfrm>
          <a:custGeom>
            <a:avLst/>
            <a:gdLst/>
            <a:ahLst/>
            <a:rect l="l" t="t" r="r" b="b"/>
            <a:pathLst>
              <a:path w="25" h="89">
                <a:moveTo>
                  <a:pt x="0" y="0"/>
                </a:moveTo>
                <a:cubicBezTo>
                  <a:pt x="1" y="7"/>
                  <a:pt x="2" y="27"/>
                  <a:pt x="6" y="42"/>
                </a:cubicBezTo>
                <a:cubicBezTo>
                  <a:pt x="10" y="57"/>
                  <a:pt x="21" y="79"/>
                  <a:pt x="25" y="89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871720" y="226368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900000" y="227952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419640" y="2800440"/>
            <a:ext cx="252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036800" y="1989000"/>
            <a:ext cx="395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673440" y="2749680"/>
            <a:ext cx="0" cy="57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411280" y="1941480"/>
            <a:ext cx="0" cy="324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036800" y="1941480"/>
            <a:ext cx="0" cy="324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422360" y="1947960"/>
            <a:ext cx="0" cy="395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2706840" y="1941480"/>
            <a:ext cx="0" cy="395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2411280" y="2270160"/>
            <a:ext cx="5050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846000" y="2346480"/>
            <a:ext cx="576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2195640" y="2327400"/>
            <a:ext cx="7207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39880" y="2278080"/>
            <a:ext cx="215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949560" y="2917800"/>
            <a:ext cx="14292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2430360" y="2793960"/>
            <a:ext cx="2890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719440" y="2755800"/>
            <a:ext cx="0" cy="216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2228760" y="2997360"/>
            <a:ext cx="1008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2281320" y="2930400"/>
            <a:ext cx="0" cy="7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2241720" y="2924280"/>
            <a:ext cx="1425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428840" y="2349360"/>
            <a:ext cx="0" cy="7192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 flipH="1">
            <a:off x="1325520" y="2344680"/>
            <a:ext cx="108000" cy="7113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706840" y="3003480"/>
            <a:ext cx="496800" cy="16200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3686040" y="2978280"/>
            <a:ext cx="162000" cy="31248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1332000" y="2992320"/>
            <a:ext cx="92160" cy="14400"/>
          </a:xfrm>
          <a:custGeom>
            <a:avLst/>
            <a:gdLst/>
            <a:ahLst/>
            <a:rect l="l" t="t" r="r" b="b"/>
            <a:pathLst>
              <a:path w="58" h="9">
                <a:moveTo>
                  <a:pt x="58" y="8"/>
                </a:moveTo>
                <a:cubicBezTo>
                  <a:pt x="54" y="8"/>
                  <a:pt x="41" y="9"/>
                  <a:pt x="31" y="8"/>
                </a:cubicBezTo>
                <a:cubicBezTo>
                  <a:pt x="21" y="7"/>
                  <a:pt x="6" y="2"/>
                  <a:pt x="0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174840" y="3005280"/>
            <a:ext cx="34920" cy="153720"/>
          </a:xfrm>
          <a:custGeom>
            <a:avLst/>
            <a:gdLst/>
            <a:ahLst/>
            <a:rect l="l" t="t" r="r" b="b"/>
            <a:pathLst>
              <a:path w="22" h="97">
                <a:moveTo>
                  <a:pt x="22" y="0"/>
                </a:moveTo>
                <a:cubicBezTo>
                  <a:pt x="21" y="7"/>
                  <a:pt x="22" y="32"/>
                  <a:pt x="18" y="48"/>
                </a:cubicBezTo>
                <a:cubicBezTo>
                  <a:pt x="14" y="64"/>
                  <a:pt x="4" y="87"/>
                  <a:pt x="0" y="97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676680" y="3270240"/>
            <a:ext cx="158760" cy="31680"/>
          </a:xfrm>
          <a:custGeom>
            <a:avLst/>
            <a:gdLst/>
            <a:ahLst/>
            <a:rect l="l" t="t" r="r" b="b"/>
            <a:pathLst>
              <a:path w="100" h="20">
                <a:moveTo>
                  <a:pt x="0" y="20"/>
                </a:moveTo>
                <a:cubicBezTo>
                  <a:pt x="9" y="19"/>
                  <a:pt x="35" y="19"/>
                  <a:pt x="52" y="16"/>
                </a:cubicBezTo>
                <a:cubicBezTo>
                  <a:pt x="69" y="13"/>
                  <a:pt x="90" y="3"/>
                  <a:pt x="100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flipV="1">
            <a:off x="2211480" y="2329920"/>
            <a:ext cx="504720" cy="15876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1068480" y="1684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77800" y="21398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1994040" y="23781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235160" y="29685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137040" y="30193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2373480" y="1684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2857680" y="21351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2392200" y="25002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960560" y="27939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029120" y="27828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362400" y="24955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659040" y="32446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35600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356000" y="252720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5219640" y="240840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5364000" y="2395440"/>
            <a:ext cx="936720" cy="440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406760" y="303696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менение гипотезы               да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6504120" y="2989440"/>
                <a:ext cx="701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  <m:sup/>
                    </m:sSubSup>
                    <m:r>
                      <m:t xml:space="preserve">≈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6" name=""/>
          <p:cNvSpPr/>
          <p:nvPr/>
        </p:nvSpPr>
        <p:spPr>
          <a:xfrm>
            <a:off x="4427640" y="334980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440240" y="362592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6804000" y="33368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6804000" y="361332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7667640" y="3468600"/>
            <a:ext cx="73080" cy="43200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7812000" y="3456000"/>
            <a:ext cx="936720" cy="440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 rot="5400000">
            <a:off x="6405480" y="3603600"/>
            <a:ext cx="479160" cy="180720"/>
          </a:xfrm>
          <a:prstGeom prst="triangle">
            <a:avLst>
              <a:gd name="adj" fmla="val 50000"/>
            </a:avLst>
          </a:prstGeom>
          <a:solidFill>
            <a:srgbClr val="d6ecee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4716360" y="4430880"/>
            <a:ext cx="4176720" cy="4057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пределения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арнирная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2484360" y="6319800"/>
            <a:ext cx="287280" cy="10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2484360" y="63072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539640" y="6308640"/>
            <a:ext cx="287280" cy="108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84360" y="5013360"/>
            <a:ext cx="1150920" cy="1295280"/>
          </a:xfrm>
          <a:custGeom>
            <a:avLst/>
            <a:gdLst/>
            <a:ahLst/>
            <a:rect l="l" t="t" r="r" b="b"/>
            <a:pathLst>
              <a:path w="725" h="816">
                <a:moveTo>
                  <a:pt x="0" y="816"/>
                </a:moveTo>
                <a:lnTo>
                  <a:pt x="0" y="0"/>
                </a:lnTo>
                <a:lnTo>
                  <a:pt x="725" y="0"/>
                </a:lnTo>
                <a:lnTo>
                  <a:pt x="725" y="8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539640" y="6308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1692360" y="6308640"/>
            <a:ext cx="287280" cy="108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1692360" y="6308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636480" y="626256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1789200" y="62564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1835280" y="5564160"/>
            <a:ext cx="792000" cy="719280"/>
          </a:xfrm>
          <a:custGeom>
            <a:avLst/>
            <a:gdLst/>
            <a:ahLst/>
            <a:rect l="l" t="t" r="r" b="b"/>
            <a:pathLst>
              <a:path w="590" h="544">
                <a:moveTo>
                  <a:pt x="0" y="0"/>
                </a:moveTo>
                <a:lnTo>
                  <a:pt x="590" y="0"/>
                </a:lnTo>
                <a:lnTo>
                  <a:pt x="590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39720" y="49672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1789200" y="49672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790640" y="55180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2577960" y="551664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583000" y="62564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676600" y="556560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1878120" y="501336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rot="5400000">
            <a:off x="2048760" y="4958640"/>
            <a:ext cx="287280" cy="108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rot="5400000">
            <a:off x="2842200" y="5507640"/>
            <a:ext cx="287640" cy="108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2935440" y="5421240"/>
            <a:ext cx="0" cy="28908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2143080" y="4869000"/>
            <a:ext cx="0" cy="288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2095560" y="497052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87560" y="55180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809800" y="6238800"/>
            <a:ext cx="873360" cy="37116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252520" y="4748040"/>
            <a:ext cx="1047960" cy="37116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990033"/>
                </a:solidFill>
                <a:latin typeface="Times New Roman"/>
              </a:rPr>
              <a:t>д.с.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46200" y="5661000"/>
            <a:ext cx="73080" cy="7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1233360" y="4984920"/>
            <a:ext cx="73080" cy="7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1790640" y="5248440"/>
            <a:ext cx="73080" cy="7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1790640" y="5915160"/>
            <a:ext cx="73080" cy="7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2206800" y="5537160"/>
            <a:ext cx="72720" cy="7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592360" y="5907240"/>
            <a:ext cx="73080" cy="7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982800" y="47466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1954080" y="52974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 rot="16200000">
            <a:off x="393120" y="54396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rot="16200000">
            <a:off x="1545120" y="5015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rot="16200000">
            <a:off x="1545120" y="5688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 rot="16200000">
            <a:off x="2327760" y="56836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639720" y="4062240"/>
            <a:ext cx="12081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 учё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род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деформ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терж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rot="5400000">
            <a:off x="233640" y="4958640"/>
            <a:ext cx="287280" cy="107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 rot="5400000">
            <a:off x="1358280" y="5506200"/>
            <a:ext cx="287280" cy="108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420840" y="4869000"/>
            <a:ext cx="0" cy="28872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1547640" y="5416560"/>
            <a:ext cx="0" cy="28908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423720" y="501336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1681200" y="4633920"/>
            <a:ext cx="287280" cy="108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539640" y="4635360"/>
            <a:ext cx="287280" cy="108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39640" y="4737240"/>
            <a:ext cx="2872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679400" y="4734000"/>
            <a:ext cx="28764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684360" y="474984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1835280" y="475632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541520" y="5478480"/>
            <a:ext cx="249120" cy="730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1547640" y="5570640"/>
            <a:ext cx="249480" cy="71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790640" y="469260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2620800" y="529920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2473200" y="5151600"/>
            <a:ext cx="287640" cy="107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478240" y="5254560"/>
            <a:ext cx="287280" cy="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576520" y="52102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36480" y="469260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76200" y="49658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1503360" y="54388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1503360" y="558972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3780000" y="6118200"/>
            <a:ext cx="1042920" cy="35892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3198960" y="4811760"/>
            <a:ext cx="571500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арнирная систем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получается из задан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утём введения цилиндрических шарниров 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 пространственной системе – шаровых шарниров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 во все жёсткие узлы, включ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порные защемления, и продольных поступательных шарниров в стержни, для которых требуется учитывать удли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корочения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 при их растяжении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жатии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,  а также удалением всех упругих связей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линейных и угловых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3745080" y="5996160"/>
            <a:ext cx="50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д.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= W</a:t>
            </a:r>
            <a:r>
              <a:rPr b="1" lang="ru-RU" sz="2200" spc="-1" strike="noStrike" baseline="-25000">
                <a:solidFill>
                  <a:srgbClr val="000000"/>
                </a:solidFill>
                <a:latin typeface="Times New Roman"/>
              </a:rPr>
              <a:t>ш.с.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c0000"/>
                </a:solidFill>
                <a:latin typeface="Arial Narrow"/>
              </a:rPr>
              <a:t>если Ш.С. – без лишних связей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rot="20695800">
            <a:off x="3112560" y="5162400"/>
            <a:ext cx="144720" cy="1013040"/>
          </a:xfrm>
          <a:prstGeom prst="downArrow">
            <a:avLst>
              <a:gd name="adj1" fmla="val 47315"/>
              <a:gd name="adj2" fmla="val 134394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4402080" y="6357960"/>
            <a:ext cx="26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.с. – дополнительные связ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3" dur="indefinite" restart="never" nodeType="tmRoot">
          <p:childTnLst>
            <p:seq>
              <p:cTn id="4914" dur="indefinite" nodeType="mainSeq">
                <p:childTnLst>
                  <p:par>
                    <p:cTn id="4915" fill="hold">
                      <p:stCondLst>
                        <p:cond delay="0"/>
                      </p:stCondLst>
                      <p:childTnLst>
                        <p:par>
                          <p:cTn id="4916" fill="hold">
                            <p:stCondLst>
                              <p:cond delay="0"/>
                            </p:stCondLst>
                            <p:childTnLst>
                              <p:par>
                                <p:cTn id="49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9" dur="1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0" dur="1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1" dur="10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2" fill="hold">
                      <p:stCondLst>
                        <p:cond delay="indefinite"/>
                      </p:stCondLst>
                      <p:childTnLst>
                        <p:par>
                          <p:cTn id="4923" fill="hold">
                            <p:stCondLst>
                              <p:cond delay="0"/>
                            </p:stCondLst>
                            <p:childTnLst>
                              <p:par>
                                <p:cTn id="4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6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9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2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5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8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1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4" dur="1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7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0" dur="1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3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6" dur="1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9" dur="1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0" fill="hold">
                      <p:stCondLst>
                        <p:cond delay="indefinite"/>
                      </p:stCondLst>
                      <p:childTnLst>
                        <p:par>
                          <p:cTn id="4961" fill="hold">
                            <p:stCondLst>
                              <p:cond delay="0"/>
                            </p:stCondLst>
                            <p:childTnLst>
                              <p:par>
                                <p:cTn id="4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4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7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0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3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6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9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2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5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6" fill="hold">
                      <p:stCondLst>
                        <p:cond delay="indefinite"/>
                      </p:stCondLst>
                      <p:childTnLst>
                        <p:par>
                          <p:cTn id="4987" fill="hold">
                            <p:stCondLst>
                              <p:cond delay="0"/>
                            </p:stCondLst>
                            <p:childTnLst>
                              <p:par>
                                <p:cTn id="4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0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3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6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9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5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8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2" fill="hold">
                      <p:stCondLst>
                        <p:cond delay="indefinite"/>
                      </p:stCondLst>
                      <p:childTnLst>
                        <p:par>
                          <p:cTn id="5013" fill="hold">
                            <p:stCondLst>
                              <p:cond delay="0"/>
                            </p:stCondLst>
                            <p:childTnLst>
                              <p:par>
                                <p:cTn id="50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6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9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2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8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1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2" fill="hold">
                      <p:stCondLst>
                        <p:cond delay="indefinite"/>
                      </p:stCondLst>
                      <p:childTnLst>
                        <p:par>
                          <p:cTn id="5033" fill="hold">
                            <p:stCondLst>
                              <p:cond delay="0"/>
                            </p:stCondLst>
                            <p:childTnLst>
                              <p:par>
                                <p:cTn id="50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6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5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8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7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8" fill="hold">
                      <p:stCondLst>
                        <p:cond delay="indefinite"/>
                      </p:stCondLst>
                      <p:childTnLst>
                        <p:par>
                          <p:cTn id="5059" fill="hold">
                            <p:stCondLst>
                              <p:cond delay="0"/>
                            </p:stCondLst>
                            <p:childTnLst>
                              <p:par>
                                <p:cTn id="50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2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3" fill="hold">
                      <p:stCondLst>
                        <p:cond delay="indefinite"/>
                      </p:stCondLst>
                      <p:childTnLst>
                        <p:par>
                          <p:cTn id="5064" fill="hold">
                            <p:stCondLst>
                              <p:cond delay="0"/>
                            </p:stCondLst>
                            <p:childTnLst>
                              <p:par>
                                <p:cTn id="50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7" dur="10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8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9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3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755640" y="658800"/>
            <a:ext cx="7632720" cy="165564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763640" y="690480"/>
            <a:ext cx="5545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Основная система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95280" y="957240"/>
            <a:ext cx="835344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как правило, кинематически определимая систе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аемая из заданной деформируем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ём введения в расчётные узлы минимально необходимых угловых и линейных связей по направлениям перемещений, принимаемых за основные неизвест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432080" y="347508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H="1">
            <a:off x="1647360" y="3475080"/>
            <a:ext cx="73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1254240" y="3471840"/>
            <a:ext cx="16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2033640" y="347184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1601640" y="3774600"/>
            <a:ext cx="41760" cy="155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rot="20400000">
            <a:off x="1510920" y="2963880"/>
            <a:ext cx="7128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1542960" y="2957400"/>
            <a:ext cx="179640" cy="503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2728800" y="34750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2944440" y="3475080"/>
            <a:ext cx="730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550960" y="3471840"/>
            <a:ext cx="16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3330720" y="3471840"/>
            <a:ext cx="16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2898360" y="3774600"/>
            <a:ext cx="41760" cy="155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2840040" y="2957400"/>
            <a:ext cx="179280" cy="503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2627280" y="29653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2627280" y="292572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627280" y="3003480"/>
            <a:ext cx="144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700360" y="2998800"/>
            <a:ext cx="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598840" y="3143160"/>
            <a:ext cx="71280" cy="14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2733840" y="3141720"/>
            <a:ext cx="7128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665440" y="314172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2733840" y="3141720"/>
            <a:ext cx="0" cy="144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2292480" y="34354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2292480" y="34830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2292480" y="35305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447920" y="2868480"/>
            <a:ext cx="1079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гл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363920" y="34606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803760" y="3478320"/>
            <a:ext cx="161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363920" y="3772080"/>
            <a:ext cx="0" cy="16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 flipH="1">
            <a:off x="3995280" y="3473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749840" y="3341520"/>
            <a:ext cx="71280" cy="25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4749840" y="3341520"/>
            <a:ext cx="0" cy="2527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4403880" y="3473280"/>
            <a:ext cx="28728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389480" y="34304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695840" y="3424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995640" y="2909880"/>
            <a:ext cx="10796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Линей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706320" y="472608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3009240" y="472608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1600200" y="4221000"/>
            <a:ext cx="1366920" cy="50508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1600200" y="472608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1585800" y="466884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2901960" y="467820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498680" y="47260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 rot="16042800">
            <a:off x="3013920" y="472752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1430280" y="54403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3004920" y="54403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96960" y="4776840"/>
            <a:ext cx="7128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3846600" y="4778280"/>
            <a:ext cx="71280" cy="179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611280" y="5003640"/>
            <a:ext cx="21564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611280" y="50133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770280" y="497520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770280" y="4984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292400" y="5638680"/>
            <a:ext cx="431640" cy="7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292400" y="563868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2852640" y="5638680"/>
            <a:ext cx="432000" cy="7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2852640" y="56386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528920" y="559584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2963880" y="55897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355760" y="544680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 flipH="1">
            <a:off x="3122640" y="5442120"/>
            <a:ext cx="100080" cy="18540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679320" y="468792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679320" y="495612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3832200" y="46879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833640" y="49323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2031840" y="46911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1908000" y="4114800"/>
            <a:ext cx="216000" cy="216000"/>
          </a:xfrm>
          <a:prstGeom prst="ellipse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503440" y="4121280"/>
            <a:ext cx="216000" cy="215640"/>
          </a:xfrm>
          <a:prstGeom prst="ellipse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403280" y="4667400"/>
            <a:ext cx="216000" cy="215640"/>
          </a:xfrm>
          <a:prstGeom prst="ellipse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959200" y="4676760"/>
            <a:ext cx="215640" cy="216000"/>
          </a:xfrm>
          <a:prstGeom prst="ellipse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1467000" y="5392800"/>
            <a:ext cx="215640" cy="216000"/>
          </a:xfrm>
          <a:prstGeom prst="ellipse">
            <a:avLst/>
          </a:prstGeom>
          <a:noFill/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2900520" y="5364000"/>
            <a:ext cx="215640" cy="216000"/>
          </a:xfrm>
          <a:prstGeom prst="ellipse">
            <a:avLst/>
          </a:prstGeom>
          <a:noFill/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782720" y="5078520"/>
            <a:ext cx="1008000" cy="336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ж.у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291280" y="329256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 flipH="1">
            <a:off x="7593840" y="329256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6184800" y="2787480"/>
            <a:ext cx="1366920" cy="50508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6184800" y="329256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6170760" y="32353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7486560" y="32446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6083280" y="329256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560" bIns="255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rot="16042800">
            <a:off x="7598520" y="329400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6014880" y="4006800"/>
            <a:ext cx="1447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7589520" y="400680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281560" y="3343320"/>
            <a:ext cx="7164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8431200" y="3344760"/>
            <a:ext cx="71280" cy="179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5195880" y="3570120"/>
            <a:ext cx="216000" cy="7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195880" y="3579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8353440" y="3570120"/>
            <a:ext cx="21600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8353440" y="3579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5877000" y="4205160"/>
            <a:ext cx="431640" cy="71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5877000" y="42051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7437600" y="4205160"/>
            <a:ext cx="431640" cy="7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7437600" y="42051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6113520" y="416232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7548480" y="41562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940360" y="401328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H="1">
            <a:off x="7707240" y="4008600"/>
            <a:ext cx="100080" cy="18540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264280" y="325440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264280" y="352260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8416800" y="32544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8416800" y="352728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6616800" y="32767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097680" y="3216240"/>
            <a:ext cx="166680" cy="1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486560" y="3219480"/>
            <a:ext cx="166680" cy="1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6540480" y="275256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7174080" y="27478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6073920" y="4094280"/>
            <a:ext cx="166680" cy="1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7510320" y="4097160"/>
            <a:ext cx="166680" cy="167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5761080" y="23716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арнирная сист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6883560" y="3262320"/>
            <a:ext cx="36360" cy="7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6831000" y="32576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6831000" y="33307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rot="5400000">
            <a:off x="5294880" y="3417120"/>
            <a:ext cx="36360" cy="7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5281560" y="33782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364000" y="337968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rot="5400000">
            <a:off x="8442720" y="3402720"/>
            <a:ext cx="36360" cy="73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8424720" y="33638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8507520" y="33656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4968720" y="3164040"/>
            <a:ext cx="71640" cy="2523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5041800" y="315900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5041800" y="32893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4997520" y="323856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rot="5400000">
            <a:off x="5273280" y="2879640"/>
            <a:ext cx="71280" cy="2523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 flipH="1">
            <a:off x="5178240" y="30402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5310360" y="303228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rot="5400000">
            <a:off x="5263920" y="29908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8748720" y="3165480"/>
            <a:ext cx="71280" cy="252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8747280" y="31654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8516880" y="329580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8704440" y="324468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rot="5400000">
            <a:off x="8421120" y="2884320"/>
            <a:ext cx="71280" cy="2523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8326080" y="30384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8458200" y="303228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rot="5400000">
            <a:off x="8411400" y="29955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249960" y="2666880"/>
            <a:ext cx="71640" cy="252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323040" y="266220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6323040" y="279252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278400" y="27417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6456240" y="4137120"/>
            <a:ext cx="873360" cy="37116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6438960" y="3627360"/>
            <a:ext cx="873000" cy="37116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=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6769080" y="3978360"/>
            <a:ext cx="217440" cy="142920"/>
          </a:xfrm>
          <a:prstGeom prst="downArrow">
            <a:avLst>
              <a:gd name="adj1" fmla="val 44528"/>
              <a:gd name="adj2" fmla="val 48889"/>
            </a:avLst>
          </a:prstGeom>
          <a:solidFill>
            <a:srgbClr val="bbe0e3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3976560" y="4508640"/>
            <a:ext cx="649440" cy="215640"/>
          </a:xfrm>
          <a:prstGeom prst="rightArrow">
            <a:avLst>
              <a:gd name="adj1" fmla="val 50000"/>
              <a:gd name="adj2" fmla="val 75292"/>
            </a:avLst>
          </a:prstGeom>
          <a:solidFill>
            <a:srgbClr val="bbe0e3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 rot="4495200">
            <a:off x="5922720" y="4125960"/>
            <a:ext cx="198720" cy="722160"/>
          </a:xfrm>
          <a:prstGeom prst="downArrow">
            <a:avLst>
              <a:gd name="adj1" fmla="val 51481"/>
              <a:gd name="adj2" fmla="val 99852"/>
            </a:avLst>
          </a:prstGeom>
          <a:solidFill>
            <a:srgbClr val="bbe0e3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4559400" y="4797360"/>
            <a:ext cx="1008000" cy="39888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038560" y="5553000"/>
            <a:ext cx="86544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7341480" y="5553000"/>
            <a:ext cx="865080" cy="863640"/>
          </a:xfrm>
          <a:custGeom>
            <a:avLst/>
            <a:gdLst/>
            <a:ahLst/>
            <a:rect l="l" t="t" r="r" b="b"/>
            <a:pathLst>
              <a:path w="545" h="544">
                <a:moveTo>
                  <a:pt x="0" y="0"/>
                </a:moveTo>
                <a:lnTo>
                  <a:pt x="545" y="0"/>
                </a:lnTo>
                <a:lnTo>
                  <a:pt x="545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5932440" y="5048280"/>
            <a:ext cx="1366920" cy="504720"/>
          </a:xfrm>
          <a:custGeom>
            <a:avLst/>
            <a:gdLst/>
            <a:ahLst/>
            <a:rect l="l" t="t" r="r" b="b"/>
            <a:pathLst>
              <a:path w="907" h="318">
                <a:moveTo>
                  <a:pt x="0" y="318"/>
                </a:moveTo>
                <a:lnTo>
                  <a:pt x="272" y="0"/>
                </a:lnTo>
                <a:lnTo>
                  <a:pt x="680" y="0"/>
                </a:lnTo>
                <a:lnTo>
                  <a:pt x="907" y="3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932440" y="5553000"/>
            <a:ext cx="13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5918040" y="549576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7234200" y="550548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5830920" y="555300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rot="16042800">
            <a:off x="7346160" y="555516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lnTo>
                  <a:pt x="46" y="0"/>
                </a:lnTo>
                <a:lnTo>
                  <a:pt x="46" y="4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762520" y="6267600"/>
            <a:ext cx="14472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 flipH="1">
            <a:off x="7337160" y="6267600"/>
            <a:ext cx="144360" cy="14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029200" y="5603760"/>
            <a:ext cx="71280" cy="17964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8178840" y="5605560"/>
            <a:ext cx="71280" cy="179280"/>
          </a:xfrm>
          <a:custGeom>
            <a:avLst/>
            <a:gdLst/>
            <a:ahLst/>
            <a:rect l="l" t="t" r="r" b="b"/>
            <a:pathLst>
              <a:path w="46" h="272">
                <a:moveTo>
                  <a:pt x="0" y="0"/>
                </a:moveTo>
                <a:lnTo>
                  <a:pt x="46" y="45"/>
                </a:lnTo>
                <a:lnTo>
                  <a:pt x="0" y="91"/>
                </a:lnTo>
                <a:lnTo>
                  <a:pt x="46" y="136"/>
                </a:lnTo>
                <a:lnTo>
                  <a:pt x="0" y="181"/>
                </a:lnTo>
                <a:lnTo>
                  <a:pt x="46" y="227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4943520" y="5830920"/>
            <a:ext cx="216000" cy="71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4943520" y="5840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8101080" y="5830920"/>
            <a:ext cx="216000" cy="71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8101080" y="5840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624640" y="6465960"/>
            <a:ext cx="431640" cy="71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624640" y="64659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7184880" y="6465960"/>
            <a:ext cx="432000" cy="7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7184880" y="646596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861160" y="642312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7296120" y="64166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688000" y="6273720"/>
            <a:ext cx="11592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H="1">
            <a:off x="7454880" y="6269040"/>
            <a:ext cx="100080" cy="185760"/>
          </a:xfrm>
          <a:custGeom>
            <a:avLst/>
            <a:gdLst/>
            <a:ahLst/>
            <a:rect l="l" t="t" r="r" b="b"/>
            <a:pathLst>
              <a:path w="73" h="117">
                <a:moveTo>
                  <a:pt x="48" y="0"/>
                </a:moveTo>
                <a:lnTo>
                  <a:pt x="73" y="46"/>
                </a:lnTo>
                <a:lnTo>
                  <a:pt x="24" y="40"/>
                </a:lnTo>
                <a:lnTo>
                  <a:pt x="54" y="79"/>
                </a:lnTo>
                <a:lnTo>
                  <a:pt x="6" y="72"/>
                </a:lnTo>
                <a:lnTo>
                  <a:pt x="35" y="111"/>
                </a:lnTo>
                <a:lnTo>
                  <a:pt x="0" y="11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011560" y="551484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011560" y="578340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8164440" y="551484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8164440" y="57880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364440" y="55180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rot="19380000">
            <a:off x="5682960" y="5253120"/>
            <a:ext cx="71280" cy="179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5691240" y="5253120"/>
            <a:ext cx="21600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rot="19380000">
            <a:off x="7103880" y="6118200"/>
            <a:ext cx="71280" cy="179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7112160" y="6118200"/>
            <a:ext cx="215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rot="19380000">
            <a:off x="6113520" y="4743360"/>
            <a:ext cx="71280" cy="179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6121440" y="4748040"/>
            <a:ext cx="21600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rot="2220000">
            <a:off x="7121520" y="4738680"/>
            <a:ext cx="71280" cy="1792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6964560" y="4735440"/>
            <a:ext cx="21204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rot="2220000">
            <a:off x="7500960" y="5241960"/>
            <a:ext cx="71280" cy="179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7343640" y="5243760"/>
            <a:ext cx="212400" cy="3027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rot="2220000">
            <a:off x="6070680" y="6105600"/>
            <a:ext cx="71280" cy="1792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5913360" y="6102360"/>
            <a:ext cx="212760" cy="3031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4721400" y="5427720"/>
            <a:ext cx="71280" cy="25236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794120" y="542304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4794120" y="555300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749840" y="5502240"/>
            <a:ext cx="9036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 rot="5400000">
            <a:off x="5022360" y="5143320"/>
            <a:ext cx="71280" cy="2523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 flipH="1">
            <a:off x="4927320" y="52974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5059440" y="5295960"/>
            <a:ext cx="0" cy="21600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rot="5400000">
            <a:off x="5012640" y="52545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8489880" y="5427720"/>
            <a:ext cx="71640" cy="2523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8488440" y="542772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8258040" y="5557680"/>
            <a:ext cx="21600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8445600" y="5506920"/>
            <a:ext cx="9036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rot="5400000">
            <a:off x="8172000" y="5143320"/>
            <a:ext cx="71280" cy="2523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H="1">
            <a:off x="8076960" y="5297400"/>
            <a:ext cx="25236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8209080" y="5291280"/>
            <a:ext cx="0" cy="215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rot="5400000">
            <a:off x="8162280" y="525456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5954760" y="4919760"/>
            <a:ext cx="71280" cy="2523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6027840" y="4915080"/>
            <a:ext cx="0" cy="252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027840" y="5045040"/>
            <a:ext cx="215640" cy="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983200" y="49942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6227640" y="4998960"/>
            <a:ext cx="90720" cy="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877000" y="5205240"/>
            <a:ext cx="3960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6300720" y="4686480"/>
            <a:ext cx="39600" cy="3538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7289640" y="6049800"/>
            <a:ext cx="39960" cy="35424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H="1">
            <a:off x="6958080" y="4705200"/>
            <a:ext cx="23760" cy="3304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7337520" y="5210280"/>
            <a:ext cx="23760" cy="33012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5921280" y="6060960"/>
            <a:ext cx="23760" cy="330480"/>
          </a:xfrm>
          <a:prstGeom prst="line">
            <a:avLst/>
          </a:prstGeom>
          <a:ln w="936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5729400" y="5243400"/>
            <a:ext cx="147600" cy="6696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142040" y="607860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6151680" y="4710240"/>
            <a:ext cx="147600" cy="66600"/>
          </a:xfrm>
          <a:custGeom>
            <a:avLst/>
            <a:gdLst/>
            <a:ahLst/>
            <a:rect l="l" t="t" r="r" b="b"/>
            <a:pathLst>
              <a:path w="93" h="42">
                <a:moveTo>
                  <a:pt x="0" y="42"/>
                </a:moveTo>
                <a:cubicBezTo>
                  <a:pt x="6" y="37"/>
                  <a:pt x="21" y="22"/>
                  <a:pt x="36" y="15"/>
                </a:cubicBezTo>
                <a:cubicBezTo>
                  <a:pt x="51" y="8"/>
                  <a:pt x="81" y="3"/>
                  <a:pt x="93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40360" y="6086520"/>
            <a:ext cx="146160" cy="61920"/>
          </a:xfrm>
          <a:custGeom>
            <a:avLst/>
            <a:gdLst/>
            <a:ahLst/>
            <a:rect l="l" t="t" r="r" b="b"/>
            <a:pathLst>
              <a:path w="92" h="39">
                <a:moveTo>
                  <a:pt x="92" y="39"/>
                </a:moveTo>
                <a:cubicBezTo>
                  <a:pt x="86" y="36"/>
                  <a:pt x="69" y="21"/>
                  <a:pt x="54" y="15"/>
                </a:cubicBezTo>
                <a:cubicBezTo>
                  <a:pt x="39" y="9"/>
                  <a:pt x="11" y="3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985080" y="4724280"/>
            <a:ext cx="145800" cy="61920"/>
          </a:xfrm>
          <a:custGeom>
            <a:avLst/>
            <a:gdLst/>
            <a:ahLst/>
            <a:rect l="l" t="t" r="r" b="b"/>
            <a:pathLst>
              <a:path w="92" h="39">
                <a:moveTo>
                  <a:pt x="92" y="39"/>
                </a:moveTo>
                <a:cubicBezTo>
                  <a:pt x="86" y="36"/>
                  <a:pt x="69" y="21"/>
                  <a:pt x="54" y="15"/>
                </a:cubicBezTo>
                <a:cubicBezTo>
                  <a:pt x="39" y="9"/>
                  <a:pt x="11" y="3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7364520" y="5234040"/>
            <a:ext cx="145800" cy="61920"/>
          </a:xfrm>
          <a:custGeom>
            <a:avLst/>
            <a:gdLst/>
            <a:ahLst/>
            <a:rect l="l" t="t" r="r" b="b"/>
            <a:pathLst>
              <a:path w="92" h="39">
                <a:moveTo>
                  <a:pt x="92" y="39"/>
                </a:moveTo>
                <a:cubicBezTo>
                  <a:pt x="86" y="36"/>
                  <a:pt x="69" y="21"/>
                  <a:pt x="54" y="15"/>
                </a:cubicBezTo>
                <a:cubicBezTo>
                  <a:pt x="39" y="9"/>
                  <a:pt x="11" y="3"/>
                  <a:pt x="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273640" y="5459400"/>
            <a:ext cx="0" cy="64764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7956720" y="5459400"/>
            <a:ext cx="0" cy="64764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6516720" y="4975200"/>
            <a:ext cx="0" cy="28728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052960" y="587376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8210520" y="5883120"/>
            <a:ext cx="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6334200" y="5046840"/>
            <a:ext cx="0" cy="215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5052960" y="6021360"/>
            <a:ext cx="21600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334200" y="5229360"/>
            <a:ext cx="1825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7956720" y="6021360"/>
            <a:ext cx="24912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491000" y="5397480"/>
            <a:ext cx="649440" cy="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8118360" y="5402160"/>
            <a:ext cx="649440" cy="0"/>
          </a:xfrm>
          <a:prstGeom prst="line">
            <a:avLst/>
          </a:prstGeom>
          <a:ln w="9360">
            <a:solidFill>
              <a:srgbClr val="99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4485960" y="5554800"/>
            <a:ext cx="1983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 flipH="1">
            <a:off x="8550000" y="5556240"/>
            <a:ext cx="198360" cy="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4529160" y="5400360"/>
            <a:ext cx="0" cy="144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flipV="1">
            <a:off x="8699400" y="5411520"/>
            <a:ext cx="0" cy="14436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6245280" y="45021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629400" y="4508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5508720" y="48909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7308720" y="48942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896080" y="57452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6912000" y="57261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4140360" y="5222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965840" y="59641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6222960" y="51674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7902720" y="5959440"/>
            <a:ext cx="50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8491680" y="5038560"/>
            <a:ext cx="50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716360" y="4437000"/>
            <a:ext cx="865440" cy="343080"/>
          </a:xfrm>
          <a:prstGeom prst="rect">
            <a:avLst/>
          </a:prstGeom>
          <a:solidFill>
            <a:srgbClr val="ca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195640" y="2349360"/>
            <a:ext cx="3456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ОСМП</a:t>
            </a:r>
            <a:r>
              <a:rPr b="1" lang="ru-RU" sz="14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=</a:t>
            </a:r>
            <a:r>
              <a:rPr b="1" lang="ru-RU" sz="14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РД</a:t>
            </a:r>
            <a:r>
              <a:rPr b="1" lang="en-US" sz="2000" spc="-1" strike="noStrike">
                <a:solidFill>
                  <a:srgbClr val="660033"/>
                </a:solidFill>
                <a:latin typeface="Arial Black"/>
              </a:rPr>
              <a:t>C</a:t>
            </a:r>
            <a:r>
              <a:rPr b="1" lang="ru-RU" sz="12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+</a:t>
            </a:r>
            <a:r>
              <a:rPr b="1" lang="ru-RU" sz="12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ДСРУ</a:t>
            </a:r>
            <a:r>
              <a:rPr b="1" lang="ru-RU" sz="12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660033"/>
                </a:solidFill>
                <a:latin typeface="Arial Black"/>
              </a:rPr>
              <a:t>+</a:t>
            </a:r>
            <a:r>
              <a:rPr b="1" lang="en-US" sz="1200" spc="-1" strike="noStrike">
                <a:solidFill>
                  <a:srgbClr val="660033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 Black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4" dur="indefinite" restart="never" nodeType="tmRoot">
          <p:childTnLst>
            <p:seq>
              <p:cTn id="5075" dur="indefinite" nodeType="mainSeq">
                <p:childTnLst>
                  <p:par>
                    <p:cTn id="5076" fill="hold">
                      <p:stCondLst>
                        <p:cond delay="0"/>
                      </p:stCondLst>
                      <p:childTnLst>
                        <p:par>
                          <p:cTn id="5077" fill="hold">
                            <p:stCondLst>
                              <p:cond delay="0"/>
                            </p:stCondLst>
                            <p:childTnLst>
                              <p:par>
                                <p:cTn id="50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3" fill="hold">
                      <p:stCondLst>
                        <p:cond delay="indefinite"/>
                      </p:stCondLst>
                      <p:childTnLst>
                        <p:par>
                          <p:cTn id="5084" fill="hold">
                            <p:stCondLst>
                              <p:cond delay="0"/>
                            </p:stCondLst>
                            <p:childTnLst>
                              <p:par>
                                <p:cTn id="50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7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8" fill="hold">
                            <p:stCondLst>
                              <p:cond delay="500"/>
                            </p:stCondLst>
                            <p:childTnLst>
                              <p:par>
                                <p:cTn id="50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1" dur="80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2" dur="80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3" dur="80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4" fill="hold">
                      <p:stCondLst>
                        <p:cond delay="indefinite"/>
                      </p:stCondLst>
                      <p:childTnLst>
                        <p:par>
                          <p:cTn id="5095" fill="hold">
                            <p:stCondLst>
                              <p:cond delay="0"/>
                            </p:stCondLst>
                            <p:childTnLst>
                              <p:par>
                                <p:cTn id="5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8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9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0" dur="10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5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8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1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4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7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8" fill="hold">
                      <p:stCondLst>
                        <p:cond delay="indefinite"/>
                      </p:stCondLst>
                      <p:childTnLst>
                        <p:par>
                          <p:cTn id="5119" fill="hold">
                            <p:stCondLst>
                              <p:cond delay="0"/>
                            </p:stCondLst>
                            <p:childTnLst>
                              <p:par>
                                <p:cTn id="5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2" dur="5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5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6" fill="hold">
                      <p:stCondLst>
                        <p:cond delay="indefinite"/>
                      </p:stCondLst>
                      <p:childTnLst>
                        <p:par>
                          <p:cTn id="5127" fill="hold">
                            <p:stCondLst>
                              <p:cond delay="0"/>
                            </p:stCondLst>
                            <p:childTnLst>
                              <p:par>
                                <p:cTn id="5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0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1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2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3" fill="hold">
                      <p:stCondLst>
                        <p:cond delay="indefinite"/>
                      </p:stCondLst>
                      <p:childTnLst>
                        <p:par>
                          <p:cTn id="5134" fill="hold">
                            <p:stCondLst>
                              <p:cond delay="0"/>
                            </p:stCondLst>
                            <p:childTnLst>
                              <p:par>
                                <p:cTn id="5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7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0" dur="5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3" dur="5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6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9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2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5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8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1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4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7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0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3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6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9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2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5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6" fill="hold">
                      <p:stCondLst>
                        <p:cond delay="indefinite"/>
                      </p:stCondLst>
                      <p:childTnLst>
                        <p:par>
                          <p:cTn id="5187" fill="hold">
                            <p:stCondLst>
                              <p:cond delay="0"/>
                            </p:stCondLst>
                            <p:childTnLst>
                              <p:par>
                                <p:cTn id="5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0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3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6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9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0" fill="hold">
                      <p:stCondLst>
                        <p:cond delay="indefinite"/>
                      </p:stCondLst>
                      <p:childTnLst>
                        <p:par>
                          <p:cTn id="5201" fill="hold">
                            <p:stCondLst>
                              <p:cond delay="0"/>
                            </p:stCondLst>
                            <p:childTnLst>
                              <p:par>
                                <p:cTn id="5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7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0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3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6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9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0" fill="hold">
                      <p:stCondLst>
                        <p:cond delay="indefinite"/>
                      </p:stCondLst>
                      <p:childTnLst>
                        <p:par>
                          <p:cTn id="5221" fill="hold">
                            <p:stCondLst>
                              <p:cond delay="0"/>
                            </p:stCondLst>
                            <p:childTnLst>
                              <p:par>
                                <p:cTn id="5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4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7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0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3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9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2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5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8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1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4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7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0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3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9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5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8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1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4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7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0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3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6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9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2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5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8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9" fill="hold">
                      <p:stCondLst>
                        <p:cond delay="indefinite"/>
                      </p:stCondLst>
                      <p:childTnLst>
                        <p:par>
                          <p:cTn id="5310" fill="hold">
                            <p:stCondLst>
                              <p:cond delay="0"/>
                            </p:stCondLst>
                            <p:childTnLst>
                              <p:par>
                                <p:cTn id="5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3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4" fill="hold">
                            <p:stCondLst>
                              <p:cond delay="500"/>
                            </p:stCondLst>
                            <p:childTnLst>
                              <p:par>
                                <p:cTn id="5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7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1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5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6" fill="hold">
                      <p:stCondLst>
                        <p:cond delay="indefinite"/>
                      </p:stCondLst>
                      <p:childTnLst>
                        <p:par>
                          <p:cTn id="5327" fill="hold">
                            <p:stCondLst>
                              <p:cond delay="0"/>
                            </p:stCondLst>
                            <p:childTnLst>
                              <p:par>
                                <p:cTn id="5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0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4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5" fill="hold">
                      <p:stCondLst>
                        <p:cond delay="indefinite"/>
                      </p:stCondLst>
                      <p:childTnLst>
                        <p:par>
                          <p:cTn id="5336" fill="hold">
                            <p:stCondLst>
                              <p:cond delay="0"/>
                            </p:stCondLst>
                            <p:childTnLst>
                              <p:par>
                                <p:cTn id="5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9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0" dur="10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1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2" fill="hold">
                      <p:stCondLst>
                        <p:cond delay="indefinite"/>
                      </p:stCondLst>
                      <p:childTnLst>
                        <p:par>
                          <p:cTn id="5343" fill="hold">
                            <p:stCondLst>
                              <p:cond delay="0"/>
                            </p:stCondLst>
                            <p:childTnLst>
                              <p:par>
                                <p:cTn id="5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6" dur="1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7" dur="10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8" dur="1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2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5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8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1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4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7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0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3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6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9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2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5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8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1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4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7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0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3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6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9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2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5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8" dur="5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1" dur="5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4" dur="5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7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0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3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6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7" fill="hold">
                      <p:stCondLst>
                        <p:cond delay="indefinite"/>
                      </p:stCondLst>
                      <p:childTnLst>
                        <p:par>
                          <p:cTn id="5438" fill="hold">
                            <p:stCondLst>
                              <p:cond delay="0"/>
                            </p:stCondLst>
                            <p:childTnLst>
                              <p:par>
                                <p:cTn id="5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1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2" fill="hold">
                      <p:stCondLst>
                        <p:cond delay="indefinite"/>
                      </p:stCondLst>
                      <p:childTnLst>
                        <p:par>
                          <p:cTn id="5443" fill="hold">
                            <p:stCondLst>
                              <p:cond delay="0"/>
                            </p:stCondLst>
                            <p:childTnLst>
                              <p:par>
                                <p:cTn id="5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6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7" fill="hold">
                      <p:stCondLst>
                        <p:cond delay="indefinite"/>
                      </p:stCondLst>
                      <p:childTnLst>
                        <p:par>
                          <p:cTn id="5448" fill="hold">
                            <p:stCondLst>
                              <p:cond delay="0"/>
                            </p:stCondLst>
                            <p:childTnLst>
                              <p:par>
                                <p:cTn id="5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1" dur="5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2" fill="hold">
                      <p:stCondLst>
                        <p:cond delay="indefinite"/>
                      </p:stCondLst>
                      <p:childTnLst>
                        <p:par>
                          <p:cTn id="5453" fill="hold">
                            <p:stCondLst>
                              <p:cond delay="0"/>
                            </p:stCondLst>
                            <p:childTnLst>
                              <p:par>
                                <p:cTn id="5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6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7" fill="hold">
                      <p:stCondLst>
                        <p:cond delay="indefinite"/>
                      </p:stCondLst>
                      <p:childTnLst>
                        <p:par>
                          <p:cTn id="5458" fill="hold">
                            <p:stCondLst>
                              <p:cond delay="0"/>
                            </p:stCondLst>
                            <p:childTnLst>
                              <p:par>
                                <p:cTn id="5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1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2" fill="hold">
                      <p:stCondLst>
                        <p:cond delay="indefinite"/>
                      </p:stCondLst>
                      <p:childTnLst>
                        <p:par>
                          <p:cTn id="5463" fill="hold">
                            <p:stCondLst>
                              <p:cond delay="0"/>
                            </p:stCondLst>
                            <p:childTnLst>
                              <p:par>
                                <p:cTn id="5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6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7" fill="hold">
                      <p:stCondLst>
                        <p:cond delay="indefinite"/>
                      </p:stCondLst>
                      <p:childTnLst>
                        <p:par>
                          <p:cTn id="5468" fill="hold">
                            <p:stCondLst>
                              <p:cond delay="0"/>
                            </p:stCondLst>
                            <p:childTnLst>
                              <p:par>
                                <p:cTn id="5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1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4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7" dur="5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8" fill="hold">
                      <p:stCondLst>
                        <p:cond delay="indefinite"/>
                      </p:stCondLst>
                      <p:childTnLst>
                        <p:par>
                          <p:cTn id="5479" fill="hold">
                            <p:stCondLst>
                              <p:cond delay="0"/>
                            </p:stCondLst>
                            <p:childTnLst>
                              <p:par>
                                <p:cTn id="5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2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5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9" fill="hold">
                      <p:stCondLst>
                        <p:cond delay="indefinite"/>
                      </p:stCondLst>
                      <p:childTnLst>
                        <p:par>
                          <p:cTn id="5490" fill="hold">
                            <p:stCondLst>
                              <p:cond delay="0"/>
                            </p:stCondLst>
                            <p:childTnLst>
                              <p:par>
                                <p:cTn id="5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3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6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9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fill="hold">
                      <p:stCondLst>
                        <p:cond delay="indefinite"/>
                      </p:stCondLst>
                      <p:childTnLst>
                        <p:par>
                          <p:cTn id="5501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3" dur="1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6" dur="1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0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3" dur="10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5" fill="hold">
                      <p:stCondLst>
                        <p:cond delay="indefinite"/>
                      </p:stCondLst>
                      <p:childTnLst>
                        <p:par>
                          <p:cTn id="5516" fill="hold">
                            <p:stCondLst>
                              <p:cond delay="0"/>
                            </p:stCondLst>
                            <p:childTnLst>
                              <p:par>
                                <p:cTn id="5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9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2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5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8" dur="5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9" fill="hold">
                      <p:stCondLst>
                        <p:cond delay="indefinite"/>
                      </p:stCondLst>
                      <p:childTnLst>
                        <p:par>
                          <p:cTn id="5530" fill="hold">
                            <p:stCondLst>
                              <p:cond delay="0"/>
                            </p:stCondLst>
                            <p:childTnLst>
                              <p:par>
                                <p:cTn id="5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3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6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9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2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3" fill="hold">
                      <p:stCondLst>
                        <p:cond delay="indefinite"/>
                      </p:stCondLst>
                      <p:childTnLst>
                        <p:par>
                          <p:cTn id="5544" fill="hold">
                            <p:stCondLst>
                              <p:cond delay="0"/>
                            </p:stCondLst>
                            <p:childTnLst>
                              <p:par>
                                <p:cTn id="5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7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0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3" dur="5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6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7" fill="hold">
                      <p:stCondLst>
                        <p:cond delay="indefinite"/>
                      </p:stCondLst>
                      <p:childTnLst>
                        <p:par>
                          <p:cTn id="5558" fill="hold">
                            <p:stCondLst>
                              <p:cond delay="0"/>
                            </p:stCondLst>
                            <p:childTnLst>
                              <p:par>
                                <p:cTn id="5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4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0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1" fill="hold">
                      <p:stCondLst>
                        <p:cond delay="indefinite"/>
                      </p:stCondLst>
                      <p:childTnLst>
                        <p:par>
                          <p:cTn id="5572" fill="hold">
                            <p:stCondLst>
                              <p:cond delay="0"/>
                            </p:stCondLst>
                            <p:childTnLst>
                              <p:par>
                                <p:cTn id="5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5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8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1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4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5" fill="hold">
                      <p:stCondLst>
                        <p:cond delay="indefinite"/>
                      </p:stCondLst>
                      <p:childTnLst>
                        <p:par>
                          <p:cTn id="5586" fill="hold">
                            <p:stCondLst>
                              <p:cond delay="0"/>
                            </p:stCondLst>
                            <p:childTnLst>
                              <p:par>
                                <p:cTn id="5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9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0" fill="hold">
                      <p:stCondLst>
                        <p:cond delay="indefinite"/>
                      </p:stCondLst>
                      <p:childTnLst>
                        <p:par>
                          <p:cTn id="5591" fill="hold">
                            <p:stCondLst>
                              <p:cond delay="0"/>
                            </p:stCondLst>
                            <p:childTnLst>
                              <p:par>
                                <p:cTn id="5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4" dur="10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5" dur="10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6" dur="10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9" dur="10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0" dur="10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1" dur="10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2" fill="hold">
                      <p:stCondLst>
                        <p:cond delay="indefinite"/>
                      </p:stCondLst>
                      <p:childTnLst>
                        <p:par>
                          <p:cTn id="5603" fill="hold">
                            <p:stCondLst>
                              <p:cond delay="0"/>
                            </p:stCondLst>
                            <p:childTnLst>
                              <p:par>
                                <p:cTn id="5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6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9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2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3" fill="hold">
                      <p:stCondLst>
                        <p:cond delay="indefinite"/>
                      </p:stCondLst>
                      <p:childTnLst>
                        <p:par>
                          <p:cTn id="5614" fill="hold">
                            <p:stCondLst>
                              <p:cond delay="0"/>
                            </p:stCondLst>
                            <p:childTnLst>
                              <p:par>
                                <p:cTn id="5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7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8" fill="hold">
                      <p:stCondLst>
                        <p:cond delay="indefinite"/>
                      </p:stCondLst>
                      <p:childTnLst>
                        <p:par>
                          <p:cTn id="5619" fill="hold">
                            <p:stCondLst>
                              <p:cond delay="0"/>
                            </p:stCondLst>
                            <p:childTnLst>
                              <p:par>
                                <p:cTn id="5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2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5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8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1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4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7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0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3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6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9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2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5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8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1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4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7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0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3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6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9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2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5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8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1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4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7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0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3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6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7" fill="hold">
                      <p:stCondLst>
                        <p:cond delay="indefinite"/>
                      </p:stCondLst>
                      <p:childTnLst>
                        <p:par>
                          <p:cTn id="5708" fill="hold">
                            <p:stCondLst>
                              <p:cond delay="0"/>
                            </p:stCondLst>
                            <p:childTnLst>
                              <p:par>
                                <p:cTn id="5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1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4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5" fill="hold">
                      <p:stCondLst>
                        <p:cond delay="indefinite"/>
                      </p:stCondLst>
                      <p:childTnLst>
                        <p:par>
                          <p:cTn id="5716" fill="hold">
                            <p:stCondLst>
                              <p:cond delay="0"/>
                            </p:stCondLst>
                            <p:childTnLst>
                              <p:par>
                                <p:cTn id="5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9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2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3" fill="hold">
                      <p:stCondLst>
                        <p:cond delay="indefinite"/>
                      </p:stCondLst>
                      <p:childTnLst>
                        <p:par>
                          <p:cTn id="5724" fill="hold">
                            <p:stCondLst>
                              <p:cond delay="0"/>
                            </p:stCondLst>
                            <p:childTnLst>
                              <p:par>
                                <p:cTn id="57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7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1" fill="hold">
                      <p:stCondLst>
                        <p:cond delay="indefinite"/>
                      </p:stCondLst>
                      <p:childTnLst>
                        <p:par>
                          <p:cTn id="5732" fill="hold">
                            <p:stCondLst>
                              <p:cond delay="0"/>
                            </p:stCondLst>
                            <p:childTnLst>
                              <p:par>
                                <p:cTn id="5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5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8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9" fill="hold">
                      <p:stCondLst>
                        <p:cond delay="indefinite"/>
                      </p:stCondLst>
                      <p:childTnLst>
                        <p:par>
                          <p:cTn id="5740" fill="hold">
                            <p:stCondLst>
                              <p:cond delay="0"/>
                            </p:stCondLst>
                            <p:childTnLst>
                              <p:par>
                                <p:cTn id="5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3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6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7" fill="hold">
                      <p:stCondLst>
                        <p:cond delay="indefinite"/>
                      </p:stCondLst>
                      <p:childTnLst>
                        <p:par>
                          <p:cTn id="5748" fill="hold">
                            <p:stCondLst>
                              <p:cond delay="0"/>
                            </p:stCondLst>
                            <p:childTnLst>
                              <p:par>
                                <p:cTn id="57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1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4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5" fill="hold">
                      <p:stCondLst>
                        <p:cond delay="indefinite"/>
                      </p:stCondLst>
                      <p:childTnLst>
                        <p:par>
                          <p:cTn id="5756" fill="hold">
                            <p:stCondLst>
                              <p:cond delay="0"/>
                            </p:stCondLst>
                            <p:childTnLst>
                              <p:par>
                                <p:cTn id="5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9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2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5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8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9" fill="hold">
                      <p:stCondLst>
                        <p:cond delay="indefinite"/>
                      </p:stCondLst>
                      <p:childTnLst>
                        <p:par>
                          <p:cTn id="5770" fill="hold">
                            <p:stCondLst>
                              <p:cond delay="0"/>
                            </p:stCondLst>
                            <p:childTnLst>
                              <p:par>
                                <p:cTn id="57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3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6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9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2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3" fill="hold">
                      <p:stCondLst>
                        <p:cond delay="indefinite"/>
                      </p:stCondLst>
                      <p:childTnLst>
                        <p:par>
                          <p:cTn id="5784" fill="hold">
                            <p:stCondLst>
                              <p:cond delay="0"/>
                            </p:stCondLst>
                            <p:childTnLst>
                              <p:par>
                                <p:cTn id="5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7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0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3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6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7" fill="hold">
                      <p:stCondLst>
                        <p:cond delay="indefinite"/>
                      </p:stCondLst>
                      <p:childTnLst>
                        <p:par>
                          <p:cTn id="5798" fill="hold">
                            <p:stCondLst>
                              <p:cond delay="0"/>
                            </p:stCondLst>
                            <p:childTnLst>
                              <p:par>
                                <p:cTn id="5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4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7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0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1" fill="hold">
                      <p:stCondLst>
                        <p:cond delay="indefinite"/>
                      </p:stCondLst>
                      <p:childTnLst>
                        <p:par>
                          <p:cTn id="5812" fill="hold">
                            <p:stCondLst>
                              <p:cond delay="0"/>
                            </p:stCondLst>
                            <p:childTnLst>
                              <p:par>
                                <p:cTn id="5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5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8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1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4" dur="5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7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8" fill="hold">
                      <p:stCondLst>
                        <p:cond delay="indefinite"/>
                      </p:stCondLst>
                      <p:childTnLst>
                        <p:par>
                          <p:cTn id="5829" fill="hold">
                            <p:stCondLst>
                              <p:cond delay="0"/>
                            </p:stCondLst>
                            <p:childTnLst>
                              <p:par>
                                <p:cTn id="5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2" dur="5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5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8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9" fill="hold">
                      <p:stCondLst>
                        <p:cond delay="indefinite"/>
                      </p:stCondLst>
                      <p:childTnLst>
                        <p:par>
                          <p:cTn id="5840" fill="hold">
                            <p:stCondLst>
                              <p:cond delay="0"/>
                            </p:stCondLst>
                            <p:childTnLst>
                              <p:par>
                                <p:cTn id="5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3" dur="5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6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9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0" fill="hold">
                      <p:stCondLst>
                        <p:cond delay="indefinite"/>
                      </p:stCondLst>
                      <p:childTnLst>
                        <p:par>
                          <p:cTn id="5851" fill="hold">
                            <p:stCondLst>
                              <p:cond delay="0"/>
                            </p:stCondLst>
                            <p:childTnLst>
                              <p:par>
                                <p:cTn id="5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4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7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1" fill="hold">
                      <p:stCondLst>
                        <p:cond delay="indefinite"/>
                      </p:stCondLst>
                      <p:childTnLst>
                        <p:par>
                          <p:cTn id="5862" fill="hold">
                            <p:stCondLst>
                              <p:cond delay="0"/>
                            </p:stCondLst>
                            <p:childTnLst>
                              <p:par>
                                <p:cTn id="5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5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8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1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2" fill="hold">
                      <p:stCondLst>
                        <p:cond delay="indefinite"/>
                      </p:stCondLst>
                      <p:childTnLst>
                        <p:par>
                          <p:cTn id="5873" fill="hold">
                            <p:stCondLst>
                              <p:cond delay="0"/>
                            </p:stCondLst>
                            <p:childTnLst>
                              <p:par>
                                <p:cTn id="5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6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2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3" fill="hold">
                      <p:stCondLst>
                        <p:cond delay="indefinite"/>
                      </p:stCondLst>
                      <p:childTnLst>
                        <p:par>
                          <p:cTn id="5884" fill="hold">
                            <p:stCondLst>
                              <p:cond delay="0"/>
                            </p:stCondLst>
                            <p:childTnLst>
                              <p:par>
                                <p:cTn id="5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7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3" dur="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4" fill="hold">
                      <p:stCondLst>
                        <p:cond delay="indefinite"/>
                      </p:stCondLst>
                      <p:childTnLst>
                        <p:par>
                          <p:cTn id="5895" fill="hold">
                            <p:stCondLst>
                              <p:cond delay="0"/>
                            </p:stCondLst>
                            <p:childTnLst>
                              <p:par>
                                <p:cTn id="5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1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4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7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8" fill="hold">
                      <p:stCondLst>
                        <p:cond delay="indefinite"/>
                      </p:stCondLst>
                      <p:childTnLst>
                        <p:par>
                          <p:cTn id="5909" fill="hold">
                            <p:stCondLst>
                              <p:cond delay="0"/>
                            </p:stCondLst>
                            <p:childTnLst>
                              <p:par>
                                <p:cTn id="5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2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5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8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1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2" fill="hold">
                      <p:stCondLst>
                        <p:cond delay="indefinite"/>
                      </p:stCondLst>
                      <p:childTnLst>
                        <p:par>
                          <p:cTn id="5923" fill="hold">
                            <p:stCondLst>
                              <p:cond delay="0"/>
                            </p:stCondLst>
                            <p:childTnLst>
                              <p:par>
                                <p:cTn id="5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6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9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2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5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6" fill="hold">
                      <p:stCondLst>
                        <p:cond delay="indefinite"/>
                      </p:stCondLst>
                      <p:childTnLst>
                        <p:par>
                          <p:cTn id="5937" fill="hold">
                            <p:stCondLst>
                              <p:cond delay="0"/>
                            </p:stCondLst>
                            <p:childTnLst>
                              <p:par>
                                <p:cTn id="59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0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3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6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9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0" fill="hold">
                      <p:stCondLst>
                        <p:cond delay="indefinite"/>
                      </p:stCondLst>
                      <p:childTnLst>
                        <p:par>
                          <p:cTn id="5951" fill="hold">
                            <p:stCondLst>
                              <p:cond delay="0"/>
                            </p:stCondLst>
                            <p:childTnLst>
                              <p:par>
                                <p:cTn id="5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4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7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0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3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70000"/>
              </a:lnSpc>
              <a:spcBef>
                <a:spcPts val="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23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Какой метод расчёта деформируемых систем называется мет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мещений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Что принимается за основные неизвестные в методе перемещений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( 17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они обозначаются?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( 2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Признаки расчетных узлов системы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( 17 )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Что такое кинематически неопределимая система (КНС)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( 1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Какая система называется кинематически определимой?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( 1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Что такое степень кинематической неопределимости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?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( 19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 Из чего складываетс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( 19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 По каким формулам можно вычислять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плоских стержневых систе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пространственных систем?   Чему равн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9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 Что такое шарнирная система, как она получается и для чего используется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9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Как при формировании шарнирной системы учитываются элементы, удлин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торых при растяжении (сжатии) нельзя пренебрегать?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9 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1. Какую рабочую гипотезу вводят в МП для стержней, работающих преимуществен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изгиб, и каково следствие применения этой гипотезы (влияние на колич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ых неизвестных)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8 ) ,  ( 20 – 21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. Идея метода перемещений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5 – 16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Как вычисляются усилия в концевых сечен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ержней через их смещения и воздействия, приложенные к данному стержню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7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3. Что такое матрица жёсткости стержня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7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1 – 12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. Что такое основная система метода перемещений (ОСМП)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22 )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20840" y="6237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85680" y="2022480"/>
            <a:ext cx="233712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85680" y="1733400"/>
            <a:ext cx="144720" cy="28908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18040" y="3068640"/>
            <a:ext cx="144360" cy="24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66880" y="2254320"/>
            <a:ext cx="10800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333600" y="2676600"/>
            <a:ext cx="5400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76440" y="3343320"/>
            <a:ext cx="7956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9720" y="1577880"/>
            <a:ext cx="61920" cy="12708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989000" y="20620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59000" y="2452680"/>
            <a:ext cx="3636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06600" y="2490840"/>
            <a:ext cx="3672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63920" y="2556000"/>
            <a:ext cx="1728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14760" y="26337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31760" y="272880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3680" y="2454120"/>
            <a:ext cx="588960" cy="273240"/>
          </a:xfrm>
          <a:custGeom>
            <a:avLst/>
            <a:gdLst/>
            <a:ahLst/>
            <a:rect l="l" t="t" r="r" b="b"/>
            <a:pathLst>
              <a:path w="371" h="172">
                <a:moveTo>
                  <a:pt x="0" y="0"/>
                </a:moveTo>
                <a:cubicBezTo>
                  <a:pt x="15" y="4"/>
                  <a:pt x="59" y="13"/>
                  <a:pt x="91" y="24"/>
                </a:cubicBezTo>
                <a:cubicBezTo>
                  <a:pt x="123" y="35"/>
                  <a:pt x="162" y="49"/>
                  <a:pt x="195" y="64"/>
                </a:cubicBezTo>
                <a:cubicBezTo>
                  <a:pt x="228" y="79"/>
                  <a:pt x="258" y="94"/>
                  <a:pt x="287" y="112"/>
                </a:cubicBezTo>
                <a:cubicBezTo>
                  <a:pt x="316" y="130"/>
                  <a:pt x="354" y="160"/>
                  <a:pt x="371" y="1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2888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920" y="2230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62000" y="2500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28880" y="2565360"/>
            <a:ext cx="287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6814800">
            <a:off x="2480040" y="1372320"/>
            <a:ext cx="214200" cy="113328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2400">
            <a:off x="2160360" y="1469880"/>
            <a:ext cx="109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23840" y="2062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12680" y="2081160"/>
            <a:ext cx="270000" cy="233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23920" y="202896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130400" y="1577880"/>
            <a:ext cx="6120" cy="43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2880" y="1865160"/>
            <a:ext cx="570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6960" y="126828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9560" y="1852560"/>
            <a:ext cx="28836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63" y="20969"/>
                </a:moveTo>
                <a:arcTo wR="10800" hR="10800" stAng="6580890" swAng="14139589"/>
                <a:lnTo>
                  <a:pt x="10800" y="10800"/>
                </a:lnTo>
                <a:close/>
              </a:path>
              <a:path fill="none" w="21600" h="21600">
                <a:moveTo>
                  <a:pt x="7163" y="20969"/>
                </a:moveTo>
                <a:arcTo wR="10800" hR="10800" stAng="6580890" swAng="141395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83816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 rot="16200000">
            <a:off x="1115280" y="1965240"/>
            <a:ext cx="144720" cy="934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97040" y="2470320"/>
            <a:ext cx="865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30654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09040" y="2530440"/>
            <a:ext cx="1800" cy="539640"/>
          </a:xfrm>
          <a:custGeom>
            <a:avLst/>
            <a:gdLst/>
            <a:ahLst/>
            <a:rect l="l" t="t" r="r" b="b"/>
            <a:pathLst>
              <a:path w="5" h="276">
                <a:moveTo>
                  <a:pt x="0" y="276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64000" y="2857680"/>
            <a:ext cx="76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3798000">
            <a:off x="3035880" y="2882880"/>
            <a:ext cx="356400" cy="36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3" y="19217"/>
                </a:moveTo>
                <a:arcTo wR="10800" hR="10800" stAng="7727923" swAng="12992556"/>
                <a:lnTo>
                  <a:pt x="10800" y="10800"/>
                </a:lnTo>
                <a:close/>
              </a:path>
              <a:path fill="none" w="21600" h="21600">
                <a:moveTo>
                  <a:pt x="4033" y="19217"/>
                </a:moveTo>
                <a:arcTo wR="10800" hR="10800" stAng="7727923" swAng="1299255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27480" y="3049560"/>
            <a:ext cx="64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73320" y="2236680"/>
            <a:ext cx="76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65320" y="3195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9480" y="3108240"/>
            <a:ext cx="432000" cy="360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6200000">
            <a:off x="3267000" y="3066120"/>
            <a:ext cx="144360" cy="935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48040" y="3571920"/>
            <a:ext cx="865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7120" y="1700280"/>
            <a:ext cx="1046160" cy="2305080"/>
          </a:xfrm>
          <a:custGeom>
            <a:avLst/>
            <a:gdLst/>
            <a:ahLst/>
            <a:rect l="l" t="t" r="r" b="b"/>
            <a:pathLst>
              <a:path w="453" h="1043">
                <a:moveTo>
                  <a:pt x="0" y="0"/>
                </a:moveTo>
                <a:lnTo>
                  <a:pt x="0" y="1043"/>
                </a:lnTo>
                <a:lnTo>
                  <a:pt x="453" y="104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41360" y="379872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1840" y="13701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2022480"/>
            <a:ext cx="233712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2160" y="1744560"/>
            <a:ext cx="144360" cy="28908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16240" y="3067200"/>
            <a:ext cx="144360" cy="249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66880" y="2254320"/>
            <a:ext cx="10800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335400" y="2668680"/>
            <a:ext cx="5400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6440" y="3343320"/>
            <a:ext cx="79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9080" y="1596960"/>
            <a:ext cx="61920" cy="12708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314440" y="204300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29080" y="2389320"/>
            <a:ext cx="3636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2427120"/>
            <a:ext cx="3636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33640" y="2492280"/>
            <a:ext cx="1764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84480" y="26082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196800" y="2768760"/>
            <a:ext cx="2556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33760" y="2397240"/>
            <a:ext cx="598320" cy="37152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59000" y="1747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2125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59000" y="2519280"/>
            <a:ext cx="287280" cy="289080"/>
          </a:xfrm>
          <a:prstGeom prst="ellipse">
            <a:avLst/>
          </a:prstGeom>
          <a:solidFill>
            <a:srgbClr val="eef8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6814800">
            <a:off x="2818080" y="1372320"/>
            <a:ext cx="214200" cy="113328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412400">
            <a:off x="2491920" y="1469520"/>
            <a:ext cx="1098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0440" y="1719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9640" y="1738440"/>
            <a:ext cx="269640" cy="233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6080" y="16812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22200" y="1234800"/>
            <a:ext cx="648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4120" y="149688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7840" y="92376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1720" y="1504800"/>
            <a:ext cx="28836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63" y="20969"/>
                </a:moveTo>
                <a:arcTo wR="10800" hR="10800" stAng="6580890" swAng="14139589"/>
                <a:lnTo>
                  <a:pt x="10800" y="10800"/>
                </a:lnTo>
                <a:close/>
              </a:path>
              <a:path fill="none" w="21600" h="21600">
                <a:moveTo>
                  <a:pt x="7163" y="20969"/>
                </a:moveTo>
                <a:arcTo wR="10800" hR="10800" stAng="6580890" swAng="141395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6560" y="120348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 rot="16200000">
            <a:off x="1225440" y="1710360"/>
            <a:ext cx="144360" cy="935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6480" y="2216160"/>
            <a:ext cx="895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0280" y="34164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7400" y="2881440"/>
            <a:ext cx="1440" cy="539640"/>
          </a:xfrm>
          <a:custGeom>
            <a:avLst/>
            <a:gdLst/>
            <a:ahLst/>
            <a:rect l="l" t="t" r="r" b="b"/>
            <a:pathLst>
              <a:path w="5" h="276">
                <a:moveTo>
                  <a:pt x="0" y="276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32200" y="3200400"/>
            <a:ext cx="76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002800">
            <a:off x="3306960" y="3201840"/>
            <a:ext cx="356400" cy="36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3" y="19217"/>
                </a:moveTo>
                <a:arcTo wR="10800" hR="10800" stAng="7727923" swAng="12992556"/>
                <a:lnTo>
                  <a:pt x="10800" y="10800"/>
                </a:lnTo>
                <a:close/>
              </a:path>
              <a:path fill="none" w="21600" h="21600">
                <a:moveTo>
                  <a:pt x="4033" y="19217"/>
                </a:moveTo>
                <a:arcTo wR="10800" hR="10800" stAng="7727923" swAng="1299255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3468600"/>
            <a:ext cx="64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48000" y="2587680"/>
            <a:ext cx="76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67120" y="337356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60640" y="3286080"/>
            <a:ext cx="432000" cy="3603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2840" y="1676520"/>
            <a:ext cx="2279520" cy="1752480"/>
          </a:xfrm>
          <a:custGeom>
            <a:avLst/>
            <a:gdLst/>
            <a:ahLst/>
            <a:rect l="l" t="t" r="r" b="b"/>
            <a:pathLst>
              <a:path w="1436" h="1104">
                <a:moveTo>
                  <a:pt x="0" y="0"/>
                </a:moveTo>
                <a:cubicBezTo>
                  <a:pt x="15" y="21"/>
                  <a:pt x="49" y="80"/>
                  <a:pt x="92" y="128"/>
                </a:cubicBezTo>
                <a:cubicBezTo>
                  <a:pt x="135" y="176"/>
                  <a:pt x="191" y="239"/>
                  <a:pt x="256" y="288"/>
                </a:cubicBezTo>
                <a:cubicBezTo>
                  <a:pt x="321" y="337"/>
                  <a:pt x="377" y="383"/>
                  <a:pt x="483" y="424"/>
                </a:cubicBezTo>
                <a:cubicBezTo>
                  <a:pt x="589" y="465"/>
                  <a:pt x="779" y="491"/>
                  <a:pt x="892" y="536"/>
                </a:cubicBezTo>
                <a:cubicBezTo>
                  <a:pt x="1005" y="581"/>
                  <a:pt x="1090" y="635"/>
                  <a:pt x="1163" y="696"/>
                </a:cubicBezTo>
                <a:cubicBezTo>
                  <a:pt x="1236" y="757"/>
                  <a:pt x="1283" y="836"/>
                  <a:pt x="1328" y="904"/>
                </a:cubicBezTo>
                <a:cubicBezTo>
                  <a:pt x="1373" y="972"/>
                  <a:pt x="1413" y="1062"/>
                  <a:pt x="1436" y="110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492360" y="3284640"/>
            <a:ext cx="20340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692160" y="3192480"/>
            <a:ext cx="142920" cy="96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92480" y="2454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450960" y="3422520"/>
            <a:ext cx="42840" cy="29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422160" y="3738600"/>
            <a:ext cx="25560" cy="165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985680" y="1681200"/>
            <a:ext cx="23364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225080" y="1471680"/>
            <a:ext cx="42840" cy="21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820440" y="1798560"/>
            <a:ext cx="142920" cy="7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271520" y="1312920"/>
            <a:ext cx="3672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6200000">
            <a:off x="3680640" y="3430440"/>
            <a:ext cx="144720" cy="934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62400" y="3935520"/>
            <a:ext cx="895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63560" y="247968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66800" y="2476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2637000"/>
            <a:ext cx="1150920" cy="863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7400" y="28414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7120" y="1700280"/>
            <a:ext cx="1046160" cy="2305080"/>
          </a:xfrm>
          <a:custGeom>
            <a:avLst/>
            <a:gdLst/>
            <a:ahLst/>
            <a:rect l="l" t="t" r="r" b="b"/>
            <a:pathLst>
              <a:path w="453" h="1043">
                <a:moveTo>
                  <a:pt x="0" y="0"/>
                </a:moveTo>
                <a:lnTo>
                  <a:pt x="0" y="1043"/>
                </a:lnTo>
                <a:lnTo>
                  <a:pt x="453" y="104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1360" y="379872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1840" y="13701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85680" y="2022480"/>
            <a:ext cx="233712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1738440"/>
            <a:ext cx="144360" cy="28872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16240" y="3067200"/>
            <a:ext cx="144360" cy="249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73000" y="2244600"/>
            <a:ext cx="108000" cy="14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335400" y="2668680"/>
            <a:ext cx="5400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9080" y="1590840"/>
            <a:ext cx="61920" cy="12672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346480" y="205596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54280" y="2408400"/>
            <a:ext cx="3636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01880" y="2446200"/>
            <a:ext cx="3672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59200" y="2511360"/>
            <a:ext cx="1728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10040" y="26272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22720" y="2787480"/>
            <a:ext cx="252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58960" y="2416320"/>
            <a:ext cx="598680" cy="37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9068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97200" y="21448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7160" y="2519280"/>
            <a:ext cx="287280" cy="289080"/>
          </a:xfrm>
          <a:prstGeom prst="ellipse">
            <a:avLst/>
          </a:prstGeom>
          <a:solidFill>
            <a:srgbClr val="eef8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6814800">
            <a:off x="2818080" y="1372320"/>
            <a:ext cx="214200" cy="113328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412400">
            <a:off x="2491920" y="1469520"/>
            <a:ext cx="1098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90440" y="16430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9640" y="1662120"/>
            <a:ext cx="269640" cy="233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6080" y="16048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222200" y="1158840"/>
            <a:ext cx="6480" cy="43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63840" y="140652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77840" y="84780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1720" y="1428840"/>
            <a:ext cx="28836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63" y="20969"/>
                </a:moveTo>
                <a:arcTo wR="10800" hR="10800" stAng="6580890" swAng="14139589"/>
                <a:lnTo>
                  <a:pt x="10800" y="10800"/>
                </a:lnTo>
                <a:close/>
              </a:path>
              <a:path fill="none" w="21600" h="21600">
                <a:moveTo>
                  <a:pt x="7163" y="20969"/>
                </a:moveTo>
                <a:arcTo wR="10800" hR="10800" stAng="6580890" swAng="141395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6560" y="112716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 rot="16200000">
            <a:off x="1225440" y="1715040"/>
            <a:ext cx="144360" cy="935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6480" y="2217600"/>
            <a:ext cx="895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05040" y="3429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602160" y="2894040"/>
            <a:ext cx="1440" cy="539640"/>
          </a:xfrm>
          <a:custGeom>
            <a:avLst/>
            <a:gdLst/>
            <a:ahLst/>
            <a:rect l="l" t="t" r="r" b="b"/>
            <a:pathLst>
              <a:path w="5" h="276">
                <a:moveTo>
                  <a:pt x="0" y="276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36960" y="3213000"/>
            <a:ext cx="76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002800">
            <a:off x="3437640" y="3208320"/>
            <a:ext cx="356040" cy="36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3" y="19217"/>
                </a:moveTo>
                <a:arcTo wR="10800" hR="10800" stAng="7727923" swAng="12992556"/>
                <a:lnTo>
                  <a:pt x="10800" y="10800"/>
                </a:lnTo>
                <a:close/>
              </a:path>
              <a:path fill="none" w="21600" h="21600">
                <a:moveTo>
                  <a:pt x="4033" y="19217"/>
                </a:moveTo>
                <a:arcTo wR="10800" hR="10800" stAng="7727923" swAng="1299255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24400" y="3481560"/>
            <a:ext cx="64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19640" y="2600280"/>
            <a:ext cx="76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3197160"/>
            <a:ext cx="432000" cy="360360"/>
          </a:xfrm>
          <a:prstGeom prst="triangle">
            <a:avLst>
              <a:gd name="adj" fmla="val 50000"/>
            </a:avLst>
          </a:prstGeom>
          <a:solidFill>
            <a:srgbClr val="eb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25440" y="1619280"/>
            <a:ext cx="2374920" cy="1809720"/>
          </a:xfrm>
          <a:custGeom>
            <a:avLst/>
            <a:gdLst/>
            <a:ahLst/>
            <a:rect l="l" t="t" r="r" b="b"/>
            <a:pathLst>
              <a:path w="1496" h="1140">
                <a:moveTo>
                  <a:pt x="0" y="0"/>
                </a:moveTo>
                <a:cubicBezTo>
                  <a:pt x="18" y="27"/>
                  <a:pt x="63" y="111"/>
                  <a:pt x="108" y="164"/>
                </a:cubicBezTo>
                <a:cubicBezTo>
                  <a:pt x="153" y="217"/>
                  <a:pt x="203" y="273"/>
                  <a:pt x="268" y="320"/>
                </a:cubicBezTo>
                <a:cubicBezTo>
                  <a:pt x="333" y="367"/>
                  <a:pt x="393" y="405"/>
                  <a:pt x="496" y="448"/>
                </a:cubicBezTo>
                <a:cubicBezTo>
                  <a:pt x="599" y="491"/>
                  <a:pt x="768" y="529"/>
                  <a:pt x="884" y="580"/>
                </a:cubicBezTo>
                <a:cubicBezTo>
                  <a:pt x="1000" y="631"/>
                  <a:pt x="1109" y="693"/>
                  <a:pt x="1192" y="756"/>
                </a:cubicBezTo>
                <a:cubicBezTo>
                  <a:pt x="1275" y="819"/>
                  <a:pt x="1333" y="896"/>
                  <a:pt x="1384" y="960"/>
                </a:cubicBezTo>
                <a:cubicBezTo>
                  <a:pt x="1435" y="1024"/>
                  <a:pt x="1473" y="1103"/>
                  <a:pt x="1496" y="11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597120" y="3297240"/>
            <a:ext cx="20340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796920" y="3205080"/>
            <a:ext cx="142920" cy="96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30280" y="2454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555720" y="3435480"/>
            <a:ext cx="428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526920" y="3751200"/>
            <a:ext cx="25560" cy="1652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85680" y="1604880"/>
            <a:ext cx="23364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225080" y="1395360"/>
            <a:ext cx="42840" cy="219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20440" y="172260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71520" y="1236600"/>
            <a:ext cx="3672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 rot="16200000">
            <a:off x="3680640" y="3430440"/>
            <a:ext cx="144720" cy="934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62400" y="3935520"/>
            <a:ext cx="895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63560" y="247968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66800" y="2481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8480" y="328464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2637000"/>
            <a:ext cx="1150920" cy="863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87400" y="28414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58880" y="2919240"/>
            <a:ext cx="395280" cy="39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79400" y="29113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2600" y="3463920"/>
            <a:ext cx="1141200" cy="469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6880" y="3538440"/>
            <a:ext cx="100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7120" y="1700280"/>
            <a:ext cx="1046160" cy="2305080"/>
          </a:xfrm>
          <a:custGeom>
            <a:avLst/>
            <a:gdLst/>
            <a:ahLst/>
            <a:rect l="l" t="t" r="r" b="b"/>
            <a:pathLst>
              <a:path w="453" h="1043">
                <a:moveTo>
                  <a:pt x="0" y="0"/>
                </a:moveTo>
                <a:lnTo>
                  <a:pt x="0" y="1043"/>
                </a:lnTo>
                <a:lnTo>
                  <a:pt x="453" y="104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41360" y="379872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840" y="13701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85680" y="2022480"/>
            <a:ext cx="2337120" cy="1054080"/>
          </a:xfrm>
          <a:custGeom>
            <a:avLst/>
            <a:gdLst/>
            <a:ahLst/>
            <a:rect l="l" t="t" r="r" b="b"/>
            <a:pathLst>
              <a:path w="1472" h="664">
                <a:moveTo>
                  <a:pt x="0" y="136"/>
                </a:moveTo>
                <a:lnTo>
                  <a:pt x="91" y="0"/>
                </a:lnTo>
                <a:lnTo>
                  <a:pt x="1408" y="664"/>
                </a:lnTo>
                <a:lnTo>
                  <a:pt x="1472" y="5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2160" y="1738440"/>
            <a:ext cx="144360" cy="288720"/>
          </a:xfrm>
          <a:custGeom>
            <a:avLst/>
            <a:gdLst/>
            <a:ahLst/>
            <a:rect l="l" t="t" r="r" b="b"/>
            <a:pathLst>
              <a:path w="115" h="180">
                <a:moveTo>
                  <a:pt x="0" y="0"/>
                </a:moveTo>
                <a:lnTo>
                  <a:pt x="115" y="18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16240" y="3067200"/>
            <a:ext cx="144360" cy="249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73000" y="2244600"/>
            <a:ext cx="108000" cy="14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335400" y="2668680"/>
            <a:ext cx="5400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9080" y="1577880"/>
            <a:ext cx="61920" cy="127080"/>
          </a:xfrm>
          <a:custGeom>
            <a:avLst/>
            <a:gdLst/>
            <a:ahLst/>
            <a:rect l="l" t="t" r="r" b="b"/>
            <a:pathLst>
              <a:path w="56" h="82">
                <a:moveTo>
                  <a:pt x="0" y="0"/>
                </a:moveTo>
                <a:lnTo>
                  <a:pt x="56" y="82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371680" y="205596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242712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4480" y="2465280"/>
            <a:ext cx="3672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530440"/>
            <a:ext cx="1764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22640" y="2646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34960" y="2806560"/>
            <a:ext cx="2556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71920" y="2435400"/>
            <a:ext cx="598320" cy="37116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1624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09800" y="2163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97160" y="2519280"/>
            <a:ext cx="287280" cy="289080"/>
          </a:xfrm>
          <a:prstGeom prst="ellipse">
            <a:avLst/>
          </a:prstGeom>
          <a:solidFill>
            <a:srgbClr val="eef8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6814800">
            <a:off x="2818080" y="1372320"/>
            <a:ext cx="214200" cy="113328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412400">
            <a:off x="2491920" y="1469520"/>
            <a:ext cx="1098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96920" y="16304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5760" y="1649520"/>
            <a:ext cx="270000" cy="233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22200" y="159228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28680" y="1145880"/>
            <a:ext cx="6480" cy="43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69960" y="139392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84320" y="83520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77840" y="1415880"/>
            <a:ext cx="288720" cy="29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163" y="20969"/>
                </a:moveTo>
                <a:arcTo wR="10800" hR="10800" stAng="6580890" swAng="14139589"/>
                <a:lnTo>
                  <a:pt x="10800" y="10800"/>
                </a:lnTo>
                <a:close/>
              </a:path>
              <a:path fill="none" w="21600" h="21600">
                <a:moveTo>
                  <a:pt x="7163" y="20969"/>
                </a:moveTo>
                <a:arcTo wR="10800" hR="10800" stAng="6580890" swAng="14139589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3040" y="1114560"/>
            <a:ext cx="56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 rot="16200000">
            <a:off x="1225440" y="1715040"/>
            <a:ext cx="144360" cy="935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06480" y="2217600"/>
            <a:ext cx="895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91000" y="34704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587760" y="2935440"/>
            <a:ext cx="1440" cy="539640"/>
          </a:xfrm>
          <a:custGeom>
            <a:avLst/>
            <a:gdLst/>
            <a:ahLst/>
            <a:rect l="l" t="t" r="r" b="b"/>
            <a:pathLst>
              <a:path w="5" h="276">
                <a:moveTo>
                  <a:pt x="0" y="276"/>
                </a:moveTo>
                <a:lnTo>
                  <a:pt x="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22560" y="3254400"/>
            <a:ext cx="76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,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002800">
            <a:off x="3422880" y="3249360"/>
            <a:ext cx="356040" cy="36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3" y="19217"/>
                </a:moveTo>
                <a:arcTo wR="10800" hR="10800" stAng="7727923" swAng="12992556"/>
                <a:lnTo>
                  <a:pt x="10800" y="10800"/>
                </a:lnTo>
                <a:close/>
              </a:path>
              <a:path fill="none" w="21600" h="21600">
                <a:moveTo>
                  <a:pt x="4033" y="19217"/>
                </a:moveTo>
                <a:arcTo wR="10800" hR="10800" stAng="7727923" swAng="1299255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10000" y="3522600"/>
            <a:ext cx="64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30440" y="2629080"/>
            <a:ext cx="76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,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19400" y="3252960"/>
            <a:ext cx="432000" cy="360360"/>
          </a:xfrm>
          <a:prstGeom prst="triangle">
            <a:avLst>
              <a:gd name="adj" fmla="val 50000"/>
            </a:avLst>
          </a:prstGeom>
          <a:solidFill>
            <a:srgbClr val="eb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38400" y="1600200"/>
            <a:ext cx="234936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583080" y="3338640"/>
            <a:ext cx="203040" cy="14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782520" y="3246480"/>
            <a:ext cx="142920" cy="96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30280" y="2454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541320" y="3476520"/>
            <a:ext cx="42840" cy="29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513240" y="3792600"/>
            <a:ext cx="25200" cy="164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992160" y="1592280"/>
            <a:ext cx="23328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31560" y="1382760"/>
            <a:ext cx="42840" cy="21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826560" y="1709640"/>
            <a:ext cx="142920" cy="7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277640" y="1224000"/>
            <a:ext cx="3636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 rot="16200000">
            <a:off x="3680640" y="3430440"/>
            <a:ext cx="144720" cy="934920"/>
          </a:xfrm>
          <a:custGeom>
            <a:avLst/>
            <a:gdLst>
              <a:gd name="textAreaLeft" fmla="*/ 92520 w 144720"/>
              <a:gd name="textAreaRight" fmla="*/ 145080 w 144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48000" y="3976560"/>
            <a:ext cx="8953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злов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63560" y="247968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66800" y="2481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25880" y="3340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2637000"/>
            <a:ext cx="1150920" cy="863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87400" y="28414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58880" y="2919240"/>
            <a:ext cx="395280" cy="39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9400" y="29113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11440" y="333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51080" y="292428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59000" y="287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66760" y="252720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08720" y="1595520"/>
            <a:ext cx="234936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50040" y="2014560"/>
            <a:ext cx="2087280" cy="10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24720" y="3086280"/>
            <a:ext cx="9349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460840" y="1125000"/>
            <a:ext cx="443160" cy="8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40320" y="200196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91240" y="305424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454720" y="160956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24720" y="3094200"/>
            <a:ext cx="324000" cy="3776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70560" y="1662120"/>
            <a:ext cx="162000" cy="334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5324040" y="1947960"/>
            <a:ext cx="11916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330880" y="1595520"/>
            <a:ext cx="17928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514840" y="1589040"/>
            <a:ext cx="12564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24720" y="3081240"/>
            <a:ext cx="420840" cy="227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424280" y="308772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24640" y="3238560"/>
            <a:ext cx="420840" cy="22680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7859880" y="3309840"/>
            <a:ext cx="71280" cy="1447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00560" y="13921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32880" y="32068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00960" y="2541600"/>
            <a:ext cx="287280" cy="289080"/>
          </a:xfrm>
          <a:prstGeom prst="ellipse">
            <a:avLst/>
          </a:prstGeom>
          <a:solidFill>
            <a:srgbClr val="eef8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34080" y="2476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76920" y="205884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21480" y="1763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61320" y="2446200"/>
            <a:ext cx="3636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08920" y="2484360"/>
            <a:ext cx="3636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265880" y="2549520"/>
            <a:ext cx="1764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16720" y="266544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7539120" y="2825640"/>
            <a:ext cx="252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6000" y="2454120"/>
            <a:ext cx="598320" cy="37152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04240" y="2182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9800" y="33987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78360" y="8240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49800" y="18637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694480" y="13748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20167800">
            <a:off x="3071520" y="1904760"/>
            <a:ext cx="2160360" cy="360360"/>
          </a:xfrm>
          <a:custGeom>
            <a:avLst/>
            <a:gdLst>
              <a:gd name="textAreaLeft" fmla="*/ 492840 w 2160360"/>
              <a:gd name="textAreaRight" fmla="*/ 1582560 w 2160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58" hR="21600" stAng="10800000" swAng="5400000"/>
                <a:lnTo>
                  <a:pt x="10893" y="0"/>
                </a:lnTo>
                <a:arcTo wR="9858" hR="21600" stAng="-5400000" swAng="2638734"/>
                <a:lnTo>
                  <a:pt x="20654" y="12365"/>
                </a:lnTo>
                <a:lnTo>
                  <a:pt x="20234" y="21600"/>
                </a:lnTo>
                <a:lnTo>
                  <a:pt x="17921" y="12365"/>
                </a:lnTo>
                <a:lnTo>
                  <a:pt x="18770" y="12365"/>
                </a:lnTo>
                <a:arcTo wR="9858" hR="21600" stAng="-2761266" swAng="-2556274"/>
                <a:lnTo>
                  <a:pt x="10376" y="30"/>
                </a:lnTo>
                <a:arcTo wR="9858" hR="21600" stAng="-5482461" swAng="-5317539"/>
                <a:close/>
              </a:path>
              <a:path fill="darkenLess" w="21600" h="21600">
                <a:moveTo>
                  <a:pt x="0" y="21600"/>
                </a:moveTo>
                <a:arcTo wR="9858" hR="21600" stAng="10800000" swAng="5400000"/>
                <a:lnTo>
                  <a:pt x="9858" y="0"/>
                </a:lnTo>
                <a:arcTo wR="9858" hR="21600" stAng="-5400000" swAng="82461"/>
                <a:lnTo>
                  <a:pt x="10376" y="30"/>
                </a:lnTo>
                <a:arcTo wR="9858" hR="21600" stAng="-5482461" swAng="-531753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638320" y="1601640"/>
            <a:ext cx="12564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605560" y="1634760"/>
            <a:ext cx="37296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5521320" y="1620360"/>
            <a:ext cx="216000" cy="4510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21480" y="1803240"/>
            <a:ext cx="209520" cy="2224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808600" y="17604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53400" y="29973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191360" y="31003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056440" y="36194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7859880" y="3466800"/>
            <a:ext cx="37296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7849800" y="345276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020080" y="3638520"/>
            <a:ext cx="17928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69080" y="817560"/>
            <a:ext cx="18432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ектор перемещ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нцевых сеч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эле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4360" y="1144440"/>
                <a:ext cx="165564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flipH="1" flipV="1">
            <a:off x="5219640" y="1196640"/>
            <a:ext cx="287280" cy="398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506920" y="1341360"/>
            <a:ext cx="289080" cy="241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451640" y="3479760"/>
            <a:ext cx="411120" cy="236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850160" y="3473280"/>
            <a:ext cx="244440" cy="460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2262200">
            <a:off x="7653960" y="3311640"/>
            <a:ext cx="360000" cy="37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0250"/>
                </a:moveTo>
                <a:arcTo wR="10800" hR="10800" stAng="-10624828" swAng="10861621"/>
                <a:lnTo>
                  <a:pt x="10800" y="10800"/>
                </a:lnTo>
                <a:close/>
              </a:path>
              <a:path fill="none" w="21600" h="21600">
                <a:moveTo>
                  <a:pt x="14" y="10250"/>
                </a:moveTo>
                <a:arcTo wR="10800" hR="10800" stAng="-10624828" swAng="10861621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9983600">
            <a:off x="5246280" y="1319040"/>
            <a:ext cx="396720" cy="4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59400" y="100476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32440" y="91296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21120" y="122076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72280" y="355932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07400" y="385272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93120" y="3624120"/>
            <a:ext cx="56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859280" y="2637000"/>
            <a:ext cx="18432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ектор уси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 концевых сеч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(концевых усили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эле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398920" y="3017880"/>
                <a:ext cx="1638360" cy="15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 flipV="1">
            <a:off x="2338560" y="3677760"/>
            <a:ext cx="442800" cy="89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24160" y="454824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338560" y="4156200"/>
            <a:ext cx="5364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16080" y="40165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1951200" y="3905280"/>
            <a:ext cx="449280" cy="23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384280" y="3873240"/>
            <a:ext cx="14616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7520000">
            <a:off x="2113560" y="3904920"/>
            <a:ext cx="433440" cy="4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846440" y="4213080"/>
                <a:ext cx="399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685880" y="3808440"/>
                <a:ext cx="365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386080" y="3579840"/>
                <a:ext cx="328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340000" y="4567320"/>
            <a:ext cx="2087640" cy="107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16480" y="5638680"/>
            <a:ext cx="93492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83000" y="5607000"/>
            <a:ext cx="36720" cy="36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16480" y="5646600"/>
            <a:ext cx="323640" cy="37800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95840" y="57405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38640" y="5094360"/>
            <a:ext cx="287280" cy="288720"/>
          </a:xfrm>
          <a:prstGeom prst="ellipse">
            <a:avLst/>
          </a:prstGeom>
          <a:solidFill>
            <a:srgbClr val="d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68520" y="5029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568680" y="463068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2720" y="4998960"/>
            <a:ext cx="36720" cy="14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00680" y="503712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57640" y="5102280"/>
            <a:ext cx="1764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08480" y="521820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430880" y="5378400"/>
            <a:ext cx="252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57760" y="5006880"/>
            <a:ext cx="598320" cy="37152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95640" y="4735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81560" y="59515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560840" y="6032520"/>
            <a:ext cx="193680" cy="38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741920" y="6021360"/>
            <a:ext cx="466560" cy="24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1881800">
            <a:off x="4561200" y="5807520"/>
            <a:ext cx="394920" cy="43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8" y="13401"/>
                </a:moveTo>
                <a:arcTo wR="10800" hR="10800" stAng="9963777" swAng="11873016"/>
                <a:lnTo>
                  <a:pt x="10800" y="10800"/>
                </a:lnTo>
                <a:close/>
              </a:path>
              <a:path fill="none" w="21600" h="21600">
                <a:moveTo>
                  <a:pt x="318" y="13401"/>
                </a:moveTo>
                <a:arcTo wR="10800" hR="10800" stAng="9963777" swAng="11873016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4816440"/>
            <a:ext cx="1944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ариант предст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концевых усил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025640" y="4888080"/>
                <a:ext cx="1638360" cy="16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149720" y="5884920"/>
                <a:ext cx="382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335480" y="6278400"/>
                <a:ext cx="328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5021280" y="6261120"/>
                <a:ext cx="365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2398680" y="4148280"/>
            <a:ext cx="2349360" cy="187308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13240" y="4335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652840" y="336384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2600" y="4195800"/>
            <a:ext cx="1511640" cy="1104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56000" y="4170240"/>
            <a:ext cx="16542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ля линей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еформируе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истем (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Л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602240" y="4786200"/>
                <a:ext cx="1135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5927760" y="4581360"/>
            <a:ext cx="2952720" cy="20163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50000">
                <a:srgbClr val="ccffff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21200" y="4608360"/>
            <a:ext cx="3168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авила зна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</a:t>
            </a:r>
            <a:r>
              <a:rPr b="0" i="1" lang="en-US" sz="1800" spc="-1" strike="noStrike">
                <a:solidFill>
                  <a:srgbClr val="333399"/>
                </a:solidFill>
                <a:latin typeface="Arial Black"/>
              </a:rPr>
              <a:t>концевы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99"/>
                </a:solidFill>
                <a:latin typeface="Arial Black"/>
              </a:rPr>
              <a:t>усили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99"/>
                </a:solidFill>
                <a:latin typeface="Arial Black"/>
              </a:rPr>
              <a:t>и перемещени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жительными считаются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80240" y="5483160"/>
            <a:ext cx="3012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по ходу часовой стрел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927760" y="57992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сдвиг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 часовой стрелк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0360" y="6154560"/>
            <a:ext cx="309564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u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по внешней норма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 сеч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7120" y="1700280"/>
            <a:ext cx="1046160" cy="2305080"/>
          </a:xfrm>
          <a:custGeom>
            <a:avLst/>
            <a:gdLst/>
            <a:ahLst/>
            <a:rect l="l" t="t" r="r" b="b"/>
            <a:pathLst>
              <a:path w="453" h="1043">
                <a:moveTo>
                  <a:pt x="0" y="0"/>
                </a:moveTo>
                <a:lnTo>
                  <a:pt x="0" y="1043"/>
                </a:lnTo>
                <a:lnTo>
                  <a:pt x="453" y="104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41360" y="3798720"/>
            <a:ext cx="3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1840" y="13701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2600" y="3463920"/>
            <a:ext cx="1141200" cy="469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880" y="3538440"/>
            <a:ext cx="100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63560" y="336240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9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9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55600" y="1608120"/>
            <a:ext cx="2349720" cy="187344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19" y="28"/>
                  <a:pt x="73" y="116"/>
                  <a:pt x="116" y="168"/>
                </a:cubicBezTo>
                <a:cubicBezTo>
                  <a:pt x="159" y="220"/>
                  <a:pt x="197" y="265"/>
                  <a:pt x="260" y="312"/>
                </a:cubicBezTo>
                <a:cubicBezTo>
                  <a:pt x="323" y="359"/>
                  <a:pt x="391" y="403"/>
                  <a:pt x="496" y="452"/>
                </a:cubicBezTo>
                <a:cubicBezTo>
                  <a:pt x="601" y="501"/>
                  <a:pt x="778" y="557"/>
                  <a:pt x="888" y="608"/>
                </a:cubicBezTo>
                <a:cubicBezTo>
                  <a:pt x="998" y="659"/>
                  <a:pt x="1080" y="703"/>
                  <a:pt x="1156" y="760"/>
                </a:cubicBezTo>
                <a:cubicBezTo>
                  <a:pt x="1232" y="817"/>
                  <a:pt x="1290" y="878"/>
                  <a:pt x="1344" y="948"/>
                </a:cubicBezTo>
                <a:cubicBezTo>
                  <a:pt x="1398" y="1018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96920" y="2027160"/>
            <a:ext cx="2087640" cy="10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71960" y="3098880"/>
            <a:ext cx="93492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108080" y="1138320"/>
            <a:ext cx="442800" cy="89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87560" y="201456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38480" y="3067200"/>
            <a:ext cx="3636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101600" y="162252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71960" y="3106800"/>
            <a:ext cx="323640" cy="37764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117440" y="1674360"/>
            <a:ext cx="162000" cy="335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971640" y="1960560"/>
            <a:ext cx="11880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977400" y="1608120"/>
            <a:ext cx="17964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62080" y="1601640"/>
            <a:ext cx="12528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71960" y="3094200"/>
            <a:ext cx="420480" cy="226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071520" y="3100320"/>
            <a:ext cx="73080" cy="154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071880" y="3251160"/>
            <a:ext cx="420480" cy="2271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506400" y="3322800"/>
            <a:ext cx="71640" cy="144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47800" y="14050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79760" y="321948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247840" y="2554200"/>
            <a:ext cx="287280" cy="289080"/>
          </a:xfrm>
          <a:prstGeom prst="ellipse">
            <a:avLst/>
          </a:prstGeom>
          <a:solidFill>
            <a:srgbClr val="eef8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68360" y="24764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324160" y="2071800"/>
            <a:ext cx="7776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68360" y="17762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08200" y="2459160"/>
            <a:ext cx="3672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55800" y="2496960"/>
            <a:ext cx="3672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13120" y="2562120"/>
            <a:ext cx="1728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63960" y="267804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185640" y="2838600"/>
            <a:ext cx="25560" cy="14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12880" y="2467080"/>
            <a:ext cx="598680" cy="371520"/>
          </a:xfrm>
          <a:custGeom>
            <a:avLst/>
            <a:gdLst/>
            <a:ahLst/>
            <a:rect l="l" t="t" r="r" b="b"/>
            <a:pathLst>
              <a:path w="377" h="234">
                <a:moveTo>
                  <a:pt x="0" y="0"/>
                </a:moveTo>
                <a:cubicBezTo>
                  <a:pt x="16" y="4"/>
                  <a:pt x="66" y="12"/>
                  <a:pt x="97" y="22"/>
                </a:cubicBezTo>
                <a:cubicBezTo>
                  <a:pt x="128" y="32"/>
                  <a:pt x="158" y="41"/>
                  <a:pt x="189" y="58"/>
                </a:cubicBezTo>
                <a:cubicBezTo>
                  <a:pt x="220" y="75"/>
                  <a:pt x="250" y="97"/>
                  <a:pt x="281" y="126"/>
                </a:cubicBezTo>
                <a:cubicBezTo>
                  <a:pt x="312" y="155"/>
                  <a:pt x="357" y="212"/>
                  <a:pt x="377" y="23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51120" y="2195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37040" y="34113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25600" y="8366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7040" y="18763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41360" y="13874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285920" y="1614600"/>
            <a:ext cx="125280" cy="54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1252080" y="1647360"/>
            <a:ext cx="37332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168200" y="1633680"/>
            <a:ext cx="215640" cy="450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68360" y="1816200"/>
            <a:ext cx="209520" cy="22212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55840" y="17733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00280" y="300996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38600" y="31129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03680" y="363204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506760" y="3479400"/>
            <a:ext cx="37296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497040" y="346536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66960" y="3651120"/>
            <a:ext cx="179640" cy="17964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866880" y="1209240"/>
            <a:ext cx="287280" cy="398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154160" y="1353600"/>
            <a:ext cx="288720" cy="2415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098880" y="3492360"/>
            <a:ext cx="411120" cy="236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97400" y="3486240"/>
            <a:ext cx="244440" cy="460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2262200">
            <a:off x="3300840" y="3324240"/>
            <a:ext cx="360000" cy="37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0250"/>
                </a:moveTo>
                <a:arcTo wR="10800" hR="10800" stAng="-10624828" swAng="10861621"/>
                <a:lnTo>
                  <a:pt x="10800" y="10800"/>
                </a:lnTo>
                <a:close/>
              </a:path>
              <a:path fill="none" w="21600" h="21600">
                <a:moveTo>
                  <a:pt x="14" y="10250"/>
                </a:moveTo>
                <a:arcTo wR="10800" hR="10800" stAng="-10624828" swAng="10861621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9983600">
            <a:off x="893520" y="1332000"/>
            <a:ext cx="396360" cy="4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06640" y="1017720"/>
            <a:ext cx="56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9320" y="92556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8360" y="123336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3571920"/>
            <a:ext cx="56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54280" y="386568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0" y="363708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6814800">
            <a:off x="2824200" y="140688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412400">
            <a:off x="2377800" y="1372680"/>
            <a:ext cx="14317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3880" y="2259000"/>
            <a:ext cx="1150920" cy="863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71640" y="24638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24040" y="28274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319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8720" y="3376440"/>
            <a:ext cx="2349360" cy="1873440"/>
          </a:xfrm>
          <a:custGeom>
            <a:avLst/>
            <a:gdLst/>
            <a:ahLst/>
            <a:rect l="l" t="t" r="r" b="b"/>
            <a:pathLst>
              <a:path w="1480" h="1180">
                <a:moveTo>
                  <a:pt x="0" y="0"/>
                </a:moveTo>
                <a:cubicBezTo>
                  <a:pt x="20" y="30"/>
                  <a:pt x="62" y="124"/>
                  <a:pt x="118" y="181"/>
                </a:cubicBezTo>
                <a:cubicBezTo>
                  <a:pt x="174" y="238"/>
                  <a:pt x="256" y="300"/>
                  <a:pt x="338" y="345"/>
                </a:cubicBezTo>
                <a:cubicBezTo>
                  <a:pt x="420" y="390"/>
                  <a:pt x="513" y="416"/>
                  <a:pt x="610" y="449"/>
                </a:cubicBezTo>
                <a:cubicBezTo>
                  <a:pt x="707" y="482"/>
                  <a:pt x="825" y="496"/>
                  <a:pt x="922" y="545"/>
                </a:cubicBezTo>
                <a:cubicBezTo>
                  <a:pt x="1019" y="594"/>
                  <a:pt x="1124" y="678"/>
                  <a:pt x="1194" y="745"/>
                </a:cubicBezTo>
                <a:cubicBezTo>
                  <a:pt x="1264" y="812"/>
                  <a:pt x="1296" y="875"/>
                  <a:pt x="1344" y="948"/>
                </a:cubicBezTo>
                <a:cubicBezTo>
                  <a:pt x="1392" y="1021"/>
                  <a:pt x="1452" y="1132"/>
                  <a:pt x="1480" y="11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450040" y="3795840"/>
            <a:ext cx="2087280" cy="107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531200" y="4886280"/>
            <a:ext cx="93492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460840" y="2900520"/>
            <a:ext cx="443160" cy="89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40320" y="377676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97720" y="4854600"/>
            <a:ext cx="36720" cy="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54720" y="3384720"/>
            <a:ext cx="54000" cy="39528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31200" y="4894200"/>
            <a:ext cx="323640" cy="378000"/>
          </a:xfrm>
          <a:prstGeom prst="line">
            <a:avLst/>
          </a:prstGeom>
          <a:ln w="19080">
            <a:solidFill>
              <a:srgbClr val="333399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470560" y="3436560"/>
            <a:ext cx="162000" cy="3351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5324040" y="3722760"/>
            <a:ext cx="119160" cy="61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5330880" y="3370320"/>
            <a:ext cx="179280" cy="360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514840" y="3363840"/>
            <a:ext cx="125640" cy="6192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31200" y="4881600"/>
            <a:ext cx="420480" cy="226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430760" y="4888080"/>
            <a:ext cx="73080" cy="153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31120" y="5038560"/>
            <a:ext cx="420480" cy="2271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7865640" y="5110200"/>
            <a:ext cx="71640" cy="144360"/>
          </a:xfrm>
          <a:prstGeom prst="line">
            <a:avLst/>
          </a:prstGeom>
          <a:ln w="64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00560" y="31669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9000" y="500688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156360" y="4179960"/>
            <a:ext cx="287280" cy="288720"/>
          </a:xfrm>
          <a:prstGeom prst="ellipse">
            <a:avLst/>
          </a:prstGeom>
          <a:solidFill>
            <a:srgbClr val="e1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81560" y="4102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289560" y="1819440"/>
            <a:ext cx="77760" cy="37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234120" y="1517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37240" y="2205000"/>
            <a:ext cx="36720" cy="14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691320" y="2247840"/>
            <a:ext cx="3636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67360" y="2287440"/>
            <a:ext cx="17640" cy="19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24680" y="23511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7147080" y="2419200"/>
            <a:ext cx="2520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39040" y="2197080"/>
            <a:ext cx="633240" cy="228600"/>
          </a:xfrm>
          <a:custGeom>
            <a:avLst/>
            <a:gdLst/>
            <a:ahLst/>
            <a:rect l="l" t="t" r="r" b="b"/>
            <a:pathLst>
              <a:path w="399" h="144">
                <a:moveTo>
                  <a:pt x="0" y="0"/>
                </a:moveTo>
                <a:cubicBezTo>
                  <a:pt x="15" y="5"/>
                  <a:pt x="57" y="18"/>
                  <a:pt x="92" y="28"/>
                </a:cubicBezTo>
                <a:cubicBezTo>
                  <a:pt x="127" y="38"/>
                  <a:pt x="173" y="49"/>
                  <a:pt x="208" y="60"/>
                </a:cubicBezTo>
                <a:cubicBezTo>
                  <a:pt x="243" y="71"/>
                  <a:pt x="272" y="78"/>
                  <a:pt x="304" y="92"/>
                </a:cubicBezTo>
                <a:cubicBezTo>
                  <a:pt x="336" y="106"/>
                  <a:pt x="379" y="133"/>
                  <a:pt x="399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38840" y="1938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96280" y="51991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778360" y="259704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149800" y="36385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43720" y="319572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38680" y="3395520"/>
            <a:ext cx="90720" cy="3672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5605560" y="3409560"/>
            <a:ext cx="37296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5521320" y="3395160"/>
            <a:ext cx="216000" cy="4510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21480" y="3578400"/>
            <a:ext cx="209520" cy="22212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08600" y="35352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b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859880" y="4797360"/>
            <a:ext cx="448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u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97840" y="490068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Book Antiqua"/>
              </a:rPr>
              <a:t>v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062920" y="5419800"/>
            <a:ext cx="449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7866000" y="5266800"/>
            <a:ext cx="372960" cy="18900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856280" y="5253120"/>
            <a:ext cx="198360" cy="39528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026560" y="5438880"/>
            <a:ext cx="179280" cy="179280"/>
          </a:xfrm>
          <a:custGeom>
            <a:avLst/>
            <a:gdLst/>
            <a:ahLst/>
            <a:rect l="l" t="t" r="r" b="b"/>
            <a:pathLst>
              <a:path w="132" h="140">
                <a:moveTo>
                  <a:pt x="0" y="140"/>
                </a:moveTo>
                <a:cubicBezTo>
                  <a:pt x="9" y="133"/>
                  <a:pt x="43" y="115"/>
                  <a:pt x="60" y="100"/>
                </a:cubicBezTo>
                <a:cubicBezTo>
                  <a:pt x="77" y="85"/>
                  <a:pt x="92" y="69"/>
                  <a:pt x="104" y="52"/>
                </a:cubicBezTo>
                <a:cubicBezTo>
                  <a:pt x="116" y="35"/>
                  <a:pt x="126" y="11"/>
                  <a:pt x="132" y="0"/>
                </a:cubicBezTo>
              </a:path>
            </a:pathLst>
          </a:custGeom>
          <a:noFill/>
          <a:ln w="6480">
            <a:solidFill>
              <a:srgbClr val="333399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5219640" y="2971440"/>
            <a:ext cx="287280" cy="398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513400" y="3179880"/>
            <a:ext cx="252360" cy="1792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458120" y="5280120"/>
            <a:ext cx="411120" cy="2365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56640" y="5273640"/>
            <a:ext cx="244440" cy="460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2262200">
            <a:off x="7660080" y="5111640"/>
            <a:ext cx="360000" cy="37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0250"/>
                </a:moveTo>
                <a:arcTo wR="10800" hR="10800" stAng="-10624828" swAng="10861621"/>
                <a:lnTo>
                  <a:pt x="10800" y="10800"/>
                </a:lnTo>
                <a:close/>
              </a:path>
              <a:path fill="none" w="21600" h="21600">
                <a:moveTo>
                  <a:pt x="14" y="10250"/>
                </a:moveTo>
                <a:arcTo wR="10800" hR="10800" stAng="-10624828" swAng="10861621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9983600">
            <a:off x="5246280" y="3093840"/>
            <a:ext cx="396720" cy="4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64" y="8426"/>
                </a:moveTo>
                <a:arcTo wR="10800" hR="10800" stAng="-10038120" swAng="10274913"/>
                <a:lnTo>
                  <a:pt x="10800" y="10800"/>
                </a:lnTo>
                <a:close/>
              </a:path>
              <a:path fill="none" w="21600" h="21600">
                <a:moveTo>
                  <a:pt x="264" y="8426"/>
                </a:moveTo>
                <a:arcTo wR="10800" hR="10800" stAng="-10038120" swAng="10274913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88000" y="300348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75120" y="263700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94400" y="3027240"/>
            <a:ext cx="711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8405400">
            <a:off x="6821280" y="1383840"/>
            <a:ext cx="214200" cy="1133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967440" y="1727280"/>
            <a:ext cx="17766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неузловые нагруз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67160" y="1871640"/>
            <a:ext cx="963720" cy="577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35720" y="193500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10240" y="4548240"/>
            <a:ext cx="395280" cy="3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18160" y="4483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56160" y="1628640"/>
            <a:ext cx="2087640" cy="10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50040" y="1628640"/>
            <a:ext cx="2085840" cy="1082880"/>
          </a:xfrm>
          <a:custGeom>
            <a:avLst/>
            <a:gdLst/>
            <a:ahLst/>
            <a:rect l="l" t="t" r="r" b="b"/>
            <a:pathLst>
              <a:path w="1314" h="682">
                <a:moveTo>
                  <a:pt x="0" y="0"/>
                </a:moveTo>
                <a:cubicBezTo>
                  <a:pt x="19" y="12"/>
                  <a:pt x="64" y="38"/>
                  <a:pt x="118" y="74"/>
                </a:cubicBezTo>
                <a:cubicBezTo>
                  <a:pt x="172" y="110"/>
                  <a:pt x="252" y="168"/>
                  <a:pt x="322" y="218"/>
                </a:cubicBezTo>
                <a:cubicBezTo>
                  <a:pt x="392" y="268"/>
                  <a:pt x="473" y="332"/>
                  <a:pt x="538" y="374"/>
                </a:cubicBezTo>
                <a:cubicBezTo>
                  <a:pt x="603" y="416"/>
                  <a:pt x="655" y="442"/>
                  <a:pt x="714" y="470"/>
                </a:cubicBezTo>
                <a:cubicBezTo>
                  <a:pt x="773" y="498"/>
                  <a:pt x="825" y="519"/>
                  <a:pt x="890" y="542"/>
                </a:cubicBezTo>
                <a:cubicBezTo>
                  <a:pt x="955" y="565"/>
                  <a:pt x="1045" y="588"/>
                  <a:pt x="1102" y="606"/>
                </a:cubicBezTo>
                <a:cubicBezTo>
                  <a:pt x="1159" y="624"/>
                  <a:pt x="1199" y="637"/>
                  <a:pt x="1234" y="650"/>
                </a:cubicBezTo>
                <a:cubicBezTo>
                  <a:pt x="1269" y="663"/>
                  <a:pt x="1297" y="675"/>
                  <a:pt x="1314" y="68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5070240" y="1404720"/>
            <a:ext cx="360360" cy="2156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418000" y="1353600"/>
            <a:ext cx="149400" cy="2732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50280" y="2719440"/>
            <a:ext cx="293400" cy="15876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7400880" y="2708280"/>
            <a:ext cx="169920" cy="34920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16200000">
            <a:off x="5265360" y="1401840"/>
            <a:ext cx="375480" cy="40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0" y="4815"/>
                </a:moveTo>
                <a:arcTo wR="10800" hR="10800" stAng="-8780632" swAng="9017425"/>
                <a:lnTo>
                  <a:pt x="10800" y="10800"/>
                </a:lnTo>
                <a:close/>
              </a:path>
              <a:path fill="none" w="21600" h="21600">
                <a:moveTo>
                  <a:pt x="1810" y="4815"/>
                </a:moveTo>
                <a:arcTo wR="10800" hR="10800" stAng="-8780632" swAng="9017425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5682600">
            <a:off x="7363080" y="2553840"/>
            <a:ext cx="360000" cy="37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3" y="11872"/>
                </a:moveTo>
                <a:arcTo wR="10800" hR="10800" stAng="10458286" swAng="11378507"/>
                <a:lnTo>
                  <a:pt x="10800" y="10800"/>
                </a:lnTo>
                <a:close/>
              </a:path>
              <a:path fill="none" w="21600" h="21600">
                <a:moveTo>
                  <a:pt x="53" y="11872"/>
                </a:moveTo>
                <a:arcTo wR="10800" hR="10800" stAng="10458286" swAng="11378507"/>
              </a:path>
            </a:pathLst>
          </a:custGeom>
          <a:noFill/>
          <a:ln w="38160">
            <a:solidFill>
              <a:srgbClr val="99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05320" y="157968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250040" y="25495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73920" y="527364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924680" y="5659560"/>
            <a:ext cx="56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493040" y="5407200"/>
            <a:ext cx="63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8320" y="1052640"/>
            <a:ext cx="704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F+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86320" y="1049400"/>
            <a:ext cx="704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F+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714920" y="16160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b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F+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99440" y="22478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F+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740720" y="27176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F+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24840" y="299736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ej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</a:t>
            </a:r>
            <a:r>
              <a:rPr b="1" i="1" lang="en-US" sz="1600" spc="-1" strike="noStrike" baseline="-25000">
                <a:solidFill>
                  <a:srgbClr val="990000"/>
                </a:solidFill>
                <a:latin typeface="Times New Roman"/>
              </a:rPr>
              <a:t>F+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6240600" y="4870440"/>
                <a:ext cx="936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∈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6156360" y="2303640"/>
            <a:ext cx="287280" cy="288720"/>
          </a:xfrm>
          <a:prstGeom prst="ellipse">
            <a:avLst/>
          </a:prstGeom>
          <a:solidFill>
            <a:srgbClr val="eef8d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76880" y="2225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2712960"/>
            <a:ext cx="505080" cy="5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306600"/>
            <a:ext cx="504720" cy="5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443640" y="31719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262560" y="2571840"/>
            <a:ext cx="836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00720" y="2558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00840" y="912960"/>
            <a:ext cx="2879640" cy="604800"/>
          </a:xfrm>
          <a:prstGeom prst="rect">
            <a:avLst/>
          </a:prstGeom>
          <a:solidFill>
            <a:srgbClr val="fbd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оздействия, непосредственно приложенные к элементу – силовые и температур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70760" y="3449520"/>
            <a:ext cx="1800360" cy="81288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инемат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оздействи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м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онцевых сеч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468680" y="981000"/>
            <a:ext cx="289080" cy="4032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930480" y="2712960"/>
            <a:ext cx="505080" cy="5050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24360" y="25844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187280" y="4149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нцевые усил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68600" y="4487760"/>
            <a:ext cx="194472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331920" y="4449600"/>
                <a:ext cx="41544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,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,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2690640" y="4941720"/>
            <a:ext cx="144720" cy="287640"/>
          </a:xfrm>
          <a:prstGeom prst="upArrow">
            <a:avLst>
              <a:gd name="adj1" fmla="val 55880"/>
              <a:gd name="adj2" fmla="val 71239"/>
            </a:avLst>
          </a:prstGeom>
          <a:solidFill>
            <a:srgbClr val="fbd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419640" y="4941720"/>
            <a:ext cx="144360" cy="287640"/>
          </a:xfrm>
          <a:prstGeom prst="upArrow">
            <a:avLst>
              <a:gd name="adj1" fmla="val 55880"/>
              <a:gd name="adj2" fmla="val 71417"/>
            </a:avLst>
          </a:prstGeom>
          <a:solidFill>
            <a:srgbClr val="fbdd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71760" y="5207040"/>
            <a:ext cx="13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тандартные (таблич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67280" y="4941720"/>
            <a:ext cx="144360" cy="287640"/>
          </a:xfrm>
          <a:prstGeom prst="upArrow">
            <a:avLst>
              <a:gd name="adj1" fmla="val 55880"/>
              <a:gd name="adj2" fmla="val 71417"/>
            </a:avLst>
          </a:prstGeom>
          <a:solidFill>
            <a:srgbClr val="bf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965400" y="5241960"/>
            <a:ext cx="1830600" cy="431640"/>
          </a:xfrm>
          <a:prstGeom prst="rect">
            <a:avLst/>
          </a:prstGeom>
          <a:solidFill>
            <a:srgbClr val="b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3957480" y="5211720"/>
                <a:ext cx="18259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8" name=""/>
          <p:cNvSpPr/>
          <p:nvPr/>
        </p:nvSpPr>
        <p:spPr>
          <a:xfrm>
            <a:off x="3792600" y="5627520"/>
            <a:ext cx="22320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Дискретная (матрич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пись закона Гу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= C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75120" y="6200640"/>
            <a:ext cx="477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атр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жёсткости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о элемент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(стандартна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5080" y="5776920"/>
            <a:ext cx="3387600" cy="846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Матрица жёсткости элемен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это матрица, выражающая линей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ависимость его концевых усилий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т перемещений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нцевых сечений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2440" y="3122640"/>
            <a:ext cx="1141200" cy="469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6720" y="3178080"/>
            <a:ext cx="100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меще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вя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9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9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9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9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44720" y="83664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меры стандартных (табличных) данных метода перемещ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82800" y="178128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11160" y="1638360"/>
            <a:ext cx="7164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52880" y="1638360"/>
            <a:ext cx="7128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82800" y="1638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52880" y="1638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898720" y="16905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20880" y="172404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82800" y="19987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43160" y="19987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82800" y="2359080"/>
            <a:ext cx="21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950760" y="231732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108240" y="232524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919160" y="2185920"/>
            <a:ext cx="312840" cy="361440"/>
          </a:xfrm>
          <a:prstGeom prst="rect">
            <a:avLst/>
          </a:prstGeom>
          <a:solidFill>
            <a:srgbClr val="f7f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062080" y="1413000"/>
            <a:ext cx="99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EA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0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9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ЁТ ДЕФОРМИРУЕМЫХ СИСТЕМ МЕТОДОМ ПЕРЕМЕЩЕНИЙ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11280" y="620640"/>
            <a:ext cx="4321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Идея метода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2800" y="1781280"/>
            <a:ext cx="2160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11160" y="1638360"/>
            <a:ext cx="7164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152880" y="1638360"/>
            <a:ext cx="7128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82800" y="1638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52880" y="16383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8720" y="169056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20880" y="172404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82800" y="19987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43160" y="19987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82800" y="2359080"/>
            <a:ext cx="21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950760" y="231732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108240" y="232524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062080" y="1413000"/>
            <a:ext cx="99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EA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630440" y="1419120"/>
            <a:ext cx="228600" cy="43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01840" y="1131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82800" y="1778040"/>
            <a:ext cx="2165040" cy="95040"/>
          </a:xfrm>
          <a:custGeom>
            <a:avLst/>
            <a:gdLst/>
            <a:ahLst/>
            <a:rect l="l" t="t" r="r" b="b"/>
            <a:pathLst>
              <a:path w="1364" h="60">
                <a:moveTo>
                  <a:pt x="0" y="0"/>
                </a:moveTo>
                <a:cubicBezTo>
                  <a:pt x="17" y="1"/>
                  <a:pt x="62" y="1"/>
                  <a:pt x="104" y="5"/>
                </a:cubicBezTo>
                <a:cubicBezTo>
                  <a:pt x="146" y="9"/>
                  <a:pt x="195" y="17"/>
                  <a:pt x="252" y="25"/>
                </a:cubicBezTo>
                <a:cubicBezTo>
                  <a:pt x="309" y="33"/>
                  <a:pt x="383" y="46"/>
                  <a:pt x="444" y="52"/>
                </a:cubicBezTo>
                <a:cubicBezTo>
                  <a:pt x="505" y="58"/>
                  <a:pt x="561" y="60"/>
                  <a:pt x="616" y="60"/>
                </a:cubicBezTo>
                <a:cubicBezTo>
                  <a:pt x="671" y="60"/>
                  <a:pt x="721" y="56"/>
                  <a:pt x="776" y="52"/>
                </a:cubicBezTo>
                <a:cubicBezTo>
                  <a:pt x="831" y="48"/>
                  <a:pt x="889" y="40"/>
                  <a:pt x="948" y="34"/>
                </a:cubicBezTo>
                <a:cubicBezTo>
                  <a:pt x="1007" y="28"/>
                  <a:pt x="1078" y="19"/>
                  <a:pt x="1132" y="14"/>
                </a:cubicBezTo>
                <a:cubicBezTo>
                  <a:pt x="1186" y="9"/>
                  <a:pt x="1233" y="5"/>
                  <a:pt x="1272" y="2"/>
                </a:cubicBezTo>
                <a:cubicBezTo>
                  <a:pt x="1311" y="0"/>
                  <a:pt x="1345" y="1"/>
                  <a:pt x="136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81000" y="2165400"/>
            <a:ext cx="2160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949320" y="2123640"/>
            <a:ext cx="712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106800" y="2131560"/>
            <a:ext cx="712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19160" y="2185920"/>
            <a:ext cx="312840" cy="361440"/>
          </a:xfrm>
          <a:prstGeom prst="rect">
            <a:avLst/>
          </a:prstGeom>
          <a:solidFill>
            <a:srgbClr val="f7f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859040" y="1876320"/>
            <a:ext cx="0" cy="351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822320" y="213336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187280" y="1987560"/>
            <a:ext cx="432000" cy="370800"/>
          </a:xfrm>
          <a:prstGeom prst="rect">
            <a:avLst/>
          </a:prstGeom>
          <a:solidFill>
            <a:srgbClr val="f7f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59040" y="1417680"/>
            <a:ext cx="12600" cy="4381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617840" y="1878120"/>
            <a:ext cx="25236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30440" y="1419120"/>
            <a:ext cx="216000" cy="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617840" y="1413000"/>
            <a:ext cx="0" cy="431640"/>
          </a:xfrm>
          <a:prstGeom prst="line">
            <a:avLst/>
          </a:prstGeom>
          <a:ln w="93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703520" y="112536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08040" y="182556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82800" y="2494080"/>
            <a:ext cx="2160360" cy="503280"/>
          </a:xfrm>
          <a:custGeom>
            <a:avLst/>
            <a:gdLst/>
            <a:ahLst/>
            <a:rect l="l" t="t" r="r" b="b"/>
            <a:pathLst>
              <a:path w="1361" h="317">
                <a:moveTo>
                  <a:pt x="0" y="181"/>
                </a:moveTo>
                <a:lnTo>
                  <a:pt x="1361" y="181"/>
                </a:lnTo>
                <a:lnTo>
                  <a:pt x="1361" y="90"/>
                </a:lnTo>
                <a:lnTo>
                  <a:pt x="544" y="317"/>
                </a:lnTo>
                <a:lnTo>
                  <a:pt x="0" y="0"/>
                </a:lnTo>
                <a:lnTo>
                  <a:pt x="0" y="18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846440" y="278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76320" y="3295800"/>
            <a:ext cx="2166840" cy="349200"/>
          </a:xfrm>
          <a:custGeom>
            <a:avLst/>
            <a:gdLst/>
            <a:ahLst/>
            <a:rect l="l" t="t" r="r" b="b"/>
            <a:pathLst>
              <a:path w="1365" h="220">
                <a:moveTo>
                  <a:pt x="4" y="129"/>
                </a:moveTo>
                <a:lnTo>
                  <a:pt x="1365" y="129"/>
                </a:lnTo>
                <a:lnTo>
                  <a:pt x="1365" y="220"/>
                </a:lnTo>
                <a:lnTo>
                  <a:pt x="548" y="220"/>
                </a:lnTo>
                <a:lnTo>
                  <a:pt x="544" y="0"/>
                </a:lnTo>
                <a:lnTo>
                  <a:pt x="0" y="0"/>
                </a:lnTo>
                <a:lnTo>
                  <a:pt x="4" y="12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82800" y="3897360"/>
            <a:ext cx="2160360" cy="323640"/>
          </a:xfrm>
          <a:custGeom>
            <a:avLst/>
            <a:gdLst/>
            <a:ahLst/>
            <a:rect l="l" t="t" r="r" b="b"/>
            <a:pathLst>
              <a:path w="1361" h="204">
                <a:moveTo>
                  <a:pt x="0" y="113"/>
                </a:moveTo>
                <a:lnTo>
                  <a:pt x="1361" y="113"/>
                </a:lnTo>
                <a:lnTo>
                  <a:pt x="1361" y="204"/>
                </a:lnTo>
                <a:lnTo>
                  <a:pt x="544" y="204"/>
                </a:lnTo>
                <a:lnTo>
                  <a:pt x="540" y="0"/>
                </a:lnTo>
                <a:lnTo>
                  <a:pt x="0" y="0"/>
                </a:lnTo>
                <a:lnTo>
                  <a:pt x="0" y="11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332000" y="3322800"/>
            <a:ext cx="142920" cy="14436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32000" y="3911760"/>
            <a:ext cx="142920" cy="14436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08400" y="3500280"/>
            <a:ext cx="142560" cy="14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11280" y="4076640"/>
            <a:ext cx="14292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30360" y="357336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30360" y="41497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06880" y="278136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03640" y="335772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03640" y="3933720"/>
            <a:ext cx="503280" cy="43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78080" y="278748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92480" y="336240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197160" y="3944880"/>
            <a:ext cx="60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266920" y="1989000"/>
            <a:ext cx="504720" cy="370800"/>
          </a:xfrm>
          <a:prstGeom prst="rect">
            <a:avLst/>
          </a:prstGeom>
          <a:solidFill>
            <a:srgbClr val="f7f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79280" y="1881360"/>
            <a:ext cx="863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1944720" y="2911320"/>
                <a:ext cx="7891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2ξ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1847880" y="2997360"/>
            <a:ext cx="108000" cy="5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7000" y="2376360"/>
                <a:ext cx="695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119400" y="2397240"/>
                <a:ext cx="6955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340000" y="4176720"/>
                <a:ext cx="411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116000" y="3611520"/>
                <a:ext cx="4111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824040" y="2987640"/>
                <a:ext cx="1058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ξ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04840" y="3625920"/>
                <a:ext cx="10749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887400" y="4678200"/>
            <a:ext cx="2316240" cy="3621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971640" y="4876920"/>
            <a:ext cx="21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00000" y="4734000"/>
            <a:ext cx="71640" cy="287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141720" y="4734000"/>
            <a:ext cx="71280" cy="287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71640" y="4734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41720" y="4734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881440" y="478620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09720" y="481968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71640" y="4848120"/>
            <a:ext cx="0" cy="43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132000" y="4848120"/>
            <a:ext cx="0" cy="43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971640" y="5208480"/>
            <a:ext cx="21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939960" y="5167440"/>
            <a:ext cx="71280" cy="72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097080" y="517500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08000" y="5035680"/>
            <a:ext cx="312840" cy="361440"/>
          </a:xfrm>
          <a:prstGeom prst="rect">
            <a:avLst/>
          </a:prstGeom>
          <a:solidFill>
            <a:srgbClr val="d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050920" y="4527720"/>
            <a:ext cx="998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EA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77840" y="4508640"/>
            <a:ext cx="1008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71640" y="5594400"/>
            <a:ext cx="2160360" cy="217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971640" y="6026040"/>
            <a:ext cx="2160360" cy="179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79640" y="6040440"/>
            <a:ext cx="14292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98720" y="61135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68320" y="5818320"/>
            <a:ext cx="23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197160" y="5924520"/>
            <a:ext cx="503280" cy="43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91040" y="5935680"/>
            <a:ext cx="59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97160" y="5484960"/>
            <a:ext cx="503280" cy="43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191040" y="5495760"/>
            <a:ext cx="59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11040" y="6035760"/>
                <a:ext cx="1060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58920" y="5186520"/>
                <a:ext cx="104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684360" y="4756320"/>
            <a:ext cx="142560" cy="21744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7360" y="4870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724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9640" y="47563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9640" y="497196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93640" y="4756320"/>
            <a:ext cx="0" cy="217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57280" y="472428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0800" y="493380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99880" y="4633920"/>
            <a:ext cx="3603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140360" y="1200240"/>
                <a:ext cx="443232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j,</m:t>
                                </m:r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3881520" y="2919240"/>
                <a:ext cx="49197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,</m:t>
                        </m:r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,j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,j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,j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,j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,j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,j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6678720" y="2541600"/>
            <a:ext cx="936360" cy="3708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,j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i,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76720" y="39402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05440" y="3797280"/>
            <a:ext cx="71280" cy="287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622840" y="3797280"/>
            <a:ext cx="71640" cy="287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76720" y="37972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622840" y="37972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56080" y="3571920"/>
            <a:ext cx="3589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52960" y="3592440"/>
            <a:ext cx="35856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176720" y="3921120"/>
            <a:ext cx="0" cy="32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622840" y="3921120"/>
            <a:ext cx="0" cy="32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176720" y="416412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145040" y="4122360"/>
            <a:ext cx="712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587920" y="413028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57760" y="3990960"/>
            <a:ext cx="312840" cy="361440"/>
          </a:xfrm>
          <a:prstGeom prst="rect">
            <a:avLst/>
          </a:prstGeom>
          <a:solidFill>
            <a:srgbClr val="d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435560" y="3597120"/>
            <a:ext cx="99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EA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3914640" y="3133800"/>
                <a:ext cx="4919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,</m:t>
                            </m:r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j</m:t>
                            </m:r>
                          </m:sub>
                        </m:s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j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j</m:t>
                            </m:r>
                          </m:sub>
                        </m:s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j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j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1044720" y="83664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меры стандартных (табличных) данных метода перемещ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16200000">
            <a:off x="-492480" y="3439080"/>
            <a:ext cx="2050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Решение – метод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ачальных парамет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или методом с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0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5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920"/>
                            </p:stCondLst>
                            <p:childTnLst>
                              <p:par>
                                <p:cTn id="1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2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9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4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9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9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9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9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9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5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9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9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9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9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9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9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9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9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9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2-10T13:45:49Z</dcterms:modified>
  <cp:revision>176</cp:revision>
  <dc:subject/>
  <dc:title>Слайд 1</dc:title>
</cp:coreProperties>
</file>